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631-1DBD-465A-B9FF-A536102EAA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24E-23ED-4786-8798-684BA9B84E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596-B5BF-45D4-A9EA-F473B72C11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7A34-C69E-4CED-8BA6-24D3712828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B77-1CE0-4F1E-9F36-463F8548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EF6-B1B9-4B75-A81E-B89C767C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121-270A-4E30-9AAE-CB07E53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90D-B46A-4D78-B25B-F84C8AAA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104-58D0-4AB9-AE30-FB53F004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19D1-EF0D-4A3F-82F8-66C46FF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F97F-D6C8-4CAD-B4BB-79853505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7391-7DF8-4B5F-99B8-B3BB4CED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FBBA-F448-47BD-9852-BAB612E4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3420-D5DD-4F07-994D-05664649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5C91-3B12-444C-894A-88DB4618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B6A-1E26-4580-AC52-6E5E560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409D-69B8-465C-B19F-927F21A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D2AA-8181-4444-8402-22723C7A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BE80-10A1-47B6-AD32-F50C6137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B988-98C8-4BA4-B97E-9ED68EDB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9811-28AA-4975-A911-8963957F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DC1F-436E-48CB-909F-C4BFE602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AB04-26F8-408A-951F-2872B7D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6BA9-0D41-4956-9B1C-F0AFC1A1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B780-0300-4CDF-87EE-E1526533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A2E5-76A9-4374-9A70-4CBC5BE3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219-2E43-4955-A013-D22DEB5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F19F-B5C5-471E-A0A1-31A75F5E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52A3-5D61-4F9B-BFDE-CAF5C8FE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B5E9-A997-4B19-88AD-CABF882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64F3-795C-4D6C-BCE5-A896B77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61EA-33E5-4EA6-A23E-30E8B91C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8715-6A8C-4496-87FA-EF8FBF86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5584-3298-4D90-89BF-8899E0E1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8B20-9C9B-49F4-95F3-9EEA341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20F5-C2DC-487B-96F8-B1A6F3B8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E095-105B-412B-93EB-E2E80D3E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DFC-8A57-4F6E-AF9F-4F48D831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10AF-6306-44FB-9933-DD94901F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8F5C-F4DC-4BA0-8405-AD29E61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7CE8-A291-493D-9936-2A16D8D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6D4B-52C6-45CA-A2E6-AFAD8677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831B-99FC-43A4-BA2A-DAB40DC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5622-CA33-4254-BD8E-248D2BEF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D74E-A280-4028-9CB1-F01F609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B0F1-D3E0-43F0-9A48-E1D34783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9622-05C8-41E4-8EE6-0738A9DA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C9CD-2F69-46E6-B70D-E2E2CA29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2E6-3452-49E3-9419-BCE67441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4B24D-2F76-48EF-B412-88C343D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E810E-234B-4BD3-8D85-5CB459FD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397D-B25E-4C40-B175-05FD02A6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C47E-4CB2-4D07-8F06-507BE55C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A999-4F5E-4CC6-9A8C-0D0A00B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80F1C-915C-4070-92F8-1D28EC2C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8709-03A8-4ABE-A48F-CAC0198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917E-44C6-4633-A1F8-7A69163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7845C-8A17-43F9-BFF6-953A06CB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336A-5D58-4342-90FE-B3452077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51F-A8C5-4A92-9079-2B29160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0ED6D-5BC5-44AA-84B7-5E191B49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7180A-FDA6-402D-9312-125846C5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92AB-0AF0-4EE8-BA33-88D1346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9510-6BDC-4769-ADC9-F7AA5EBF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AD5A-E96C-4F9C-8E72-783A114E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C8A3-CBD5-4C62-B5A3-3974D018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A18F-D8C3-48AB-B5E2-5A5737E0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93CE3-782C-42EB-9B2E-BE3464AB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01204-E5D8-4A66-BFD0-86FFA052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252E2-CCB3-4808-A3A6-A720178E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9C1-FA93-4496-84D5-3345AF1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8B15-BA6C-4709-A1F8-FDAF86E5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00E5D-E24A-4752-B42B-069E21DC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E57D-3364-47DD-A261-B0072A78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7CDB2-E2C3-44AD-A4E6-62D3BBBD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39DCA-DC62-445D-8B25-3D7ACA30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733E1-5734-4BCA-B56A-E7D469C7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22205-6DDA-4659-9941-0DC95E2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D267-3A02-46D5-9871-8D7AE077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2D90-54B9-41D7-9795-E99AAA1A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DD11F-E376-4303-A93B-06ABB01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299-D94F-4D69-82D5-DE1E70DD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CD176-B95E-4619-B062-D8F8F36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EA0F-23C2-48C3-B00A-377796A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E461-47F1-41E0-A613-53ABD098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1A75-A357-4889-A199-5D1EAA4E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13358-5532-4B81-B7F8-1DD2BA69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D3EE-6819-4838-A1C7-CE94E044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17D7-0E48-4762-B8B0-F44C2FB3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C2D8C-6F33-453C-A934-4DF68B0C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03B2D-8F1E-4FFF-AA19-47F895FA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6CAA6-4F43-49FE-BA9D-80C1069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32E-A726-48A1-A674-2F95AFD2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22E8E-7FD9-417F-AB77-285A7B05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40AA-272A-4ACC-8D13-8244980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996AE-EF5D-43EA-900C-DCCEAF0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3E523-BF48-4B3F-8E7A-31ABACBE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EC60-722E-45E8-A929-A37D408E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7385C-FBBD-42CB-A0AA-F381E10C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A9FB4-AAF6-4A91-B23A-07C33593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48E8-CE4E-44DD-960A-C2BA4F2B0A2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3565-F6FE-4C59-9E37-4B27B1CA6D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2C36-0CC9-4119-B97E-66FBBEED12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4479-09B5-4779-A325-A5765DFA02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A5A-1CBC-4975-AA95-99C0EF8FC0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25F-A811-41DE-B01E-51B8A121EA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F95-37D1-49EC-A563-2105E0FDD2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BBA1-605A-4A81-9283-5F8E9BED3A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71400" y="357120"/>
            <a:ext cx="68864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b37cd"/>
                </a:solidFill>
                <a:latin typeface="Corbel"/>
              </a:rPr>
              <a:t>«Моя профессиональная траектория»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285560" y="4785840"/>
            <a:ext cx="7429320" cy="17146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еловек выбирает дел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ил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         </a:t>
            </a: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дело выбирает  человек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5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6151680" y="2011320"/>
            <a:ext cx="28638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640640" cy="150012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то  несет  большую моральную ответственность?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285560" y="2214720"/>
            <a:ext cx="749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курор – потому что … /продолжите/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двокат – потому что … /продолжите/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удья – потому что /продолжите/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___________________________________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Какие  ещё  профессии  связанны с высокой моральной ответственностью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Picture 2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7321680" y="706320"/>
            <a:ext cx="18288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может помешать тебе  стать пожарным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571760"/>
            <a:ext cx="70660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ишний ве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изкий рос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лохое зрен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рах пред огне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оязнь высот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олезни органов дыха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Замедленные реакци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олезни сердц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ихий голо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лабая мускулатур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       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БСУДИМ…?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9" name="Picture 4" descr="C:\Documents and Settings\Макс\Рабочий стол\рисунок Пожарный.gif"/>
          <p:cNvPicPr/>
          <p:nvPr/>
        </p:nvPicPr>
        <p:blipFill>
          <a:blip r:embed="rId1"/>
          <a:stretch/>
        </p:blipFill>
        <p:spPr>
          <a:xfrm>
            <a:off x="7162920" y="1000080"/>
            <a:ext cx="1841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5113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Имеет ли шанс  летчик – флегматик успеть отреагировать и принять меры для спасения  самолета за время = 2 секунды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71360" y="3357720"/>
            <a:ext cx="786276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потому что флегматик…/продолжи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потому что флегматик…/продолжи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2" descr="C:\Program Files\Microsoft Office\MEDIA\CAGCAT10\j0233070.wmf"/>
          <p:cNvPicPr/>
          <p:nvPr/>
        </p:nvPicPr>
        <p:blipFill>
          <a:blip r:embed="rId1"/>
          <a:stretch/>
        </p:blipFill>
        <p:spPr>
          <a:xfrm>
            <a:off x="3071880" y="5052960"/>
            <a:ext cx="30002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498080" cy="1440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Призвание – Профессионал, есть ли связь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142640" y="1643040"/>
            <a:ext cx="7791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извание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- высший уровень профессиональной пригодност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фессионал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– человек  достигший высокого уровня профессионального мастерств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пособност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 – возможность достижения высокого уровня мастерства в том или ином деле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фессиональная  пригодность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– формируемое качество (самим человеком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1" lang="ru-RU" sz="2900" spc="-1" strike="noStrike">
                <a:solidFill>
                  <a:srgbClr val="000000"/>
                </a:solidFill>
                <a:latin typeface="Corbel"/>
              </a:rPr>
              <a:t>Чтобы стать профессионалом  надо…?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2" descr="C:\Documents and Settings\Макс\Рабочий стол\рис. профессионал.gif"/>
          <p:cNvPicPr/>
          <p:nvPr/>
        </p:nvPicPr>
        <p:blipFill>
          <a:blip r:embed="rId1"/>
          <a:stretch/>
        </p:blipFill>
        <p:spPr>
          <a:xfrm>
            <a:off x="7083360" y="512640"/>
            <a:ext cx="20606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56840" y="213840"/>
            <a:ext cx="7497720" cy="17859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Важна ли красота внешняя при поступлении в театральное училище?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3920" y="2214720"/>
            <a:ext cx="77202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жна, все актеры красив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жна, чтобы  понравиться  комисс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 важна там принимают по бла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важна , важны актёрские способнос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 как думаешь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…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2" descr="C:\Documents and Settings\Макс\Рабочий стол\актёр.gif"/>
          <p:cNvPicPr/>
          <p:nvPr/>
        </p:nvPicPr>
        <p:blipFill>
          <a:blip r:embed="rId1"/>
          <a:stretch/>
        </p:blipFill>
        <p:spPr>
          <a:xfrm>
            <a:off x="7139160" y="78120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C:\Documents and Settings\Макс\Рабочий стол\Актер.gif"/>
          <p:cNvPicPr/>
          <p:nvPr/>
        </p:nvPicPr>
        <p:blipFill>
          <a:blip r:embed="rId2"/>
          <a:stretch/>
        </p:blipFill>
        <p:spPr>
          <a:xfrm>
            <a:off x="1816200" y="4816440"/>
            <a:ext cx="14396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128592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Можно ли самому себя воспитывать, кому это нужно?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3920" y="1928880"/>
            <a:ext cx="77202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воспитание  не нужно, воспитанием занимаются родители и учител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воспитание нужно, так как  позволяет  человеку  сформировать и укрепить его личные ценные качества, преодолеть свои недостат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ырази свое мнение , приведи пример       своего самовоспит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Picture 2" descr="C:\Documents and Settings\Макс\Рабочий стол\ремень.gif"/>
          <p:cNvPicPr/>
          <p:nvPr/>
        </p:nvPicPr>
        <p:blipFill>
          <a:blip r:embed="rId1"/>
          <a:stretch/>
        </p:blipFill>
        <p:spPr>
          <a:xfrm>
            <a:off x="7639200" y="633240"/>
            <a:ext cx="1511280" cy="15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13840"/>
            <a:ext cx="7499520" cy="13575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аковы критерии выбора между ПТУ  и Университетом?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57176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рок обуч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оимость обуч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личие и размер стипенд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требованность  профессии на рынке труд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естижность  учебного завед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елание  родителе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нение и советы друзе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бственные способности и потреб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5" name="Picture 2" descr="C:\Documents and Settings\Макс\Рабочий стол\Университет.gif"/>
          <p:cNvPicPr/>
          <p:nvPr/>
        </p:nvPicPr>
        <p:blipFill>
          <a:blip r:embed="rId1"/>
          <a:stretch/>
        </p:blipFill>
        <p:spPr>
          <a:xfrm>
            <a:off x="7211880" y="1427040"/>
            <a:ext cx="19386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920" y="213840"/>
            <a:ext cx="7648560" cy="7858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922223"/>
                </a:solidFill>
                <a:latin typeface="Corbel"/>
              </a:rPr>
              <a:t>План работы над проект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71360" y="1214280"/>
            <a:ext cx="78627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Обсуждение плана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составление графика  выполнения задани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Проведение исследований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Мир профессий», «Рынок труда», «Познаю себя», «Рынок образовательных учсуг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Оформление результатов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Карта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Моя образовательная траектория», 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буклет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Презентация профессии»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Вики-дневник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«Познаю себя»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Публичная  презентация проекта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8" name="Picture 2" descr="C:\Documents and Settings\Макс\Рабочий стол\думающая девушка.gif"/>
          <p:cNvPicPr/>
          <p:nvPr/>
        </p:nvPicPr>
        <p:blipFill>
          <a:blip r:embed="rId1"/>
          <a:stretch/>
        </p:blipFill>
        <p:spPr>
          <a:xfrm>
            <a:off x="7596360" y="4943520"/>
            <a:ext cx="13158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7329600" cy="9288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orbel"/>
              </a:rPr>
              <a:t>Выбор темы коллективного исследова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143000" y="1428840"/>
          <a:ext cx="7643880" cy="5073480"/>
        </p:xfrm>
        <a:graphic>
          <a:graphicData uri="http://schemas.openxmlformats.org/drawingml/2006/table">
            <a:tbl>
              <a:tblPr/>
              <a:tblGrid>
                <a:gridCol w="2143080"/>
                <a:gridCol w="1785960"/>
                <a:gridCol w="1928880"/>
                <a:gridCol w="1785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ный 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професс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мира професс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к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,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к образовательных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, чему, почём уч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4977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Исследования «Познаю себя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4960" y="1071360"/>
            <a:ext cx="74995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самооцен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и склонности и способност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й темперамен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е внимание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памя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е мышлен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ординация движени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тревожнос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коммуникабельнос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свобода выбор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3" name="Picture 3" descr="C:\Documents and Settings\Макс\Рабочий стол\исследователь.gif"/>
          <p:cNvPicPr/>
          <p:nvPr/>
        </p:nvPicPr>
        <p:blipFill>
          <a:blip r:embed="rId1"/>
          <a:stretch/>
        </p:blipFill>
        <p:spPr>
          <a:xfrm rot="21176400">
            <a:off x="6428880" y="257148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Выбирай профессию правильно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7" name="Picture 2" descr="C:\Documents and Settings\Макс\Рабочий стол\бакалавр.gif"/>
          <p:cNvPicPr/>
          <p:nvPr/>
        </p:nvPicPr>
        <p:blipFill>
          <a:blip r:embed="rId1"/>
          <a:stretch/>
        </p:blipFill>
        <p:spPr>
          <a:xfrm>
            <a:off x="5643720" y="4214880"/>
            <a:ext cx="2199960" cy="2200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Documents and Settings\Макс\Рабочий стол\школьник.gif"/>
          <p:cNvPicPr/>
          <p:nvPr/>
        </p:nvPicPr>
        <p:blipFill>
          <a:blip r:embed="rId2"/>
          <a:stretch/>
        </p:blipFill>
        <p:spPr>
          <a:xfrm>
            <a:off x="3643200" y="3500280"/>
            <a:ext cx="1843200" cy="1843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Documents and Settings\Макс\Рабочий стол\девочка отдыхает.gif"/>
          <p:cNvPicPr/>
          <p:nvPr/>
        </p:nvPicPr>
        <p:blipFill>
          <a:blip r:embed="rId3"/>
          <a:stretch/>
        </p:blipFill>
        <p:spPr>
          <a:xfrm>
            <a:off x="1428840" y="2428920"/>
            <a:ext cx="1485720" cy="1485720"/>
          </a:xfrm>
          <a:prstGeom prst="rect">
            <a:avLst/>
          </a:prstGeom>
          <a:ln w="0">
            <a:noFill/>
          </a:ln>
        </p:spPr>
      </p:pic>
      <p:sp>
        <p:nvSpPr>
          <p:cNvPr id="380" name="Овальная выноска 7"/>
          <p:cNvSpPr/>
          <p:nvPr/>
        </p:nvSpPr>
        <p:spPr>
          <a:xfrm>
            <a:off x="4341960" y="2570040"/>
            <a:ext cx="1512720" cy="717840"/>
          </a:xfrm>
          <a:prstGeom prst="wedgeEllipseCallout">
            <a:avLst>
              <a:gd name="adj1" fmla="val -8800"/>
              <a:gd name="adj2" fmla="val 9825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ОГУ СТАТЬ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Овальная выноска 8"/>
          <p:cNvSpPr/>
          <p:nvPr/>
        </p:nvSpPr>
        <p:spPr>
          <a:xfrm rot="501000">
            <a:off x="6748200" y="3306600"/>
            <a:ext cx="2334960" cy="1011240"/>
          </a:xfrm>
          <a:prstGeom prst="wedgeEllipseCallout">
            <a:avLst>
              <a:gd name="adj1" fmla="val -20009"/>
              <a:gd name="adj2" fmla="val 8429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ЗНАЮ  СВОЮ ПРОФЕССИЮ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Овальная выноска 9"/>
          <p:cNvSpPr/>
          <p:nvPr/>
        </p:nvSpPr>
        <p:spPr>
          <a:xfrm flipV="1" rot="11043600">
            <a:off x="2033280" y="1335960"/>
            <a:ext cx="1454040" cy="982800"/>
          </a:xfrm>
          <a:prstGeom prst="wedgeEllipseCallout">
            <a:avLst>
              <a:gd name="adj1" fmla="val -18657"/>
              <a:gd name="adj2" fmla="val 8969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ОЧУ СТАТЬ 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Дневник «Познаю себя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42640" y="1000080"/>
            <a:ext cx="7791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В блоге заведите свой личный «Дневник», где ответьте на следующие вопросы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нал ли я до проекта  точно какая профессия мне нравится и где можно её получить?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нал ли я какие требования предъявляет данная профессия к качествам человека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то я не знал о своих качествах 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ужно ли мне заняться самовоспитанием, если да, то какие качества надо развивать, что исправить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ему научила меня работа в группе 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 чем были сложности при  построении моей личной профессиональной траектории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то или кто повлиял на мой выбор профессии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нирование проекта -  1 ча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дение исследований –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формление результатов –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щита проекта – 1 ча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4977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Продолжительность проекта =  12</a:t>
            </a: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ч</a:t>
            </a: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8" name="Picture 2" descr="C:\Documents and Settings\Макс\Рабочий стол\песочные часы.gif"/>
          <p:cNvPicPr/>
          <p:nvPr/>
        </p:nvPicPr>
        <p:blipFill>
          <a:blip r:embed="rId1"/>
          <a:stretch/>
        </p:blipFill>
        <p:spPr>
          <a:xfrm>
            <a:off x="7351560" y="1566720"/>
            <a:ext cx="1652760" cy="16527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C:\Documents and Settings\Макс\Рабочий стол\время работы.gif"/>
          <p:cNvPicPr/>
          <p:nvPr/>
        </p:nvPicPr>
        <p:blipFill>
          <a:blip r:embed="rId2"/>
          <a:stretch/>
        </p:blipFill>
        <p:spPr>
          <a:xfrm>
            <a:off x="6303960" y="3943440"/>
            <a:ext cx="2895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85920" y="213840"/>
            <a:ext cx="7648560" cy="12034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Лист самооценки и оценки  вклада в работу групп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357200" y="1785960"/>
          <a:ext cx="7358040" cy="4714920"/>
        </p:xfrm>
        <a:graphic>
          <a:graphicData uri="http://schemas.openxmlformats.org/drawingml/2006/table">
            <a:tbl>
              <a:tblPr/>
              <a:tblGrid>
                <a:gridCol w="1471680"/>
                <a:gridCol w="1471680"/>
                <a:gridCol w="1471680"/>
                <a:gridCol w="1471680"/>
                <a:gridCol w="1471320"/>
              </a:tblGrid>
              <a:tr h="16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Что я хотел сдел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Что я сдел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Что  я мог еще сдел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d4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то он сдел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d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ак оцениваем его рабо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5e01"/>
                    </a:solidFill>
                  </a:tcPr>
                </a:tc>
              </a:tr>
              <a:tr h="31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5"/>
          <p:cNvSpPr/>
          <p:nvPr/>
        </p:nvSpPr>
        <p:spPr>
          <a:xfrm>
            <a:off x="1285920" y="1808280"/>
            <a:ext cx="7572240" cy="576000"/>
          </a:xfrm>
          <a:prstGeom prst="rect">
            <a:avLst/>
          </a:prstGeom>
          <a:solidFill>
            <a:srgbClr val="922223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orbel"/>
                <a:ea typeface="Mangal"/>
              </a:rPr>
              <a:t>Учебные завед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928800" y="3214800"/>
            <a:ext cx="180000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Началь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857160" y="4714920"/>
            <a:ext cx="1692360" cy="1008000"/>
          </a:xfrm>
          <a:prstGeom prst="rect">
            <a:avLst/>
          </a:prstGeom>
          <a:solidFill>
            <a:srgbClr val="637f2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Училищ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Лице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50012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85920" y="142920"/>
            <a:ext cx="7572240" cy="12333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Система профессионального образования Российской Федерац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AutoShape 25"/>
          <p:cNvSpPr/>
          <p:nvPr/>
        </p:nvSpPr>
        <p:spPr>
          <a:xfrm>
            <a:off x="364320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AutoShape 26"/>
          <p:cNvSpPr/>
          <p:nvPr/>
        </p:nvSpPr>
        <p:spPr>
          <a:xfrm>
            <a:off x="5643720" y="2428920"/>
            <a:ext cx="455400" cy="504720"/>
          </a:xfrm>
          <a:prstGeom prst="downArrow">
            <a:avLst>
              <a:gd name="adj1" fmla="val 50000"/>
              <a:gd name="adj2" fmla="val 27708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AutoShape 27"/>
          <p:cNvSpPr/>
          <p:nvPr/>
        </p:nvSpPr>
        <p:spPr>
          <a:xfrm>
            <a:off x="7929720" y="2500200"/>
            <a:ext cx="455400" cy="505080"/>
          </a:xfrm>
          <a:prstGeom prst="downArrow">
            <a:avLst>
              <a:gd name="adj1" fmla="val 50000"/>
              <a:gd name="adj2" fmla="val 27727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Text Box 29"/>
          <p:cNvSpPr/>
          <p:nvPr/>
        </p:nvSpPr>
        <p:spPr>
          <a:xfrm>
            <a:off x="3000240" y="3214800"/>
            <a:ext cx="180036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Сред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Text Box 30"/>
          <p:cNvSpPr/>
          <p:nvPr/>
        </p:nvSpPr>
        <p:spPr>
          <a:xfrm>
            <a:off x="5000760" y="3214800"/>
            <a:ext cx="180000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Высш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Text Box 31"/>
          <p:cNvSpPr/>
          <p:nvPr/>
        </p:nvSpPr>
        <p:spPr>
          <a:xfrm>
            <a:off x="7072200" y="3214800"/>
            <a:ext cx="180036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Посл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вузовск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AutoShape 32"/>
          <p:cNvSpPr/>
          <p:nvPr/>
        </p:nvSpPr>
        <p:spPr>
          <a:xfrm>
            <a:off x="1500120" y="4071960"/>
            <a:ext cx="455760" cy="504720"/>
          </a:xfrm>
          <a:prstGeom prst="downArrow">
            <a:avLst>
              <a:gd name="adj1" fmla="val 50000"/>
              <a:gd name="adj2" fmla="val 27686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AutoShape 33"/>
          <p:cNvSpPr/>
          <p:nvPr/>
        </p:nvSpPr>
        <p:spPr>
          <a:xfrm>
            <a:off x="3643200" y="4071960"/>
            <a:ext cx="455760" cy="504720"/>
          </a:xfrm>
          <a:prstGeom prst="downArrow">
            <a:avLst>
              <a:gd name="adj1" fmla="val 50000"/>
              <a:gd name="adj2" fmla="val 27686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AutoShape 34"/>
          <p:cNvSpPr/>
          <p:nvPr/>
        </p:nvSpPr>
        <p:spPr>
          <a:xfrm>
            <a:off x="5500800" y="4000680"/>
            <a:ext cx="455400" cy="504720"/>
          </a:xfrm>
          <a:prstGeom prst="downArrow">
            <a:avLst>
              <a:gd name="adj1" fmla="val 50000"/>
              <a:gd name="adj2" fmla="val 27708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AutoShape 35"/>
          <p:cNvSpPr/>
          <p:nvPr/>
        </p:nvSpPr>
        <p:spPr>
          <a:xfrm>
            <a:off x="8001000" y="4000680"/>
            <a:ext cx="455760" cy="504720"/>
          </a:xfrm>
          <a:prstGeom prst="downArrow">
            <a:avLst>
              <a:gd name="adj1" fmla="val 50000"/>
              <a:gd name="adj2" fmla="val 27686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Text Box 36"/>
          <p:cNvSpPr/>
          <p:nvPr/>
        </p:nvSpPr>
        <p:spPr>
          <a:xfrm>
            <a:off x="2714760" y="4714920"/>
            <a:ext cx="1692000" cy="100800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Техникум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Колледж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Спец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Text Box 37"/>
          <p:cNvSpPr/>
          <p:nvPr/>
        </p:nvSpPr>
        <p:spPr>
          <a:xfrm>
            <a:off x="4572000" y="4714920"/>
            <a:ext cx="1836720" cy="100800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Институ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Академ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Университе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Text Box 38"/>
          <p:cNvSpPr/>
          <p:nvPr/>
        </p:nvSpPr>
        <p:spPr>
          <a:xfrm>
            <a:off x="6643800" y="4714920"/>
            <a:ext cx="2357280" cy="200016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Академии повыше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квалифика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Институты и факультеты переподготовки кадр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6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8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1785960"/>
            <a:ext cx="7561440" cy="576360"/>
          </a:xfrm>
          <a:prstGeom prst="rect">
            <a:avLst/>
          </a:prstGeom>
          <a:solidFill>
            <a:srgbClr val="c0654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  <a:ea typeface="Mangal"/>
              </a:rPr>
              <a:t>Формы обуч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571680" y="3286080"/>
            <a:ext cx="180000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Очна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135720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858080" cy="12333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Система профессионального образования Российской Федера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342900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557208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AutoShape 9"/>
          <p:cNvSpPr/>
          <p:nvPr/>
        </p:nvSpPr>
        <p:spPr>
          <a:xfrm>
            <a:off x="7786800" y="2500200"/>
            <a:ext cx="455400" cy="505080"/>
          </a:xfrm>
          <a:prstGeom prst="downArrow">
            <a:avLst>
              <a:gd name="adj1" fmla="val 50000"/>
              <a:gd name="adj2" fmla="val 27727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786040" y="3286080"/>
            <a:ext cx="180036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Заочна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4857840" y="3286080"/>
            <a:ext cx="180000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Вечерня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7215120" y="3286080"/>
            <a:ext cx="180036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Экстерна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AutoShape 13"/>
          <p:cNvSpPr/>
          <p:nvPr/>
        </p:nvSpPr>
        <p:spPr>
          <a:xfrm>
            <a:off x="2357280" y="2500200"/>
            <a:ext cx="455760" cy="2411640"/>
          </a:xfrm>
          <a:prstGeom prst="downArrow">
            <a:avLst>
              <a:gd name="adj1" fmla="val 50000"/>
              <a:gd name="adj2" fmla="val 132287"/>
            </a:avLst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AutoShape 16"/>
          <p:cNvSpPr/>
          <p:nvPr/>
        </p:nvSpPr>
        <p:spPr>
          <a:xfrm>
            <a:off x="6715080" y="2428920"/>
            <a:ext cx="455760" cy="2519280"/>
          </a:xfrm>
          <a:prstGeom prst="downArrow">
            <a:avLst>
              <a:gd name="adj1" fmla="val 50000"/>
              <a:gd name="adj2" fmla="val 138191"/>
            </a:avLst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1428840" y="5072040"/>
            <a:ext cx="2455920" cy="72072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orbel"/>
                <a:ea typeface="Mangal"/>
              </a:rPr>
              <a:t>Самообразова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86280" y="5072040"/>
            <a:ext cx="2195640" cy="72072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orbel"/>
                <a:ea typeface="Mangal"/>
              </a:rPr>
              <a:t>Дистанционное обуч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6"/>
          <p:cNvSpPr/>
          <p:nvPr/>
        </p:nvSpPr>
        <p:spPr>
          <a:xfrm>
            <a:off x="3906720" y="1989000"/>
            <a:ext cx="233640" cy="37450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Rectangle 17"/>
          <p:cNvSpPr/>
          <p:nvPr/>
        </p:nvSpPr>
        <p:spPr>
          <a:xfrm>
            <a:off x="7632720" y="1989000"/>
            <a:ext cx="233280" cy="37450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Rectangle 15"/>
          <p:cNvSpPr/>
          <p:nvPr/>
        </p:nvSpPr>
        <p:spPr>
          <a:xfrm>
            <a:off x="785880" y="2000160"/>
            <a:ext cx="233280" cy="331164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13920" y="142560"/>
            <a:ext cx="74725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Этапы профессионального самоопределе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14200" y="1643040"/>
            <a:ext cx="1366920" cy="398880"/>
          </a:xfrm>
          <a:prstGeom prst="rect">
            <a:avLst/>
          </a:prstGeom>
          <a:solidFill>
            <a:srgbClr val="9222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2266920" y="1628640"/>
            <a:ext cx="3598920" cy="398880"/>
          </a:xfrm>
          <a:prstGeom prst="rect">
            <a:avLst/>
          </a:prstGeom>
          <a:solidFill>
            <a:srgbClr val="9222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с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6572160" y="1571760"/>
            <a:ext cx="2374920" cy="398880"/>
          </a:xfrm>
          <a:prstGeom prst="rect">
            <a:avLst/>
          </a:prstGeom>
          <a:solidFill>
            <a:srgbClr val="9222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08000" y="3206880"/>
            <a:ext cx="1366920" cy="39888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rial"/>
              </a:rPr>
              <a:t>VIII-I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2050920" y="2814480"/>
            <a:ext cx="4032360" cy="1191240"/>
          </a:xfrm>
          <a:prstGeom prst="rect">
            <a:avLst/>
          </a:prstGeom>
          <a:solidFill>
            <a:srgbClr val="637f26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рофессиональн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созн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сознание себя как субъекта будущей профессиональной деятельност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6589800" y="2944800"/>
            <a:ext cx="2374920" cy="916920"/>
          </a:xfrm>
          <a:prstGeom prst="rect">
            <a:avLst/>
          </a:prstGeom>
          <a:solidFill>
            <a:srgbClr val="b9d77a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Осознанное </a:t>
            </a:r>
            <a:r>
              <a:rPr b="1" lang="ru-RU" sz="1800" spc="-1" strike="noStrike">
                <a:solidFill>
                  <a:srgbClr val="637f26"/>
                </a:solidFill>
                <a:latin typeface="Arial"/>
              </a:rPr>
              <a:t>профнамерение</a:t>
            </a: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 и его реализац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08000" y="5078520"/>
            <a:ext cx="1366920" cy="39888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rial"/>
              </a:rPr>
              <a:t>X-X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2050920" y="4818240"/>
            <a:ext cx="4032360" cy="916920"/>
          </a:xfrm>
          <a:prstGeom prst="rect">
            <a:avLst/>
          </a:prstGeom>
          <a:solidFill>
            <a:srgbClr val="637f26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рофессиональн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убежденность в правильном выборе професси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Text Box 14"/>
          <p:cNvSpPr/>
          <p:nvPr/>
        </p:nvSpPr>
        <p:spPr>
          <a:xfrm>
            <a:off x="6589800" y="4818240"/>
            <a:ext cx="2374920" cy="916920"/>
          </a:xfrm>
          <a:prstGeom prst="rect">
            <a:avLst/>
          </a:prstGeom>
          <a:solidFill>
            <a:srgbClr val="b9d77a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Осознанное </a:t>
            </a:r>
            <a:r>
              <a:rPr b="1" lang="ru-RU" sz="1800" spc="-1" strike="noStrike">
                <a:solidFill>
                  <a:srgbClr val="637f26"/>
                </a:solidFill>
                <a:latin typeface="Arial"/>
              </a:rPr>
              <a:t>профстремление</a:t>
            </a: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  и его реализац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AutoShape 18"/>
          <p:cNvSpPr/>
          <p:nvPr/>
        </p:nvSpPr>
        <p:spPr>
          <a:xfrm>
            <a:off x="1549440" y="328464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637f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AutoShape 19"/>
          <p:cNvSpPr/>
          <p:nvPr/>
        </p:nvSpPr>
        <p:spPr>
          <a:xfrm>
            <a:off x="1549440" y="508464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637f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AutoShape 20"/>
          <p:cNvSpPr/>
          <p:nvPr/>
        </p:nvSpPr>
        <p:spPr>
          <a:xfrm>
            <a:off x="6156360" y="515772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AutoShape 21"/>
          <p:cNvSpPr/>
          <p:nvPr/>
        </p:nvSpPr>
        <p:spPr>
          <a:xfrm>
            <a:off x="6084720" y="328464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AutoShape 22"/>
          <p:cNvSpPr/>
          <p:nvPr/>
        </p:nvSpPr>
        <p:spPr>
          <a:xfrm rot="3021600">
            <a:off x="6120000" y="411300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0" y="274680"/>
            <a:ext cx="6648480" cy="11541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ак стать успешным человеком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500120"/>
            <a:ext cx="749952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БСУЖДАЕМ  ВАРИАНТЫ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самым умн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знаменит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 самым  сильн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самым богат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 профессионало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уважаемым человеко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ПОЛНЯЕМ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ВОИ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ВАРИАНТЫ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C:\Documents and Settings\Макс\Local Settings\Temporary Internet Files\Content.IE5\G68X69SY\MCj04322270000[1].wmf"/>
          <p:cNvPicPr/>
          <p:nvPr/>
        </p:nvPicPr>
        <p:blipFill>
          <a:blip r:embed="rId1"/>
          <a:stretch/>
        </p:blipFill>
        <p:spPr>
          <a:xfrm>
            <a:off x="6572160" y="2286000"/>
            <a:ext cx="2489400" cy="2428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Documents and Settings\Макс\Local Settings\Temporary Internet Files\Content.IE5\V00ZC5RL\MPj0433270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21099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5920" y="285840"/>
            <a:ext cx="7497720" cy="9396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Быть безработным хорошо или плохо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285920" y="142848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не надо  работать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без работы скучно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много свободного времен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не получаешь зарплату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платят пособие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безработных не уважают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в старости не будет пенси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не дадут путевку в санаторий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все тебе сочувствуют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                      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ВОИ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АРИАНТЫ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2" descr="C:\Documents and Settings\Макс\Рабочий стол\рис.Безработный.gif"/>
          <p:cNvPicPr/>
          <p:nvPr/>
        </p:nvPicPr>
        <p:blipFill>
          <a:blip r:embed="rId1"/>
          <a:stretch/>
        </p:blipFill>
        <p:spPr>
          <a:xfrm>
            <a:off x="7491240" y="1206360"/>
            <a:ext cx="1659240" cy="1659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Макс\Рабочий стол\рисунок Безработный.gif"/>
          <p:cNvPicPr/>
          <p:nvPr/>
        </p:nvPicPr>
        <p:blipFill>
          <a:blip r:embed="rId2"/>
          <a:stretch/>
        </p:blipFill>
        <p:spPr>
          <a:xfrm>
            <a:off x="1714680" y="52862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нам может дать работа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99760"/>
            <a:ext cx="7499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енежный доход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важение коллег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уважени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фессиональное развити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бщение 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циальную  защищенность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ерспективу карьеры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веренность в завтрашнем дн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зможность взять кредит в банк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СВО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ВАРИАНТЫ…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7066080" y="1420920"/>
            <a:ext cx="20844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85480"/>
            <a:ext cx="74995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акие профессии будут востребованы в будущем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28480"/>
            <a:ext cx="74995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оном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Юр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оите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ав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ВОИ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5437080" y="2236680"/>
            <a:ext cx="1225800" cy="222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Program Files\Microsoft Office\MEDIA\CAGCAT10\j0240695.wmf"/>
          <p:cNvPicPr/>
          <p:nvPr/>
        </p:nvPicPr>
        <p:blipFill>
          <a:blip r:embed="rId2"/>
          <a:stretch/>
        </p:blipFill>
        <p:spPr>
          <a:xfrm>
            <a:off x="6858000" y="3870360"/>
            <a:ext cx="2011320" cy="2219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7016760" y="1438200"/>
            <a:ext cx="1773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Почему  зарплаты такие разные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професс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ая квалифик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потребности  у разных люд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предприя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ая ответствен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ая занятость на работ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й опыт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результаты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ВОИ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ВАРИАНТ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7429680" y="1000080"/>
            <a:ext cx="1245960" cy="1251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Program Files\Microsoft Office\MEDIA\CAGCAT10\j0222017.wmf"/>
          <p:cNvPicPr/>
          <p:nvPr/>
        </p:nvPicPr>
        <p:blipFill>
          <a:blip r:embed="rId2"/>
          <a:stretch/>
        </p:blipFill>
        <p:spPr>
          <a:xfrm>
            <a:off x="7429680" y="3286080"/>
            <a:ext cx="1245960" cy="1251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C:\Program Files\Microsoft Office\MEDIA\CAGCAT10\j0222021.wmf"/>
          <p:cNvPicPr/>
          <p:nvPr/>
        </p:nvPicPr>
        <p:blipFill>
          <a:blip r:embed="rId3"/>
          <a:stretch/>
        </p:blipFill>
        <p:spPr>
          <a:xfrm>
            <a:off x="7502400" y="5072040"/>
            <a:ext cx="12463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 или кто является предметом труда  для…?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хгалтер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двока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ё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граммис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оло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ав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ди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ач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ноло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2" descr="C:\Program Files\Microsoft Office\MEDIA\CAGCAT10\j0187423.wmf"/>
          <p:cNvPicPr/>
          <p:nvPr/>
        </p:nvPicPr>
        <p:blipFill>
          <a:blip r:embed="rId1"/>
          <a:stretch/>
        </p:blipFill>
        <p:spPr>
          <a:xfrm>
            <a:off x="4224240" y="3297240"/>
            <a:ext cx="2468520" cy="2530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C:\Program Files\Microsoft Office\MEDIA\CAGCAT10\j0090386.wmf"/>
          <p:cNvPicPr/>
          <p:nvPr/>
        </p:nvPicPr>
        <p:blipFill>
          <a:blip r:embed="rId2"/>
          <a:stretch/>
        </p:blipFill>
        <p:spPr>
          <a:xfrm>
            <a:off x="6224760" y="1152360"/>
            <a:ext cx="2900160" cy="258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:\Program Files\Microsoft Office\MEDIA\CAGCAT10\j0090070.wmf"/>
          <p:cNvPicPr/>
          <p:nvPr/>
        </p:nvPicPr>
        <p:blipFill>
          <a:blip r:embed="rId3"/>
          <a:stretch/>
        </p:blipFill>
        <p:spPr>
          <a:xfrm>
            <a:off x="6370560" y="3584520"/>
            <a:ext cx="26337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12142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является средством труда для…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кар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а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удожн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алери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ановщ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ератора АЭ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Ювели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ератор П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2" descr="C:\Program Files\Microsoft Office\MEDIA\CAGCAT10\j0252349.wmf"/>
          <p:cNvPicPr/>
          <p:nvPr/>
        </p:nvPicPr>
        <p:blipFill>
          <a:blip r:embed="rId1"/>
          <a:stretch/>
        </p:blipFill>
        <p:spPr>
          <a:xfrm>
            <a:off x="5143680" y="185724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Program Files\Microsoft Office\MEDIA\CAGCAT10\j0278882.wmf"/>
          <p:cNvPicPr/>
          <p:nvPr/>
        </p:nvPicPr>
        <p:blipFill>
          <a:blip r:embed="rId2"/>
          <a:stretch/>
        </p:blipFill>
        <p:spPr>
          <a:xfrm>
            <a:off x="7215120" y="2500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5715000" y="457200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3:43:29Z</dcterms:created>
  <dc:creator>Макс</dc:creator>
  <dc:description/>
  <dc:language>en-US</dc:language>
  <cp:lastModifiedBy>Самолетов А. М.</cp:lastModifiedBy>
  <dcterms:modified xsi:type="dcterms:W3CDTF">2009-02-22T15:28:54Z</dcterms:modified>
  <cp:revision>73</cp:revision>
  <dc:subject/>
  <dc:title>Моя профессиональная траектория</dc:title>
</cp:coreProperties>
</file>