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221-E63A-4A66-8EBF-318E1EEDA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E95-5922-48D1-A9AC-FF51A2E43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16A2-C611-469D-8BC9-CA96D5127C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15D-DA66-4418-A2F2-61849AF3E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E9B-C0BA-4F86-ADC8-C594A726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6BE-724B-4047-A82F-4379A95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352-E373-4EE6-91A9-F72FAA5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02C-55B7-428F-835A-503C1E57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6FDF-860F-4978-87CB-2C601247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D25F-D78A-4096-943D-E38740A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29FD-B614-4802-9BBE-E2435F1E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C29B-E385-45F5-83F6-CA1A924E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497-14F6-4337-B9E0-DB5E33D6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2AE-56D7-41EE-B08F-164DE15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A3E-9D39-487A-B73B-7093455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62F-B783-49F2-9FE8-0C2D06E5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5D79-9DA1-4068-ACF5-625F0E8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DD6-DDB1-4BA0-AEC7-EC3318A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2BF-8FB1-4A9D-A0F6-825FB0D5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E14-5C0B-46B4-AD00-B25F36A9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8C6F-4DDA-40CB-82A5-B7F06106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2469-A0BF-4782-8EFB-97A7C030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7B03-AC3D-483A-9814-E7D8499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4D5D-D673-4EA2-8219-B102EEA6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EF28-5B57-4AA5-AAC3-149B701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6483-DFB3-4F9A-8ED5-702F7CB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A89-15B3-4F4C-9AB4-C2DF2DA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B443-07CD-44BA-99B4-2C205E5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3E3E-C9DE-4042-9C70-9545BA7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B604-8CB4-4008-9DB2-49520C2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4E1E-51DC-4FFD-A145-5315063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8717-D4B3-4FE7-8A16-90927F0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C45A-A6C2-47E6-B7A7-6EB3231A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076E-1DB7-4F38-95B4-EFE6DDD0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F82F-D940-44E3-9C87-732320B4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6C08-6660-49D9-953F-30FA723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2117-BA84-49F3-BD26-57E4448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5C9-71CF-4594-B80D-B6297212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73C8-BA0C-4CB1-BE6C-9D614C67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A219-D562-4560-8964-77AF958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22FB-B170-49A9-A502-C69B82C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3823B-4DEE-43E3-9943-91DCD73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78EF-9834-4CE0-9810-D7667C99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CDAF-4F52-4EE9-9397-ACFDAA9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2B4F-FE19-425D-8ED8-CC901024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4FE9-A21A-48C0-9E70-67ADFED5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99C4-D097-4A75-BC3B-06C47EE1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BCBFB-48E5-4F2D-AA1A-4EA4C126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0A5-EC0C-453A-BAA5-2B036F36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EBE2-3C2A-4F11-9868-54D0B7E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CB5D-9554-4BDD-B726-227FF02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C387-D470-44FF-B047-6AFFE13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CDF9-0D9B-4B87-9308-943CFDA5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CE13-13EA-4FBB-9E68-2B5BDEEA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2734-E407-415D-A7B1-4DAEEAE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CA56-1944-4ACF-B25F-A131F7B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C86F-5C6A-4252-8ECA-A194CB9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8F36-6696-4CBF-A6F8-E48DE64F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422E-6613-4263-879D-6F595380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A8D-CFEF-4653-B5FB-5849788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2BDE7-8F50-4172-B069-73E2542F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E3AE-1304-498F-A030-73F3AEDC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79BA-E476-4A58-A0B2-32F0C5B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1613-567D-4CCB-8DDC-E6C93C54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4F06-89DF-4266-ADD4-1C8308DE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8FDD-4E87-4F0E-9636-0989C85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3CEC-84B7-41CF-90AF-085090B9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0AED-CCF1-4760-BDB3-024FE11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F29B-25A3-4781-B1F2-867530E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472CF-FEB5-41F6-8FE3-6F50795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561-BFA5-4C73-9F6C-FA16CA5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13DD-B1DF-4075-A303-DEAF436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37F4-BCAE-4822-B72B-A721A569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4988-160F-46CF-B79D-5591B2A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C314-7B7E-406F-AAF2-1D9FDD7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AFAB-727F-42DA-B4DA-6ACABE4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C0C85-D333-4FD0-809E-3EF4BCE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47D5-32C1-41A4-8C3B-41525FF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3291-4EC7-4A8E-94F4-0FA51BC1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0C3F-8DB6-4A07-A10A-FB1F0D08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672CF-9FE3-4D7C-A667-38334E6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319-98BD-45A6-ADE6-399A458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E357-7795-43DE-90A9-2235D82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D311-1F38-4A6C-907F-85D32A3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9127-CC1C-4768-8B53-B0D1537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16A8-5593-4F7D-9AFD-BF59C412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49F3-4BB5-4C06-AAA2-738704B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3A88-B072-4E60-9E18-521B85C7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2149-FCAD-4380-93F9-D5503F1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15A3-9C16-4FB9-A916-46FEE23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B6EC-08E0-4B9F-915C-DDC5F03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80D7-3038-49D8-82A4-3650CB0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572-D359-4ACC-9C83-78B332D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AB5A-EF2B-45E0-B013-8C52734C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70CF-A1C8-4DF3-8F0E-6E5EAEB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65DE-F7CC-4272-B52C-5CEF66CE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D39B-B4A6-4550-B9B9-101C232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9A57-A036-4A4B-B7B9-F980C79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B34F9-A7E6-4171-A235-4F76DA4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29CE-6974-4FE9-81A4-7662985D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AF8D-8AA0-4310-A291-A0E813E2C9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F5D7-CC23-441A-81D5-D22E477DDD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12AE-4E73-4420-87CB-212FBCEF42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8975-DF24-4DE3-8C07-25DA2A64E0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A5D-9556-4CD9-B553-9ADB06278C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8C2-6265-4348-AAA8-9603322B68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AF6E-CF91-494D-BBD7-EFF984D28C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519-7572-4AAA-87A4-BFAB530D9C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71400" y="357120"/>
            <a:ext cx="68864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b37cd"/>
                </a:solidFill>
                <a:latin typeface="Corbel"/>
              </a:rPr>
              <a:t>«Моя профессиональная траектория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85560" y="4785840"/>
            <a:ext cx="7429320" cy="17146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еловек выбирает дел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ли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         </a:t>
            </a: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дело выбирает  человек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151680" y="2011320"/>
            <a:ext cx="2863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40640" cy="15001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то  несет  большую моральную ответственность?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85560" y="221472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курор – потому что …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двокат – потому что …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удья – потому что /продолжите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___________________________________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Какие  ещё  профессии  связанны с высокой моральной ответственностью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Picture 2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7321680" y="706320"/>
            <a:ext cx="18288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может помешать тебе  стать пожарны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571760"/>
            <a:ext cx="70660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ишний ве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изкий рос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лохое зр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рах пред огн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язнь высот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лезни органов дыха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медленные реакци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олезни сердц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ихий голо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абая мускулату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БСУДИМ…?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4" descr="C:\Documents and Settings\Макс\Рабочий стол\рисунок Пожарный.gif"/>
          <p:cNvPicPr/>
          <p:nvPr/>
        </p:nvPicPr>
        <p:blipFill>
          <a:blip r:embed="rId1"/>
          <a:stretch/>
        </p:blipFill>
        <p:spPr>
          <a:xfrm>
            <a:off x="7162920" y="1000080"/>
            <a:ext cx="1841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511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меет ли шанс  летчик – флегматик успеть отреагировать и принять меры для спасения  самолета за время = 2 секунд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71360" y="3357720"/>
            <a:ext cx="786276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потому что флегматик…/продолжи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потому что флегматик…/продолжи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2" descr="C:\Program Files\Microsoft Office\MEDIA\CAGCAT10\j0233070.wmf"/>
          <p:cNvPicPr/>
          <p:nvPr/>
        </p:nvPicPr>
        <p:blipFill>
          <a:blip r:embed="rId1"/>
          <a:stretch/>
        </p:blipFill>
        <p:spPr>
          <a:xfrm>
            <a:off x="3071880" y="5052960"/>
            <a:ext cx="30002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498080" cy="1440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ризвание – Профессионал, есть ли связь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142640" y="1643040"/>
            <a:ext cx="7791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извание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- высший уровень профессиональной пригодности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фессионал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человек  достигший высокого уровня профессионального мастерств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пособност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 – возможность достижения высокого уровня мастерства в том или ином деле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Профессиональная  пригодность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формируемое качество (самим человеком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Чтобы стать профессионалом  надо…?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2" descr="C:\Documents and Settings\Макс\Рабочий стол\рис. профессионал.gif"/>
          <p:cNvPicPr/>
          <p:nvPr/>
        </p:nvPicPr>
        <p:blipFill>
          <a:blip r:embed="rId1"/>
          <a:stretch/>
        </p:blipFill>
        <p:spPr>
          <a:xfrm>
            <a:off x="7083360" y="512640"/>
            <a:ext cx="20606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7497720" cy="17859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Важна ли красота внешняя при поступлении в театральное училище?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3920" y="2214720"/>
            <a:ext cx="77202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а, все актеры красив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жна, чтобы  понравиться  комисс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 важна там принимают по бла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важна , важны актёрские способно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 как думаешь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…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2" descr="C:\Documents and Settings\Макс\Рабочий стол\актёр.gif"/>
          <p:cNvPicPr/>
          <p:nvPr/>
        </p:nvPicPr>
        <p:blipFill>
          <a:blip r:embed="rId1"/>
          <a:stretch/>
        </p:blipFill>
        <p:spPr>
          <a:xfrm>
            <a:off x="7139160" y="78120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:\Documents and Settings\Макс\Рабочий стол\Актер.gif"/>
          <p:cNvPicPr/>
          <p:nvPr/>
        </p:nvPicPr>
        <p:blipFill>
          <a:blip r:embed="rId2"/>
          <a:stretch/>
        </p:blipFill>
        <p:spPr>
          <a:xfrm>
            <a:off x="1816200" y="4816440"/>
            <a:ext cx="1439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12859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Можно ли самому себя воспитывать, кому это нужно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3920" y="1928880"/>
            <a:ext cx="77202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воспитание  не нужно, воспитанием занимаются родители и учител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воспитание нужно, так как  позволяет  человеку  сформировать и укрепить его личные ценные качества, преодолеть свои недостат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рази свое мнение , приведи пример       своего самовоспит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Picture 2" descr="C:\Documents and Settings\Макс\Рабочий стол\ремень.gif"/>
          <p:cNvPicPr/>
          <p:nvPr/>
        </p:nvPicPr>
        <p:blipFill>
          <a:blip r:embed="rId1"/>
          <a:stretch/>
        </p:blipFill>
        <p:spPr>
          <a:xfrm>
            <a:off x="7639200" y="633240"/>
            <a:ext cx="151128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13840"/>
            <a:ext cx="7499520" cy="13575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овы критерии выбора между ПТУ  и Университетом?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57176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рок обуч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оимость обуч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личие и размер стипенд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требованность  профессии на рынке тру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естижность  учебного завед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елание  родителе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нение и советы друзе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бственные способности и потреб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5" name="Picture 2" descr="C:\Documents and Settings\Макс\Рабочий стол\Университет.gif"/>
          <p:cNvPicPr/>
          <p:nvPr/>
        </p:nvPicPr>
        <p:blipFill>
          <a:blip r:embed="rId1"/>
          <a:stretch/>
        </p:blipFill>
        <p:spPr>
          <a:xfrm>
            <a:off x="7211880" y="1427040"/>
            <a:ext cx="1938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648560" cy="7858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922223"/>
                </a:solidFill>
                <a:latin typeface="Corbel"/>
              </a:rPr>
              <a:t>План работы над проек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71360" y="1214280"/>
            <a:ext cx="78627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Обсуждение плана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составление графика  выполнения задани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роведение исследований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Мир профессий», «Рынок труда», «Познаю себя», «Рынок образовательных учсуг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Оформление результатов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Карта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Моя образовательная траектория»,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буклет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«Презентация профессии»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Вики-дневник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«Познаю себя»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Публичная  презентация проекта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8" name="Picture 2" descr="C:\Documents and Settings\Макс\Рабочий стол\думающая девушка.gif"/>
          <p:cNvPicPr/>
          <p:nvPr/>
        </p:nvPicPr>
        <p:blipFill>
          <a:blip r:embed="rId1"/>
          <a:stretch/>
        </p:blipFill>
        <p:spPr>
          <a:xfrm>
            <a:off x="7596360" y="4943520"/>
            <a:ext cx="1315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329600" cy="9288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223"/>
                </a:solidFill>
                <a:latin typeface="Corbel"/>
              </a:rPr>
              <a:t>Выбор темы коллективного исследова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143000" y="1428840"/>
          <a:ext cx="7643880" cy="5073480"/>
        </p:xfrm>
        <a:graphic>
          <a:graphicData uri="http://schemas.openxmlformats.org/drawingml/2006/table">
            <a:tbl>
              <a:tblPr/>
              <a:tblGrid>
                <a:gridCol w="2143080"/>
                <a:gridCol w="1785960"/>
                <a:gridCol w="1928880"/>
                <a:gridCol w="1785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н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мира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к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,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нок образовательных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, чему, почём уч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74977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Исследования «Познаю себя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07136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самооцен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и склонности и способност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й темперамен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е внимани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памя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е мышл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ординация движени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тревожн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коммуникабельн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я свобода выбо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3" name="Picture 3" descr="C:\Documents and Settings\Макс\Рабочий стол\исследователь.gif"/>
          <p:cNvPicPr/>
          <p:nvPr/>
        </p:nvPicPr>
        <p:blipFill>
          <a:blip r:embed="rId1"/>
          <a:stretch/>
        </p:blipFill>
        <p:spPr>
          <a:xfrm rot="21176400">
            <a:off x="6428880" y="257148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Выбирай профессию правильно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Picture 2" descr="C:\Documents and Settings\Макс\Рабочий стол\бакалавр.gif"/>
          <p:cNvPicPr/>
          <p:nvPr/>
        </p:nvPicPr>
        <p:blipFill>
          <a:blip r:embed="rId1"/>
          <a:stretch/>
        </p:blipFill>
        <p:spPr>
          <a:xfrm>
            <a:off x="5643720" y="4214880"/>
            <a:ext cx="2199960" cy="2200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Documents and Settings\Макс\Рабочий стол\школьник.gif"/>
          <p:cNvPicPr/>
          <p:nvPr/>
        </p:nvPicPr>
        <p:blipFill>
          <a:blip r:embed="rId2"/>
          <a:stretch/>
        </p:blipFill>
        <p:spPr>
          <a:xfrm>
            <a:off x="3643200" y="350028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Documents and Settings\Макс\Рабочий стол\девочка отдыхает.gif"/>
          <p:cNvPicPr/>
          <p:nvPr/>
        </p:nvPicPr>
        <p:blipFill>
          <a:blip r:embed="rId3"/>
          <a:stretch/>
        </p:blipFill>
        <p:spPr>
          <a:xfrm>
            <a:off x="1428840" y="24289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380" name="Овальная выноска 7"/>
          <p:cNvSpPr/>
          <p:nvPr/>
        </p:nvSpPr>
        <p:spPr>
          <a:xfrm>
            <a:off x="4341960" y="2570040"/>
            <a:ext cx="1512720" cy="717840"/>
          </a:xfrm>
          <a:prstGeom prst="wedgeEllipseCallout">
            <a:avLst>
              <a:gd name="adj1" fmla="val -8800"/>
              <a:gd name="adj2" fmla="val 9825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ГУ СТАТЬ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Овальная выноска 8"/>
          <p:cNvSpPr/>
          <p:nvPr/>
        </p:nvSpPr>
        <p:spPr>
          <a:xfrm rot="501000">
            <a:off x="6748200" y="3306600"/>
            <a:ext cx="2334960" cy="1011240"/>
          </a:xfrm>
          <a:prstGeom prst="wedgeEllipseCallout">
            <a:avLst>
              <a:gd name="adj1" fmla="val -20009"/>
              <a:gd name="adj2" fmla="val 8429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ЗНАЮ  СВОЮ ПРОФЕССИЮ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Овальная выноска 9"/>
          <p:cNvSpPr/>
          <p:nvPr/>
        </p:nvSpPr>
        <p:spPr>
          <a:xfrm flipV="1" rot="11043600">
            <a:off x="2033280" y="1335960"/>
            <a:ext cx="1454040" cy="982800"/>
          </a:xfrm>
          <a:prstGeom prst="wedgeEllipseCallout">
            <a:avLst>
              <a:gd name="adj1" fmla="val -18657"/>
              <a:gd name="adj2" fmla="val 8969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ОЧУ СТАТЬ 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Дневник «Познаю себя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42640" y="100008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В блоге заведите свой личный «Дневник», где ответьте на следующие вопросы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нал ли я до проекта  точно какая профессия мне нравится и где можно её получить?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нал ли я какие требования предъявляет данная профессия к качествам человека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то я не знал о своих качествах 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ужно ли мне заняться самовоспитанием, если да, то какие качества надо развивать, что исправить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ему научила меня работа в группе 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 чем были сложности при  построении моей личной профессиональной траектории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Что или кто повлиял на мой выбор профессии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нирование проекта -  1 ч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дение исследований –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формление результатов –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проекта – 1 ча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4977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родолжительность проекта =  12</a:t>
            </a:r>
            <a:r>
              <a:rPr b="0" lang="ru-RU" sz="2800" spc="-1" strike="noStrike">
                <a:solidFill>
                  <a:srgbClr val="922223"/>
                </a:solidFill>
                <a:latin typeface="Corbel"/>
              </a:rPr>
              <a:t>ч</a:t>
            </a: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8" name="Picture 2" descr="C:\Documents and Settings\Макс\Рабочий стол\песочные часы.gif"/>
          <p:cNvPicPr/>
          <p:nvPr/>
        </p:nvPicPr>
        <p:blipFill>
          <a:blip r:embed="rId1"/>
          <a:stretch/>
        </p:blipFill>
        <p:spPr>
          <a:xfrm>
            <a:off x="7351560" y="1566720"/>
            <a:ext cx="1652760" cy="16527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Documents and Settings\Макс\Рабочий стол\время работы.gif"/>
          <p:cNvPicPr/>
          <p:nvPr/>
        </p:nvPicPr>
        <p:blipFill>
          <a:blip r:embed="rId2"/>
          <a:stretch/>
        </p:blipFill>
        <p:spPr>
          <a:xfrm>
            <a:off x="6303960" y="3943440"/>
            <a:ext cx="2895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648560" cy="12034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Лист самооценки и оценки  вклада в работу групп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357200" y="1785960"/>
          <a:ext cx="7358040" cy="4714920"/>
        </p:xfrm>
        <a:graphic>
          <a:graphicData uri="http://schemas.openxmlformats.org/drawingml/2006/table">
            <a:tbl>
              <a:tblPr/>
              <a:tblGrid>
                <a:gridCol w="1471680"/>
                <a:gridCol w="1471680"/>
                <a:gridCol w="1471680"/>
                <a:gridCol w="1471680"/>
                <a:gridCol w="1471320"/>
              </a:tblGrid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я хотел сдел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я сдел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Что  я мог еще с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d46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он сдел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d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 оцениваем его рабо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5e01"/>
                    </a:solidFill>
                  </a:tcPr>
                </a:tc>
              </a:tr>
              <a:tr h="31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5"/>
          <p:cNvSpPr/>
          <p:nvPr/>
        </p:nvSpPr>
        <p:spPr>
          <a:xfrm>
            <a:off x="1285920" y="1808280"/>
            <a:ext cx="7572240" cy="576000"/>
          </a:xfrm>
          <a:prstGeom prst="rect">
            <a:avLst/>
          </a:prstGeom>
          <a:solidFill>
            <a:srgbClr val="922223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rbel"/>
                <a:ea typeface="Mangal"/>
              </a:rPr>
              <a:t>Учебные завед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928800" y="3214800"/>
            <a:ext cx="180000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Началь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857160" y="4714920"/>
            <a:ext cx="169236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Училищ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Лице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50012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7572240" cy="1233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Система профессионального образования Российской Федерац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AutoShape 25"/>
          <p:cNvSpPr/>
          <p:nvPr/>
        </p:nvSpPr>
        <p:spPr>
          <a:xfrm>
            <a:off x="36432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AutoShape 26"/>
          <p:cNvSpPr/>
          <p:nvPr/>
        </p:nvSpPr>
        <p:spPr>
          <a:xfrm>
            <a:off x="5643720" y="2428920"/>
            <a:ext cx="455400" cy="504720"/>
          </a:xfrm>
          <a:prstGeom prst="downArrow">
            <a:avLst>
              <a:gd name="adj1" fmla="val 50000"/>
              <a:gd name="adj2" fmla="val 27708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AutoShape 27"/>
          <p:cNvSpPr/>
          <p:nvPr/>
        </p:nvSpPr>
        <p:spPr>
          <a:xfrm>
            <a:off x="7929720" y="2500200"/>
            <a:ext cx="455400" cy="505080"/>
          </a:xfrm>
          <a:prstGeom prst="downArrow">
            <a:avLst>
              <a:gd name="adj1" fmla="val 50000"/>
              <a:gd name="adj2" fmla="val 27727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3000240" y="3214800"/>
            <a:ext cx="180036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Text Box 30"/>
          <p:cNvSpPr/>
          <p:nvPr/>
        </p:nvSpPr>
        <p:spPr>
          <a:xfrm>
            <a:off x="5000760" y="3214800"/>
            <a:ext cx="180000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ысш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7072200" y="3214800"/>
            <a:ext cx="1800360" cy="720720"/>
          </a:xfrm>
          <a:prstGeom prst="rect">
            <a:avLst/>
          </a:prstGeom>
          <a:solidFill>
            <a:srgbClr val="922223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Посл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узовск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AutoShape 32"/>
          <p:cNvSpPr/>
          <p:nvPr/>
        </p:nvSpPr>
        <p:spPr>
          <a:xfrm>
            <a:off x="1500120" y="407196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AutoShape 33"/>
          <p:cNvSpPr/>
          <p:nvPr/>
        </p:nvSpPr>
        <p:spPr>
          <a:xfrm>
            <a:off x="3643200" y="407196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AutoShape 34"/>
          <p:cNvSpPr/>
          <p:nvPr/>
        </p:nvSpPr>
        <p:spPr>
          <a:xfrm>
            <a:off x="5500800" y="4000680"/>
            <a:ext cx="455400" cy="504720"/>
          </a:xfrm>
          <a:prstGeom prst="downArrow">
            <a:avLst>
              <a:gd name="adj1" fmla="val 50000"/>
              <a:gd name="adj2" fmla="val 27708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AutoShape 35"/>
          <p:cNvSpPr/>
          <p:nvPr/>
        </p:nvSpPr>
        <p:spPr>
          <a:xfrm>
            <a:off x="8001000" y="4000680"/>
            <a:ext cx="455760" cy="504720"/>
          </a:xfrm>
          <a:prstGeom prst="downArrow">
            <a:avLst>
              <a:gd name="adj1" fmla="val 50000"/>
              <a:gd name="adj2" fmla="val 27686"/>
            </a:avLst>
          </a:prstGeom>
          <a:solidFill>
            <a:srgbClr val="a6a6a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2714760" y="4714920"/>
            <a:ext cx="169200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Техникум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Колледж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Спец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4572000" y="4714920"/>
            <a:ext cx="1836720" cy="100800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Институ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Академ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Университе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6643800" y="4714920"/>
            <a:ext cx="2357280" cy="200016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Академии повыше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квалифика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  <a:ea typeface="Mangal"/>
              </a:rPr>
              <a:t>Институты и факультеты переподготовки кадр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6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8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1785960"/>
            <a:ext cx="7561440" cy="576360"/>
          </a:xfrm>
          <a:prstGeom prst="rect">
            <a:avLst/>
          </a:prstGeom>
          <a:solidFill>
            <a:srgbClr val="c0654c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  <a:ea typeface="Mangal"/>
              </a:rPr>
              <a:t>Формы обуч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571680" y="3286080"/>
            <a:ext cx="180000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Очна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13572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858080" cy="12333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Система профессионального образования Российской Федера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342900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5572080" y="2500200"/>
            <a:ext cx="455760" cy="505080"/>
          </a:xfrm>
          <a:prstGeom prst="downArrow">
            <a:avLst>
              <a:gd name="adj1" fmla="val 50000"/>
              <a:gd name="adj2" fmla="val 27705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AutoShape 9"/>
          <p:cNvSpPr/>
          <p:nvPr/>
        </p:nvSpPr>
        <p:spPr>
          <a:xfrm>
            <a:off x="7786800" y="2500200"/>
            <a:ext cx="455400" cy="505080"/>
          </a:xfrm>
          <a:prstGeom prst="downArrow">
            <a:avLst>
              <a:gd name="adj1" fmla="val 50000"/>
              <a:gd name="adj2" fmla="val 27727"/>
            </a:avLst>
          </a:prstGeom>
          <a:solidFill>
            <a:srgbClr val="7f7f7f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786040" y="3286080"/>
            <a:ext cx="180036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Заочна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857840" y="3286080"/>
            <a:ext cx="180000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Вечерня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7215120" y="3286080"/>
            <a:ext cx="1800360" cy="720720"/>
          </a:xfrm>
          <a:prstGeom prst="rect">
            <a:avLst/>
          </a:prstGeom>
          <a:solidFill>
            <a:srgbClr val="c0654c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Mangal"/>
              </a:rPr>
              <a:t>Экстерна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AutoShape 13"/>
          <p:cNvSpPr/>
          <p:nvPr/>
        </p:nvSpPr>
        <p:spPr>
          <a:xfrm>
            <a:off x="2357280" y="2500200"/>
            <a:ext cx="455760" cy="2411640"/>
          </a:xfrm>
          <a:prstGeom prst="downArrow">
            <a:avLst>
              <a:gd name="adj1" fmla="val 50000"/>
              <a:gd name="adj2" fmla="val 132287"/>
            </a:avLst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AutoShape 16"/>
          <p:cNvSpPr/>
          <p:nvPr/>
        </p:nvSpPr>
        <p:spPr>
          <a:xfrm>
            <a:off x="6715080" y="2428920"/>
            <a:ext cx="455760" cy="2519280"/>
          </a:xfrm>
          <a:prstGeom prst="downArrow">
            <a:avLst>
              <a:gd name="adj1" fmla="val 50000"/>
              <a:gd name="adj2" fmla="val 138191"/>
            </a:avLst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1428840" y="5072040"/>
            <a:ext cx="2455920" cy="72072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orbel"/>
                <a:ea typeface="Mangal"/>
              </a:rPr>
              <a:t>Самообраз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86280" y="5072040"/>
            <a:ext cx="2195640" cy="720720"/>
          </a:xfrm>
          <a:prstGeom prst="rect">
            <a:avLst/>
          </a:prstGeom>
          <a:solidFill>
            <a:srgbClr val="637f26"/>
          </a:solidFill>
          <a:ln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orbel"/>
                <a:ea typeface="Mangal"/>
              </a:rPr>
              <a:t>Дистанционное обуч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6"/>
          <p:cNvSpPr/>
          <p:nvPr/>
        </p:nvSpPr>
        <p:spPr>
          <a:xfrm>
            <a:off x="3906720" y="1989000"/>
            <a:ext cx="233640" cy="37450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Rectangle 17"/>
          <p:cNvSpPr/>
          <p:nvPr/>
        </p:nvSpPr>
        <p:spPr>
          <a:xfrm>
            <a:off x="7632720" y="1989000"/>
            <a:ext cx="233280" cy="37450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Rectangle 15"/>
          <p:cNvSpPr/>
          <p:nvPr/>
        </p:nvSpPr>
        <p:spPr>
          <a:xfrm>
            <a:off x="785880" y="2000160"/>
            <a:ext cx="233280" cy="331164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13920" y="142560"/>
            <a:ext cx="7472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Этапы профессионального самоопределе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14200" y="1643040"/>
            <a:ext cx="1366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2266920" y="1628640"/>
            <a:ext cx="3598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6572160" y="1571760"/>
            <a:ext cx="2374920" cy="398880"/>
          </a:xfrm>
          <a:prstGeom prst="rect">
            <a:avLst/>
          </a:prstGeom>
          <a:solidFill>
            <a:srgbClr val="9222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08000" y="3206880"/>
            <a:ext cx="1366920" cy="39888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rial"/>
              </a:rPr>
              <a:t>VIII-I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050920" y="2814480"/>
            <a:ext cx="4032360" cy="1191240"/>
          </a:xfrm>
          <a:prstGeom prst="rect">
            <a:avLst/>
          </a:prstGeom>
          <a:solidFill>
            <a:srgbClr val="637f26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рофессиональн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созн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сознание себя как субъекта будущей профессиональной деятельност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6589800" y="2944800"/>
            <a:ext cx="2374920" cy="916920"/>
          </a:xfrm>
          <a:prstGeom prst="rect">
            <a:avLst/>
          </a:prstGeom>
          <a:solidFill>
            <a:srgbClr val="b9d77a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Осознанное </a:t>
            </a:r>
            <a:r>
              <a:rPr b="1" lang="ru-RU" sz="1800" spc="-1" strike="noStrike">
                <a:solidFill>
                  <a:srgbClr val="637f26"/>
                </a:solidFill>
                <a:latin typeface="Arial"/>
              </a:rPr>
              <a:t>профнамерение</a:t>
            </a: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 и его реализац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08000" y="5078520"/>
            <a:ext cx="1366920" cy="39888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rial"/>
              </a:rPr>
              <a:t>X-X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2050920" y="4818240"/>
            <a:ext cx="4032360" cy="916920"/>
          </a:xfrm>
          <a:prstGeom prst="rect">
            <a:avLst/>
          </a:prstGeom>
          <a:solidFill>
            <a:srgbClr val="637f26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рофессиональн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убежденность в правильном выборе професси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Text Box 14"/>
          <p:cNvSpPr/>
          <p:nvPr/>
        </p:nvSpPr>
        <p:spPr>
          <a:xfrm>
            <a:off x="6589800" y="4818240"/>
            <a:ext cx="2374920" cy="916920"/>
          </a:xfrm>
          <a:prstGeom prst="rect">
            <a:avLst/>
          </a:prstGeom>
          <a:solidFill>
            <a:srgbClr val="b9d77a"/>
          </a:solidFill>
          <a:ln w="9360">
            <a:solidFill>
              <a:srgbClr val="4f271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Осознанное </a:t>
            </a:r>
            <a:r>
              <a:rPr b="1" lang="ru-RU" sz="1800" spc="-1" strike="noStrike">
                <a:solidFill>
                  <a:srgbClr val="637f26"/>
                </a:solidFill>
                <a:latin typeface="Arial"/>
              </a:rPr>
              <a:t>профстремление</a:t>
            </a:r>
            <a:r>
              <a:rPr b="0" lang="ru-RU" sz="1800" spc="-1" strike="noStrike">
                <a:solidFill>
                  <a:srgbClr val="637f26"/>
                </a:solidFill>
                <a:latin typeface="Arial"/>
              </a:rPr>
              <a:t>  и его реализац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AutoShape 18"/>
          <p:cNvSpPr/>
          <p:nvPr/>
        </p:nvSpPr>
        <p:spPr>
          <a:xfrm>
            <a:off x="1549440" y="328464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637f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AutoShape 19"/>
          <p:cNvSpPr/>
          <p:nvPr/>
        </p:nvSpPr>
        <p:spPr>
          <a:xfrm>
            <a:off x="1549440" y="508464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637f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AutoShape 20"/>
          <p:cNvSpPr/>
          <p:nvPr/>
        </p:nvSpPr>
        <p:spPr>
          <a:xfrm>
            <a:off x="6156360" y="515772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AutoShape 21"/>
          <p:cNvSpPr/>
          <p:nvPr/>
        </p:nvSpPr>
        <p:spPr>
          <a:xfrm>
            <a:off x="6084720" y="328464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AutoShape 22"/>
          <p:cNvSpPr/>
          <p:nvPr/>
        </p:nvSpPr>
        <p:spPr>
          <a:xfrm rot="3021600">
            <a:off x="6120000" y="4113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0" y="274680"/>
            <a:ext cx="6648480" cy="115416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 стать успешным человеко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500120"/>
            <a:ext cx="749952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БСУЖДАЕМ  ВАРИАНТЫ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самым умн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знаменит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 самым  сильн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самым богаты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 профессионало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ать уважаемым человеком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ВАРИАНТЫ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C:\Documents and Settings\Макс\Local Settings\Temporary Internet Files\Content.IE5\G68X69SY\MCj04322270000[1].wmf"/>
          <p:cNvPicPr/>
          <p:nvPr/>
        </p:nvPicPr>
        <p:blipFill>
          <a:blip r:embed="rId1"/>
          <a:stretch/>
        </p:blipFill>
        <p:spPr>
          <a:xfrm>
            <a:off x="6572160" y="2286000"/>
            <a:ext cx="2489400" cy="2428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Макс\Local Settings\Temporary Internet Files\Content.IE5\V00ZC5RL\MPj0433270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21099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5920" y="285840"/>
            <a:ext cx="74977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Быть безработным хорошо или плохо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85920" y="142848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не надо  работать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без работы скучно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много свободного времен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не получаешь зарплату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платят пособие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безработных не уважают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в старости не будет пенсии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хо, не дадут путевку в санаторий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орошо, все тебе сочувствуют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                      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АРИАНТЫ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2" descr="C:\Documents and Settings\Макс\Рабочий стол\рис.Безработный.gif"/>
          <p:cNvPicPr/>
          <p:nvPr/>
        </p:nvPicPr>
        <p:blipFill>
          <a:blip r:embed="rId1"/>
          <a:stretch/>
        </p:blipFill>
        <p:spPr>
          <a:xfrm>
            <a:off x="7491240" y="1206360"/>
            <a:ext cx="1659240" cy="1659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Макс\Рабочий стол\рисунок Безработный.gif"/>
          <p:cNvPicPr/>
          <p:nvPr/>
        </p:nvPicPr>
        <p:blipFill>
          <a:blip r:embed="rId2"/>
          <a:stretch/>
        </p:blipFill>
        <p:spPr>
          <a:xfrm>
            <a:off x="1714680" y="52862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нам может дать работа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99760"/>
            <a:ext cx="7499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енежный доход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ажение коллег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оуважени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фессиональное развити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бщение 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циальную  защищенность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спективу карьеры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еренность в завтрашнем дн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зможность взять кредит в банке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СВО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ВАРИАНТЫ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66080" y="1420920"/>
            <a:ext cx="20844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85480"/>
            <a:ext cx="7499520" cy="11430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Какие профессии будут востребованы в будущем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28480"/>
            <a:ext cx="74995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оном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Юр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оите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ав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5437080" y="2236680"/>
            <a:ext cx="1225800" cy="222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Program Files\Microsoft Office\MEDIA\CAGCAT10\j0240695.wmf"/>
          <p:cNvPicPr/>
          <p:nvPr/>
        </p:nvPicPr>
        <p:blipFill>
          <a:blip r:embed="rId2"/>
          <a:stretch/>
        </p:blipFill>
        <p:spPr>
          <a:xfrm>
            <a:off x="6858000" y="3870360"/>
            <a:ext cx="2011320" cy="2219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7016760" y="1438200"/>
            <a:ext cx="1773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Почему  зарплаты такие разные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рофе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квалифик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отребности  у разных люд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предприя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ответствен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ая занятость на работ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й опыт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ные результаты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ПОЛНЯЕМ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ВОИ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ВАРИАНТ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7429680" y="1000080"/>
            <a:ext cx="1245960" cy="1251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Program Files\Microsoft Office\MEDIA\CAGCAT10\j0222017.wmf"/>
          <p:cNvPicPr/>
          <p:nvPr/>
        </p:nvPicPr>
        <p:blipFill>
          <a:blip r:embed="rId2"/>
          <a:stretch/>
        </p:blipFill>
        <p:spPr>
          <a:xfrm>
            <a:off x="7429680" y="3286080"/>
            <a:ext cx="1245960" cy="1251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Program Files\Microsoft Office\MEDIA\CAGCAT10\j0222021.wmf"/>
          <p:cNvPicPr/>
          <p:nvPr/>
        </p:nvPicPr>
        <p:blipFill>
          <a:blip r:embed="rId3"/>
          <a:stretch/>
        </p:blipFill>
        <p:spPr>
          <a:xfrm>
            <a:off x="7502400" y="5072040"/>
            <a:ext cx="12463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 или кто является предметом труда  для…?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хгалте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двока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ё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граммис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оло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ав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ач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ноло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C:\Program Files\Microsoft Office\MEDIA\CAGCAT10\j0187423.wmf"/>
          <p:cNvPicPr/>
          <p:nvPr/>
        </p:nvPicPr>
        <p:blipFill>
          <a:blip r:embed="rId1"/>
          <a:stretch/>
        </p:blipFill>
        <p:spPr>
          <a:xfrm>
            <a:off x="4224240" y="3297240"/>
            <a:ext cx="2468520" cy="2530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C:\Program Files\Microsoft Office\MEDIA\CAGCAT10\j0090386.wmf"/>
          <p:cNvPicPr/>
          <p:nvPr/>
        </p:nvPicPr>
        <p:blipFill>
          <a:blip r:embed="rId2"/>
          <a:stretch/>
        </p:blipFill>
        <p:spPr>
          <a:xfrm>
            <a:off x="6224760" y="1152360"/>
            <a:ext cx="2900160" cy="258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Program Files\Microsoft Office\MEDIA\CAGCAT10\j0090070.wmf"/>
          <p:cNvPicPr/>
          <p:nvPr/>
        </p:nvPicPr>
        <p:blipFill>
          <a:blip r:embed="rId3"/>
          <a:stretch/>
        </p:blipFill>
        <p:spPr>
          <a:xfrm>
            <a:off x="6370560" y="3584520"/>
            <a:ext cx="26337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12142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2223"/>
                </a:solidFill>
                <a:latin typeface="Corbel"/>
              </a:rPr>
              <a:t>Что является средством труда для…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окар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а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удожн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алер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ановщ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тора АЭ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Ювели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тор П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2" descr="C:\Program Files\Microsoft Office\MEDIA\CAGCAT10\j0252349.wmf"/>
          <p:cNvPicPr/>
          <p:nvPr/>
        </p:nvPicPr>
        <p:blipFill>
          <a:blip r:embed="rId1"/>
          <a:stretch/>
        </p:blipFill>
        <p:spPr>
          <a:xfrm>
            <a:off x="5143680" y="185724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C:\Program Files\Microsoft Office\MEDIA\CAGCAT10\j0278882.wmf"/>
          <p:cNvPicPr/>
          <p:nvPr/>
        </p:nvPicPr>
        <p:blipFill>
          <a:blip r:embed="rId2"/>
          <a:stretch/>
        </p:blipFill>
        <p:spPr>
          <a:xfrm>
            <a:off x="7215120" y="2500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Program Files\Microsoft Office\MEDIA\CAGCAT10\j0205582.wmf"/>
          <p:cNvPicPr/>
          <p:nvPr/>
        </p:nvPicPr>
        <p:blipFill>
          <a:blip r:embed="rId3"/>
          <a:stretch/>
        </p:blipFill>
        <p:spPr>
          <a:xfrm>
            <a:off x="5715000" y="457200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3:29Z</dcterms:created>
  <dc:creator>Макс</dc:creator>
  <dc:description/>
  <dc:language>en-US</dc:language>
  <cp:lastModifiedBy>Самолетов А. М.</cp:lastModifiedBy>
  <dcterms:modified xsi:type="dcterms:W3CDTF">2009-02-22T15:28:54Z</dcterms:modified>
  <cp:revision>73</cp:revision>
  <dc:subject/>
  <dc:title>Моя профессиональная траектория</dc:title>
</cp:coreProperties>
</file>