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47A-9BA9-4D47-9497-FD156E84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EEB-492C-4CB9-BDFA-FD4860B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6A1-B24D-4E1C-92A7-74998005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D24-5AF4-44FF-8397-0DC0AADE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4399-548F-4139-BA55-7D555BBC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726E-9BEE-4235-90A2-9D19208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415-A1D4-46D3-A257-1924E45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1B3-1DE2-4B53-84D6-E6BBD141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EC8-6A46-4610-A715-5CAB673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A91-0AA7-4ED1-AE4E-BF739D2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9D6-286A-4D73-A6D6-707C083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028-5E8A-4ED3-93BC-DFF2D480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F4F7-F4BF-4815-96E3-2D43DEA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C8E-2CEC-4CAA-AEB5-F7BC0B4D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1125-793A-4ABA-A4C0-68B1FD5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ECAC-BF7A-457E-89A5-53F442DB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90A2-424E-4648-92E1-6D4503D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82A-D491-47B5-9895-AFDE4B91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F2F-038D-42E4-BB50-1C0DBF33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E84-0D02-473C-B2AE-90CBAF6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A72-A3B6-4F32-9507-0407784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47E-FC0C-4D0E-855C-9C6A7CD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412-4998-4E79-A5E1-6CDAECD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EE0-96BB-4739-A1BC-4CB9601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0215-12C6-476E-BBAC-9BD4EF95AE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9837-A3D1-46E9-A355-BD9D745CAC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54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257b"/>
                </a:solidFill>
                <a:latin typeface="Segoe Script"/>
              </a:rPr>
              <a:t>Путешествие в страну дорожных знаков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54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Segoe Script"/>
              </a:rPr>
              <a:t>Выполнила Егорова Т.К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Знаки сервиса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5" name="Больница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606400" cy="3924360"/>
          </a:xfrm>
          <a:prstGeom prst="rect">
            <a:avLst/>
          </a:prstGeom>
          <a:ln w="0">
            <a:noFill/>
          </a:ln>
        </p:spPr>
      </p:pic>
      <p:pic>
        <p:nvPicPr>
          <p:cNvPr id="136" name="Место%20отдыха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2579400" cy="3881520"/>
          </a:xfrm>
          <a:prstGeom prst="rect">
            <a:avLst/>
          </a:prstGeom>
          <a:ln w="0">
            <a:noFill/>
          </a:ln>
        </p:spPr>
      </p:pic>
      <p:pic>
        <p:nvPicPr>
          <p:cNvPr id="137" name="Телефон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25146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А В Т О М О Б И Л 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аленькие доми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 улицам бегу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ассажиров и разные груз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мики везу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20885551_3" descr=""/>
          <p:cNvPicPr/>
          <p:nvPr/>
        </p:nvPicPr>
        <p:blipFill>
          <a:blip r:embed="rId1"/>
          <a:stretch/>
        </p:blipFill>
        <p:spPr>
          <a:xfrm>
            <a:off x="4626000" y="1371600"/>
            <a:ext cx="4076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А В Т О Б У С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м по улице иде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 работу всех везет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на тонких курьи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ожках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 в резиновых сапожках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автобус" descr=""/>
          <p:cNvPicPr/>
          <p:nvPr/>
        </p:nvPicPr>
        <p:blipFill>
          <a:blip r:embed="rId1"/>
          <a:stretch/>
        </p:blipFill>
        <p:spPr>
          <a:xfrm>
            <a:off x="4267080" y="3189240"/>
            <a:ext cx="48769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Т Р О Л Л Е Й Б У С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верху – желты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низу – синий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 груди его звез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 над ним воздушны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ли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тянулись пров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Троллейбус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4191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Т Р А М В А Й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озаранку за окошко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ук, и звон, и кутерь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 прямым стальны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рожка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Ходят красные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Трамвай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267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Предупреждающие</a:t>
            </a: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151831_w640_h640_13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74320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iCAHYSUOK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762280" cy="2428920"/>
          </a:xfrm>
          <a:prstGeom prst="rect">
            <a:avLst/>
          </a:prstGeom>
          <a:ln w="0">
            <a:noFill/>
          </a:ln>
        </p:spPr>
      </p:pic>
      <p:pic>
        <p:nvPicPr>
          <p:cNvPr id="118" name="Скользкая%20дорога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2743200" cy="2408400"/>
          </a:xfrm>
          <a:prstGeom prst="rect">
            <a:avLst/>
          </a:prstGeom>
          <a:ln w="0">
            <a:noFill/>
          </a:ln>
        </p:spPr>
      </p:pic>
      <p:pic>
        <p:nvPicPr>
          <p:cNvPr id="119" name="51_4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415"/>
                </a:solidFill>
                <a:latin typeface="Arial"/>
              </a:rPr>
              <a:t>Запрещающи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1" name="3.Движение%20запрещено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2476440" cy="2476800"/>
          </a:xfrm>
          <a:prstGeom prst="rect">
            <a:avLst/>
          </a:prstGeom>
          <a:ln w="0">
            <a:noFill/>
          </a:ln>
        </p:spPr>
      </p:pic>
      <p:pic>
        <p:nvPicPr>
          <p:cNvPr id="122" name="obgon-znak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23" name="zakazpark" descr=""/>
          <p:cNvPicPr/>
          <p:nvPr/>
        </p:nvPicPr>
        <p:blipFill>
          <a:blip r:embed="rId3"/>
          <a:stretch/>
        </p:blipFill>
        <p:spPr>
          <a:xfrm>
            <a:off x="1828800" y="4267080"/>
            <a:ext cx="2325600" cy="2325960"/>
          </a:xfrm>
          <a:prstGeom prst="rect">
            <a:avLst/>
          </a:prstGeom>
          <a:ln w="0">
            <a:noFill/>
          </a:ln>
        </p:spPr>
      </p:pic>
      <p:pic>
        <p:nvPicPr>
          <p:cNvPr id="124" name="znak" descr=""/>
          <p:cNvPicPr/>
          <p:nvPr/>
        </p:nvPicPr>
        <p:blipFill>
          <a:blip r:embed="rId4"/>
          <a:stretch/>
        </p:blipFill>
        <p:spPr>
          <a:xfrm>
            <a:off x="5257800" y="426708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Предписывающи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6" name="Велосипедная%20дорожка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127" name="Движение%20леггковых%20автомобилей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2590920" cy="2457720"/>
          </a:xfrm>
          <a:prstGeom prst="rect">
            <a:avLst/>
          </a:prstGeom>
          <a:ln w="0">
            <a:noFill/>
          </a:ln>
        </p:spPr>
      </p:pic>
      <p:pic>
        <p:nvPicPr>
          <p:cNvPr id="128" name="Дорожка%20для%20пешеходов" descr=""/>
          <p:cNvPicPr/>
          <p:nvPr/>
        </p:nvPicPr>
        <p:blipFill>
          <a:blip r:embed="rId3"/>
          <a:stretch/>
        </p:blipFill>
        <p:spPr>
          <a:xfrm>
            <a:off x="3809880" y="4381560"/>
            <a:ext cx="2476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Информационно-указательные знак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0" name="Место%20остановки%20автобуса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1674720" cy="2495520"/>
          </a:xfrm>
          <a:prstGeom prst="rect">
            <a:avLst/>
          </a:prstGeom>
          <a:ln w="0">
            <a:noFill/>
          </a:ln>
        </p:spPr>
      </p:pic>
      <p:pic>
        <p:nvPicPr>
          <p:cNvPr id="131" name="Пешеходный%20переход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2590920" cy="2585880"/>
          </a:xfrm>
          <a:prstGeom prst="rect">
            <a:avLst/>
          </a:prstGeom>
          <a:ln w="0">
            <a:noFill/>
          </a:ln>
        </p:spPr>
      </p:pic>
      <p:pic>
        <p:nvPicPr>
          <p:cNvPr id="132" name="Жилая%20зона" descr=""/>
          <p:cNvPicPr/>
          <p:nvPr/>
        </p:nvPicPr>
        <p:blipFill>
          <a:blip r:embed="rId3"/>
          <a:stretch/>
        </p:blipFill>
        <p:spPr>
          <a:xfrm>
            <a:off x="6858000" y="1447920"/>
            <a:ext cx="1730520" cy="2581200"/>
          </a:xfrm>
          <a:prstGeom prst="rect">
            <a:avLst/>
          </a:prstGeom>
          <a:ln w="0">
            <a:noFill/>
          </a:ln>
        </p:spPr>
      </p:pic>
      <p:pic>
        <p:nvPicPr>
          <p:cNvPr id="133" name="Подземный%20переход" descr=""/>
          <p:cNvPicPr/>
          <p:nvPr/>
        </p:nvPicPr>
        <p:blipFill>
          <a:blip r:embed="rId4"/>
          <a:stretch/>
        </p:blipFill>
        <p:spPr>
          <a:xfrm>
            <a:off x="3809880" y="4351320"/>
            <a:ext cx="25146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0:35:08Z</dcterms:created>
  <dc:creator>Татьяна</dc:creator>
  <dc:description/>
  <dc:language>en-US</dc:language>
  <cp:lastModifiedBy>Татьяна</cp:lastModifiedBy>
  <dcterms:modified xsi:type="dcterms:W3CDTF">2011-08-18T20:10:33Z</dcterms:modified>
  <cp:revision>16</cp:revision>
  <dc:subject/>
  <dc:title>Транспорт разный есть на свете.</dc:title>
</cp:coreProperties>
</file>