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199-7285-4105-B053-F1B780AD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4CD-4C2B-4C65-A66A-9D170430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799-46AB-4C8C-8100-FAB986B3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AF9-2022-4226-90DF-ADFC188C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8DF1-5EFF-4736-AD01-A219B2E7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BFC-9CF0-4434-8E1C-C3BD48D4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9463-B2B2-4040-9A94-574E4E52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EEDD-49F0-4480-A5BA-10D533C7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9FC-87CF-41E3-B956-067E3FAB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5C02-754A-4AE6-97A0-CD4D380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BD57-CD5F-4E4D-A284-EB4AC5D2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083-23AB-4C02-83EE-58BB80DD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B493-4B41-44FF-BA81-8C7E6B19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B370-8E07-4DF4-81C8-4537846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DD08-142B-43E8-A4A5-46A18C8C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5B17-1C1D-45C8-85F9-B7E4AEE9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391F-67F1-4623-A85B-0DD27E45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374-5F08-44B4-AABB-4CEFCFB1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CAD-AFAF-4C5D-908E-73D41CF8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FCB-47E9-4965-94F5-C404F067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899-5207-4ACF-9696-A47F3877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494-07EA-4ECB-9DCE-CAB8A470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7AF-939E-4CDC-9DA0-0C1D5C36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937-852E-485D-93DE-2DFCDF5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C2BF-F382-4B8A-93F4-B7979481F4C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A251-3CC9-4761-9391-E05DCE2D62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Работа с родителями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агитова Л.Г 10 групп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Основная цель таких мероприятий – укрепление детско-родительских отношений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Результат совместного творчества детей и родителей способствовал развитию эмоций ребенка, вызвал чувство гордости за своих родителей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Мы вместе стремились, чтобы детям в группе было хорошо, уютно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обходимость творческого союза родителей и нас-воспитателей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4694400" y="-3519360"/>
            <a:ext cx="18532800" cy="138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Вместе развиваем мы у ребенка ум, характер, взгляды, от нас зависит насколько его жизнь будет наполнена посильным полезным трудом и добрыми поступкам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По теме «Использование разнообразных форм работы с семьёй с целью создания единого образовательного пространства»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Включенностью»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Посещение родительских собраний и консультаций; тематических занятий; участие в выставках, конкурсах, помощь родителей в оснащении педагогического процесса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Беседуем о том, что необходимо закаливать ребенка, одевать с учетом погоды, облегчая на сколько возможно одежду, позволять, чтобы дети ходили на полу в квартире и по траве босиком, проводить водные процедуры.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«Домашние обязанности детей. », «Книги у ребенка дома», «Детские капризы и упрямство, их причины», «Развитие правильной речи у ребенка»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7:12:10Z</dcterms:created>
  <dc:creator>1</dc:creator>
  <dc:description/>
  <dc:language>en-US</dc:language>
  <cp:lastModifiedBy>1</cp:lastModifiedBy>
  <dcterms:modified xsi:type="dcterms:W3CDTF">2012-11-28T17:47:42Z</dcterms:modified>
  <cp:revision>2</cp:revision>
  <dc:subject/>
  <dc:title>Работа с родителями </dc:title>
</cp:coreProperties>
</file>