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81D-505B-4027-B0E0-EC88BF70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9EE-98EC-400B-BF38-A6F97A3E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442-69F3-44EE-88C8-EAD32C6E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930-0DD3-42EF-BBD6-98D997CE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DC39-D271-45A4-9979-A68C16AE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9939-1551-42AA-B25F-26DD6638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C962-DC3A-48AF-AC2D-B5FD058E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22EA-495E-46DD-A9E9-88D5C3C0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C93B-DC1D-4AAF-9442-C1D18A1C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CBB8-CFBF-42CA-9749-909D519D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A692-CCE0-43FF-82E0-8DBE01C3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91D-5A4F-42D5-9519-C6A14601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9597-1EBB-4E38-9A62-811989E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377C-ADB5-472E-A951-F82B0E3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26A7-8B65-424F-921D-5461A50E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5302-7939-45D3-B799-C8946A23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02DB-DF4F-4A05-8C19-9D9D2F40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2FB-9AF9-4A7E-9A3C-05EB248E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940-8432-45BB-9162-08EF0237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764-A1E1-4679-AE4C-12AA9786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0F1-7509-419F-8703-0C1E3F31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281-2DC6-4ED5-8314-F50D586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82A-A6EC-42CE-AA69-3659321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687-A658-47DA-A306-BF2F41BB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65EC-C3DB-4C85-B006-E9BE203231F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2D04-CB56-483C-94F7-37EE0C86F56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Работа с родителями</a:t>
            </a: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агитова Л.Г 10 групп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Основная цель таких мероприятий – укрепление детско-родительских отношений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Результат совместного творчества детей и родителей способствовал развитию эмоций ребенка, вызвал чувство гордости за своих родителей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Мы вместе стремились, чтобы детям в группе было хорошо, уютно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еобходимость творческого союза родителей и нас-воспитателей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4694400" y="-3519360"/>
            <a:ext cx="18532800" cy="138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Вместе развиваем мы у ребенка ум, характер, взгляды, от нас зависит насколько его жизнь будет наполнена посильным полезным трудом и добрыми поступками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По теме «Использование разнообразных форм работы с семьёй с целью создания единого образовательного пространства»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Включенностью»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Посещение родительских собраний и консультаций; тематических занятий; участие в выставках, конкурсах, помощь родителей в оснащении педагогического процесса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Беседуем о том, что необходимо закаливать ребенка, одевать с учетом погоды, облегчая на сколько возможно одежду, позволять, чтобы дети ходили на полу в квартире и по траве босиком, проводить водные процедуры.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«Домашние обязанности детей. », «Книги у ребенка дома», «Детские капризы и упрямство, их причины», «Развитие правильной речи у ребенка»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7:12:10Z</dcterms:created>
  <dc:creator>1</dc:creator>
  <dc:description/>
  <dc:language>en-US</dc:language>
  <cp:lastModifiedBy>1</cp:lastModifiedBy>
  <dcterms:modified xsi:type="dcterms:W3CDTF">2012-11-28T17:47:42Z</dcterms:modified>
  <cp:revision>2</cp:revision>
  <dc:subject/>
  <dc:title>Работа с родителями </dc:title>
</cp:coreProperties>
</file>