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1ED-0C77-4F34-B65F-925F9673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CB2-C770-4730-B4C7-438E719F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449-2388-4FC9-8358-E734FEBE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478-D355-4854-960A-73474ECB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33D7-2D5D-42E4-9F55-EC581FED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D04B-9A6B-4865-BFF9-C27A2CA5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9D2C-174F-4668-802F-E0F0759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2AE4-2BC6-4A9A-8FAC-5883EDA0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9E73-F85A-450A-9C44-E7BA6194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3DFD-92FA-441E-93ED-CF7109DC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5544-8A78-46DC-8F38-1A87E419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297-5024-4A2E-BEED-F3B64070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4A0C-67D2-4EDC-A60C-EEB2CF01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902D-587B-4356-B1E8-6170789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026E-EF12-4A43-B61B-6613B8BF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D10A-C08B-4900-9AB0-34FACE02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A835-84D2-4460-AF05-6D81307F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DE9-B14C-40B5-9A17-99DFB411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AA1-3D2C-454C-8AEF-0CDD3B52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ADA-9F62-4D6C-819F-C1C1DFAC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A33-58B3-47FA-BAC1-D41C7E7F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81B-C84C-42C1-9604-640B16EB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B95-09F9-489D-9C26-FEEB98D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DAE-4B8A-4542-A245-39E7388D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578A-39F9-42C1-B1D1-14F02AAD18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E225-51D6-4C71-AE5D-AB94931529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360" y="2924280"/>
            <a:ext cx="561672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66"/>
                </a:solidFill>
                <a:latin typeface="Adobe Caslon Pro"/>
              </a:rPr>
              <a:t>Развитие мелкой моторики с помощью дидактических игр в разных областях образовательной деятельности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Подбери слово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5" descr="IMG_9978"/>
          <p:cNvPicPr/>
          <p:nvPr/>
        </p:nvPicPr>
        <p:blipFill>
          <a:blip r:embed="rId1"/>
          <a:stretch/>
        </p:blipFill>
        <p:spPr>
          <a:xfrm>
            <a:off x="1500120" y="1714680"/>
            <a:ext cx="62388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Разноцветные звуки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6" descr="IMG_9977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MG_9971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. «Весёлые шнурочки» - помогает ребенку развить чувство ритмичности, координировать работу обеих рук.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8" descr="1"/>
          <p:cNvPicPr/>
          <p:nvPr/>
        </p:nvPicPr>
        <p:blipFill>
          <a:blip r:embed="rId1"/>
          <a:stretch/>
        </p:blipFill>
        <p:spPr>
          <a:xfrm>
            <a:off x="457200" y="208764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2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3. Игры с камушками , семенами , ракушками и плодами - создаются узоры и пейзажи, развивается творческое воображение, закрепить зрительные образы букв , цифр и предметов 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10" descr="IMG_0001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MG_9960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IMG_9962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MG_0002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 Игры с прищепками в разных образовательный областя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«Дополни предмет» (Солнышку – лучики , ёжику – иголочки , дереву – веточки и др.)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6" descr="IMG_9925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MG_9989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IMG_9994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IMG_9982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Найди стороны и углы геометрических фигу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6" descr="IMG_0015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IMG_0017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IMG_0018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IMG_0019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кая моторика - одна из сторон двигательной сферы, которая непосредственно связана с овладением предметными действиями, развитием продуктивных видов деятельности, письмом, речью ребенка. В процессе развития мелкой моторики решаются следующие задачи: развивается словарный запас, совершенствуется зрительно-двигательная координация, ориентировка в микропространстве, укрепляется мелкая мускулатура пальцев р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Сделай столько же» (Количество и счёт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IMG_9927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IMG_9930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IMG_9931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IMG_9933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Сколько звуков » , «На каком месте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5" name="Picture 6" descr="IMG_9943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IMG_9938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IMG_9939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IMG_9935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5. Игры  с пробками 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5" descr="IMG_0014"/>
          <p:cNvPicPr/>
          <p:nvPr/>
        </p:nvPicPr>
        <p:blipFill>
          <a:blip r:embed="rId1"/>
          <a:stretch/>
        </p:blipFill>
        <p:spPr>
          <a:xfrm>
            <a:off x="1979640" y="1844640"/>
            <a:ext cx="58071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Путешествие крышечки»  (Ориентировка, счет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Picture 5" descr="IMG_0020"/>
          <p:cNvPicPr/>
          <p:nvPr/>
        </p:nvPicPr>
        <p:blipFill>
          <a:blip r:embed="rId1"/>
          <a:stretch/>
        </p:blipFill>
        <p:spPr>
          <a:xfrm>
            <a:off x="2124000" y="2060640"/>
            <a:ext cx="53755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Дополни предмет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Picture 7" descr="IMG_0012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IMG_0009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Сделай бусы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Picture 5" descr="IMG_0010"/>
          <p:cNvPicPr/>
          <p:nvPr/>
        </p:nvPicPr>
        <p:blipFill>
          <a:blip r:embed="rId1"/>
          <a:stretch/>
        </p:blipFill>
        <p:spPr>
          <a:xfrm>
            <a:off x="1619280" y="1700280"/>
            <a:ext cx="60228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Составь узо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Picture 5" descr="IMG_0003"/>
          <p:cNvPicPr/>
          <p:nvPr/>
        </p:nvPicPr>
        <p:blipFill>
          <a:blip r:embed="rId1"/>
          <a:stretch/>
        </p:blipFill>
        <p:spPr>
          <a:xfrm>
            <a:off x="1908000" y="2205000"/>
            <a:ext cx="508644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6. Игры с мозаико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Picture 6" descr="IMG_9945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IMG_9948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оей работе мы используем  разные дидактические игры  как средство развития мелкой мотор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1.Игры с резин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закрепление графического изображения , развитие фантазии и воображения , закрепление звукового состава слова , определение места буквы в слов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IMG_9966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IMG_9965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7. Игры с бросовым материалом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6" name="Picture 5" descr="IMG_9963"/>
          <p:cNvPicPr/>
          <p:nvPr/>
        </p:nvPicPr>
        <p:blipFill>
          <a:blip r:embed="rId1"/>
          <a:stretch/>
        </p:blipFill>
        <p:spPr>
          <a:xfrm>
            <a:off x="1835280" y="1989000"/>
            <a:ext cx="55195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«Что из чего» (Знакомим детей с материалами,  из которых сделаны разные предметы : дерево,  металл, пластмасса , резина и др.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8" name="Picture 5" descr="IMG_9951"/>
          <p:cNvPicPr/>
          <p:nvPr/>
        </p:nvPicPr>
        <p:blipFill>
          <a:blip r:embed="rId1"/>
          <a:stretch/>
        </p:blipFill>
        <p:spPr>
          <a:xfrm>
            <a:off x="2627280" y="2492280"/>
            <a:ext cx="494352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Разложи по цвету и  количеству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0" name="Picture 5" descr="IMG_9963"/>
          <p:cNvPicPr/>
          <p:nvPr/>
        </p:nvPicPr>
        <p:blipFill>
          <a:blip r:embed="rId1"/>
          <a:stretch/>
        </p:blipFill>
        <p:spPr>
          <a:xfrm>
            <a:off x="1835280" y="2060640"/>
            <a:ext cx="537516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-  «Найди насекомое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5" descr="IMG_9949"/>
          <p:cNvPicPr/>
          <p:nvPr/>
        </p:nvPicPr>
        <p:blipFill>
          <a:blip r:embed="rId1"/>
          <a:stretch/>
        </p:blipFill>
        <p:spPr>
          <a:xfrm>
            <a:off x="2124000" y="1916280"/>
            <a:ext cx="57358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8. Игры  с пуговицам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5" descr="IMG_0005"/>
          <p:cNvPicPr/>
          <p:nvPr/>
        </p:nvPicPr>
        <p:blipFill>
          <a:blip r:embed="rId1"/>
          <a:stretch/>
        </p:blipFill>
        <p:spPr>
          <a:xfrm>
            <a:off x="1979640" y="2060640"/>
            <a:ext cx="54468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Укрась предмет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6" name="Picture 6" descr="IMG_0006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MG_0008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тическая работа в данном направлении позволяет достичь следующих положительных результатов: дети стали более внимательны, усидчивы, больше общаются с воспитателем и сверстниками, пополнился словарный запас слов,  кисть приобретает хорошую подвижность, гибкость, исчезает скованность движений, меняется нажим, что в дальнейшем помогает детям легко овладеть навыком письм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Умные резиночки » (Планшет с гвоздиками)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3" name="Picture 5" descr="IMG_9920"/>
          <p:cNvPicPr/>
          <p:nvPr/>
        </p:nvPicPr>
        <p:blipFill>
          <a:blip r:embed="rId1"/>
          <a:stretch/>
        </p:blipFill>
        <p:spPr>
          <a:xfrm>
            <a:off x="1547640" y="1557360"/>
            <a:ext cx="61675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Выложи букву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Picture 5" descr="IMG_9919"/>
          <p:cNvPicPr/>
          <p:nvPr/>
        </p:nvPicPr>
        <p:blipFill>
          <a:blip r:embed="rId1"/>
          <a:stretch/>
        </p:blipFill>
        <p:spPr>
          <a:xfrm>
            <a:off x="1692360" y="1700280"/>
            <a:ext cx="597672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Выложи геометрическую фигуру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Picture 5" descr="IMG_9918"/>
          <p:cNvPicPr/>
          <p:nvPr/>
        </p:nvPicPr>
        <p:blipFill>
          <a:blip r:embed="rId1"/>
          <a:stretch/>
        </p:blipFill>
        <p:spPr>
          <a:xfrm>
            <a:off x="1979640" y="1700280"/>
            <a:ext cx="60228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Выложи предмет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Picture 7" descr="IMG_9961"/>
          <p:cNvPicPr/>
          <p:nvPr/>
        </p:nvPicPr>
        <p:blipFill>
          <a:blip r:embed="rId1"/>
          <a:stretch/>
        </p:blipFill>
        <p:spPr>
          <a:xfrm>
            <a:off x="1908000" y="1773360"/>
            <a:ext cx="609444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Придумай узор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Picture 5" descr="IMG_9921"/>
          <p:cNvPicPr/>
          <p:nvPr/>
        </p:nvPicPr>
        <p:blipFill>
          <a:blip r:embed="rId1"/>
          <a:stretch/>
        </p:blipFill>
        <p:spPr>
          <a:xfrm>
            <a:off x="1979640" y="1700280"/>
            <a:ext cx="5951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Буква спряталась»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6" descr="IMG_9971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IMG_9972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0:05:56Z</dcterms:created>
  <dc:creator>Customer</dc:creator>
  <dc:description/>
  <dc:language>en-US</dc:language>
  <cp:lastModifiedBy>Admin</cp:lastModifiedBy>
  <dcterms:modified xsi:type="dcterms:W3CDTF">2012-12-23T17:25:06Z</dcterms:modified>
  <cp:revision>8</cp:revision>
  <dc:subject/>
  <dc:title>Развитие мелкой моторики с помощью дидактических игр в разных областях образовательной деятельности.</dc:title>
</cp:coreProperties>
</file>