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AFA-4430-43AC-9F08-01304E8A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000-F5A0-4E5B-97A0-2BCB1E17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D5C5-8A3E-48D4-B670-8947346A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CD1-8712-4E00-835B-B5845FFA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9EB4-3929-462B-8BF2-EECFD02F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9FD6-DBC7-4CE1-8DE0-5831EABB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FDFC-BD13-4CCB-AA85-B33CB455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6264-25CC-465D-B050-9A86B0EC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0C09-2F45-4C75-BA78-F3AF975A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AFE3-AA13-4F6B-8384-7F88D8A7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E769-07A0-4671-91E8-0EF09778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4DD-9A59-4D5A-992A-1FBE85C5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4E32-A243-42D7-82B3-BD89CD7A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01A7-56E1-4788-8914-BF488724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0EDF-1F7B-4D89-BA9E-43DE6F6B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7597-EFD0-44E9-A997-041038ED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6F50-DA1C-4571-A3BC-10189AA0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A35-7063-4E8D-AF0D-219A3F96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79A-0C5F-4E2A-B20E-99C66FE2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B95-D04F-41DB-B58C-83F5EDF4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D85-7131-4A99-AD9D-265899AB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9C63-1D7F-4021-8AF5-292F0FD8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9C0-5931-4A98-9E2C-FA80C2CB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B181-1441-442D-91BF-9C94C615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8061-F20B-4D06-A674-779199BC9E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E6B7-BC85-4CCD-BD40-C518A99471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360" y="2924280"/>
            <a:ext cx="5616720" cy="27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66"/>
                </a:solidFill>
                <a:latin typeface="Adobe Caslon Pro"/>
              </a:rPr>
              <a:t>Развитие мелкой моторики с помощью дидактических игр в разных областях образовательной деятельности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Подбери слово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Picture 5" descr="IMG_9978"/>
          <p:cNvPicPr/>
          <p:nvPr/>
        </p:nvPicPr>
        <p:blipFill>
          <a:blip r:embed="rId1"/>
          <a:stretch/>
        </p:blipFill>
        <p:spPr>
          <a:xfrm>
            <a:off x="1500120" y="1714680"/>
            <a:ext cx="623880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Разноцветные звуки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6" descr="IMG_9977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IMG_9971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. «Весёлые шнурочки» - помогает ребенку развить чувство ритмичности, координировать работу обеих рук.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Picture 8" descr="1"/>
          <p:cNvPicPr/>
          <p:nvPr/>
        </p:nvPicPr>
        <p:blipFill>
          <a:blip r:embed="rId1"/>
          <a:stretch/>
        </p:blipFill>
        <p:spPr>
          <a:xfrm>
            <a:off x="457200" y="2087640"/>
            <a:ext cx="4038480" cy="367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2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3. Игры с камушками , семенами , ракушками и плодами - создаются узоры и пейзажи, развивается творческое воображение, закрепить зрительные образы букв , цифр и предметов 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10" descr="IMG_0001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IMG_9960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IMG_9962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IMG_0002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 Игры с прищепками в разных образовательный областях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«Дополни предмет» (Солнышку – лучики , ёжику – иголочки , дереву – веточки и др.)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Picture 6" descr="IMG_9925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IMG_9989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1" descr="IMG_9994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IMG_9982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Найди стороны и углы геометрических фигур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Picture 6" descr="IMG_0015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IMG_0017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IMG_0018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IMG_0019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лкая моторика - одна из сторон двигательной сферы, которая непосредственно связана с овладением предметными действиями, развитием продуктивных видов деятельности, письмом, речью ребенка. В процессе развития мелкой моторики решаются следующие задачи: развивается словарный запас, совершенствуется зрительно-двигательная координация, ориентировка в микропространстве, укрепляется мелкая мускулатура пальцев ру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Сделай столько же» (Количество и счёт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6" descr="IMG_9927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IMG_9930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7" descr="IMG_9931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IMG_9933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Сколько звуков » , «На каком месте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5" name="Picture 6" descr="IMG_9943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IMG_9938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IMG_9939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IMG_9935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5. Игры  с пробками 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5" descr="IMG_0014"/>
          <p:cNvPicPr/>
          <p:nvPr/>
        </p:nvPicPr>
        <p:blipFill>
          <a:blip r:embed="rId1"/>
          <a:stretch/>
        </p:blipFill>
        <p:spPr>
          <a:xfrm>
            <a:off x="1979640" y="1844640"/>
            <a:ext cx="580716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Путешествие крышечки»  (Ориентировка, счет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Picture 5" descr="IMG_0020"/>
          <p:cNvPicPr/>
          <p:nvPr/>
        </p:nvPicPr>
        <p:blipFill>
          <a:blip r:embed="rId1"/>
          <a:stretch/>
        </p:blipFill>
        <p:spPr>
          <a:xfrm>
            <a:off x="2124000" y="2060640"/>
            <a:ext cx="537552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Дополни предмет»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Picture 7" descr="IMG_0012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IMG_0009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Сделай бусы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" name="Picture 5" descr="IMG_0010"/>
          <p:cNvPicPr/>
          <p:nvPr/>
        </p:nvPicPr>
        <p:blipFill>
          <a:blip r:embed="rId1"/>
          <a:stretch/>
        </p:blipFill>
        <p:spPr>
          <a:xfrm>
            <a:off x="1619280" y="1700280"/>
            <a:ext cx="602280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Составь узор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Picture 5" descr="IMG_0003"/>
          <p:cNvPicPr/>
          <p:nvPr/>
        </p:nvPicPr>
        <p:blipFill>
          <a:blip r:embed="rId1"/>
          <a:stretch/>
        </p:blipFill>
        <p:spPr>
          <a:xfrm>
            <a:off x="1908000" y="2205000"/>
            <a:ext cx="508644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6. Игры с мозаикой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1" name="Picture 6" descr="IMG_9945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IMG_9948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воей работе мы используем  разные дидактические игры  как средство развития мелкой мотор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1.Игры с резинк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закрепление графического изображения , развитие фантазии и воображения , закрепление звукового состава слова , определение места буквы в слов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IMG_9966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IMG_9965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7. Игры с бросовым материалом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6" name="Picture 5" descr="IMG_9963"/>
          <p:cNvPicPr/>
          <p:nvPr/>
        </p:nvPicPr>
        <p:blipFill>
          <a:blip r:embed="rId1"/>
          <a:stretch/>
        </p:blipFill>
        <p:spPr>
          <a:xfrm>
            <a:off x="1835280" y="1989000"/>
            <a:ext cx="55195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«Что из чего» (Знакомим детей с материалами,  из которых сделаны разные предметы : дерево,  металл, пластмасса , резина и др.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8" name="Picture 5" descr="IMG_9951"/>
          <p:cNvPicPr/>
          <p:nvPr/>
        </p:nvPicPr>
        <p:blipFill>
          <a:blip r:embed="rId1"/>
          <a:stretch/>
        </p:blipFill>
        <p:spPr>
          <a:xfrm>
            <a:off x="2627280" y="2492280"/>
            <a:ext cx="494352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Разложи по цвету и  количеству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0" name="Picture 5" descr="IMG_9963"/>
          <p:cNvPicPr/>
          <p:nvPr/>
        </p:nvPicPr>
        <p:blipFill>
          <a:blip r:embed="rId1"/>
          <a:stretch/>
        </p:blipFill>
        <p:spPr>
          <a:xfrm>
            <a:off x="1835280" y="2060640"/>
            <a:ext cx="537516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-  «Найди насекомое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2" name="Picture 5" descr="IMG_9949"/>
          <p:cNvPicPr/>
          <p:nvPr/>
        </p:nvPicPr>
        <p:blipFill>
          <a:blip r:embed="rId1"/>
          <a:stretch/>
        </p:blipFill>
        <p:spPr>
          <a:xfrm>
            <a:off x="2124000" y="1916280"/>
            <a:ext cx="57358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8. Игры  с пуговицам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4" name="Picture 5" descr="IMG_0005"/>
          <p:cNvPicPr/>
          <p:nvPr/>
        </p:nvPicPr>
        <p:blipFill>
          <a:blip r:embed="rId1"/>
          <a:stretch/>
        </p:blipFill>
        <p:spPr>
          <a:xfrm>
            <a:off x="1979640" y="2060640"/>
            <a:ext cx="54468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Укрась предмет»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6" name="Picture 6" descr="IMG_0006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IMG_0008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тическая работа в данном направлении позволяет достичь следующих положительных результатов: дети стали более внимательны, усидчивы, больше общаются с воспитателем и сверстниками, пополнился словарный запас слов,  кисть приобретает хорошую подвижность, гибкость, исчезает скованность движений, меняется нажим, что в дальнейшем помогает детям легко овладеть навыком письм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Умные резиночки » (Планшет с гвоздиками).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3" name="Picture 5" descr="IMG_9920"/>
          <p:cNvPicPr/>
          <p:nvPr/>
        </p:nvPicPr>
        <p:blipFill>
          <a:blip r:embed="rId1"/>
          <a:stretch/>
        </p:blipFill>
        <p:spPr>
          <a:xfrm>
            <a:off x="1547640" y="1557360"/>
            <a:ext cx="61675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Выложи букву»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5" name="Picture 5" descr="IMG_9919"/>
          <p:cNvPicPr/>
          <p:nvPr/>
        </p:nvPicPr>
        <p:blipFill>
          <a:blip r:embed="rId1"/>
          <a:stretch/>
        </p:blipFill>
        <p:spPr>
          <a:xfrm>
            <a:off x="1692360" y="1700280"/>
            <a:ext cx="597672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Выложи геометрическую фигуру»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Picture 5" descr="IMG_9918"/>
          <p:cNvPicPr/>
          <p:nvPr/>
        </p:nvPicPr>
        <p:blipFill>
          <a:blip r:embed="rId1"/>
          <a:stretch/>
        </p:blipFill>
        <p:spPr>
          <a:xfrm>
            <a:off x="1979640" y="1700280"/>
            <a:ext cx="602280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Выложи предмет»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9" name="Picture 7" descr="IMG_9961"/>
          <p:cNvPicPr/>
          <p:nvPr/>
        </p:nvPicPr>
        <p:blipFill>
          <a:blip r:embed="rId1"/>
          <a:stretch/>
        </p:blipFill>
        <p:spPr>
          <a:xfrm>
            <a:off x="1908000" y="1773360"/>
            <a:ext cx="609444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Придумай узор»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1" name="Picture 5" descr="IMG_9921"/>
          <p:cNvPicPr/>
          <p:nvPr/>
        </p:nvPicPr>
        <p:blipFill>
          <a:blip r:embed="rId1"/>
          <a:stretch/>
        </p:blipFill>
        <p:spPr>
          <a:xfrm>
            <a:off x="1979640" y="1700280"/>
            <a:ext cx="5951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Буква спряталась»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Picture 6" descr="IMG_9971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IMG_9972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0:05:56Z</dcterms:created>
  <dc:creator>Customer</dc:creator>
  <dc:description/>
  <dc:language>en-US</dc:language>
  <cp:lastModifiedBy>Admin</cp:lastModifiedBy>
  <dcterms:modified xsi:type="dcterms:W3CDTF">2012-12-23T17:25:06Z</dcterms:modified>
  <cp:revision>8</cp:revision>
  <dc:subject/>
  <dc:title>Развитие мелкой моторики с помощью дидактических игр в разных областях образовательной деятельности.</dc:title>
</cp:coreProperties>
</file>