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E76-6EC6-4FF9-AF86-8BA52298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7C7-7409-412C-85AC-791A3647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B8F-5B17-4D54-A656-56A32B07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4B9-474D-4CFD-A034-88CD00F6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4E9-DE1C-4FD3-8A70-70B1F7E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C26-0D2C-4C17-9E8A-2F9C58D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551-0A65-4C36-B650-A4F9F4B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D34-047A-4D9F-80B7-C5651079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361-2805-4620-9A3F-AA9E463D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D11-54B5-40D9-87A9-5DA0E9B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161-AC11-4DA7-B16D-8A1F571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C19-A253-4A7A-ADC2-8965364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B73-CCC4-4890-AD25-B8F31EBB3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Blackadder ITC"/>
              </a:rPr>
              <a:t>Двадцать первое ноября.</a:t>
            </a:r>
            <a:br>
              <a:rPr sz="6000"/>
            </a:br>
            <a:r>
              <a:rPr b="0" i="1" lang="en-US" sz="6000" spc="-1" strike="noStrike">
                <a:solidFill>
                  <a:srgbClr val="0000ff"/>
                </a:solidFill>
                <a:latin typeface="Blackadder ITC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284280"/>
            <a:ext cx="80643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Дерево валят туда, куда оно нагнулось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Каков Пахом, такова и шапка на нем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Надо отдать справедливость тому, кто возглавлял следствие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Тот человек, который любит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родину, должен служить 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устал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а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 мог идти дальше.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уста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ак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е мог идти дальше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параграф 207, упр. 8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91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избало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онельзя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жалюзи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закупор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звонит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амбала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остюмиро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ринуд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ща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1988640"/>
            <a:ext cx="712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изба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льзя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жалю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за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р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озв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т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мбала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остюми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ванный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при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дить</a:t>
            </a:r>
            <a:br>
              <a:rPr sz="4000"/>
            </a:b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щав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8595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Bodoni MT Condensed"/>
              </a:rPr>
              <a:t>Тема урока: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Bodoni MT Condensed"/>
              </a:rPr>
              <a:t>« Роль указательных слов в подчинении предложений 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Знаю я </a:t>
            </a: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 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в той стране не будет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Этих нив златящихся во мг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Оттого и дороги мне люди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живут со мною на зем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                                                           С.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Знаю я,  </a:t>
            </a: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в той стране не будет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Этих нив, златящихся во мг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Оттого и дороги мне люди,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lackadder ITC"/>
              </a:rPr>
              <a:t>Что</a:t>
            </a: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живут со мною на земле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lackadder ITC"/>
              </a:rPr>
              <a:t>                                                            С.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тому что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чтобы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ак 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будт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огда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где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словно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акой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который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   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т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что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,2        2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куда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если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точно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ока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           1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л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Никогда не беспокой друг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что можешь сделать сам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Я бы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где никто из вас 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ыл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ни сид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 т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аду, где игра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Baskerville Old Face"/>
              </a:rPr>
              <a:t>1.  служат</a:t>
            </a: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 для связи главного и придаточного  предложений;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2.   помогают выяснить вид придаточного;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Edwardian Script ITC"/>
              </a:rPr>
              <a:t>3.   помогают выделить в главном то слово или словосочетание, которое поясняется придаточ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4:49:16Z</dcterms:created>
  <dc:creator>Витя</dc:creator>
  <dc:description/>
  <dc:language>en-US</dc:language>
  <cp:lastModifiedBy>Витя</cp:lastModifiedBy>
  <dcterms:modified xsi:type="dcterms:W3CDTF">2007-11-20T21:28:49Z</dcterms:modified>
  <cp:revision>3</cp:revision>
  <dc:subject/>
  <dc:title>Тема урока:  « Роль указательных слов в подчинении предложений».</dc:title>
</cp:coreProperties>
</file>