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05C-05A2-4F1A-8950-8DD670E3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EFB-F3AF-49A7-87F6-28748F0C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549-0C99-4598-A7B6-DF65B1E5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EAF-FF87-4571-8C54-A8F9FE06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971-55BA-4D40-8644-0FB3ED8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BEA-F936-4FA2-AE8B-5AEAB749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EB8-72B0-403E-A588-B25EAC62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BD4-E63B-47E0-A98C-9BA49978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095-4E1E-476A-B5D0-D1584327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EF9-11A6-4452-AB89-3F21BE76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26B-EA5D-4E93-B92C-6006A5EE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FFA-39E4-4019-8EA2-566B333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E1B4-C68A-497C-970D-FEB161AB4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Blackadder ITC"/>
              </a:rPr>
              <a:t>Двадцать первое ноября.</a:t>
            </a:r>
            <a:br>
              <a:rPr sz="6000"/>
            </a:br>
            <a:r>
              <a:rPr b="0" i="1" lang="en-US" sz="6000" spc="-1" strike="noStrike">
                <a:solidFill>
                  <a:srgbClr val="0000ff"/>
                </a:solidFill>
                <a:latin typeface="Blackadder ITC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284280"/>
            <a:ext cx="80643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Дерево валят туда, куда оно нагнулось.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Каков Пахом, такова и шапка на нем.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Надо отдать справедливость тому, кто возглавлял следствие.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Тот человек, который любит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родину, должен служить 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 устал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а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чт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не мог идти дальше.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 уста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ак чт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не мог идти дальше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параграф 207, упр. 8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991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избалованный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донельзя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жалюзи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закупорить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озвонит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амбала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остюмированный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ринудить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щав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0" y="1988640"/>
            <a:ext cx="712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изба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ванный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до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льзя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жалюз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за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орить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озво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т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мбала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остюми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ванный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ри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дить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щав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8595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Bodoni MT Condensed"/>
              </a:rPr>
              <a:t>Тема урока: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Bodoni MT Condensed"/>
              </a:rPr>
              <a:t>« Роль указательных слов в подчинении предложений 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Знаю я </a:t>
            </a:r>
            <a:r>
              <a:rPr b="0" lang="en-US" sz="4400" spc="-1" strike="noStrike">
                <a:solidFill>
                  <a:srgbClr val="a50021"/>
                </a:solidFill>
                <a:latin typeface="Blackadder ITC"/>
              </a:rPr>
              <a:t>что </a:t>
            </a: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в той стране не будет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Этих нив златящихся во мгле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Оттого и дороги мне люди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Blackadder ITC"/>
              </a:rPr>
              <a:t>Что</a:t>
            </a: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живут со мною на земле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                                                           С. 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Знаю я,  </a:t>
            </a:r>
            <a:r>
              <a:rPr b="0" lang="en-US" sz="4400" spc="-1" strike="noStrike">
                <a:solidFill>
                  <a:srgbClr val="a50021"/>
                </a:solidFill>
                <a:latin typeface="Blackadder ITC"/>
              </a:rPr>
              <a:t>что</a:t>
            </a: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в той стране не будет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Этих нив, златящихся во мгле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Оттого и дороги мне люди,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Blackadder ITC"/>
              </a:rPr>
              <a:t>Что</a:t>
            </a: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живут со мною на земле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                                                           С. 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отому что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           1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чтобы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как   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,2        1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будто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когда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,2        2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где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словно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           2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какой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который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           2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кто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что  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,2        2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куда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если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           1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точно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ока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           1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л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Никогда не беспокой друг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что можешь сделать сам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Я бы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а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где никто из вас н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ыл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ни сидел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 т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саду, где игра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ывод:</a:t>
            </a:r>
            <a:br>
              <a:rPr sz="3600"/>
            </a:br>
            <a:r>
              <a:rPr b="1" i="1" lang="en-US" sz="3600" spc="-1" strike="noStrike">
                <a:solidFill>
                  <a:srgbClr val="0000cc"/>
                </a:solidFill>
                <a:latin typeface="Baskerville Old Face"/>
              </a:rPr>
              <a:t>1.  служат</a:t>
            </a:r>
            <a:r>
              <a:rPr b="1" i="1" lang="en-US" sz="3600" spc="-1" strike="noStrike">
                <a:solidFill>
                  <a:srgbClr val="0000cc"/>
                </a:solidFill>
                <a:latin typeface="Edwardian Script ITC"/>
              </a:rPr>
              <a:t> для связи главного и придаточного  предложений;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cc"/>
                </a:solidFill>
                <a:latin typeface="Edwardian Script ITC"/>
              </a:rPr>
              <a:t>2.   помогают выяснить вид придаточного;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cc"/>
                </a:solidFill>
                <a:latin typeface="Edwardian Script ITC"/>
              </a:rPr>
              <a:t>3.   помогают выделить в главном то слово или словосочетание, которое поясняется придаточ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4:49:16Z</dcterms:created>
  <dc:creator>Витя</dc:creator>
  <dc:description/>
  <dc:language>en-US</dc:language>
  <cp:lastModifiedBy>Витя</cp:lastModifiedBy>
  <dcterms:modified xsi:type="dcterms:W3CDTF">2007-11-20T21:28:49Z</dcterms:modified>
  <cp:revision>3</cp:revision>
  <dc:subject/>
  <dc:title>Тема урока:  « Роль указательных слов в подчинении предложений».</dc:title>
</cp:coreProperties>
</file>