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0E98-40AB-4427-B8EB-480B00FC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50D3-6D8F-40A2-AB44-B18F028E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C6E5C-F0E2-4277-8256-14250426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0D6F8-F317-40D8-8741-05077C44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1F6F1-9634-4ED4-A34A-7BCADF0D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82332-ECAA-4F37-8AE8-9BBD45DF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3A3FA-26A7-4960-B9BC-F34363A8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06502-8286-4C21-8668-7DC64F81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09782-99B6-4584-9249-83523469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AF796-B564-4DF2-A9B0-AB7F8957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9F7B8-A96C-4455-B707-2553A0AB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CA203-7BA9-4114-A6A5-99B930AC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5019-BFF2-437D-B86B-BB2A2AD5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CDD64-621E-473A-9791-0879C340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74BFD-6183-4F6A-B9C8-DA7D792E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EBF69-4299-4933-AAD5-B28CFA84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866A6-0B28-4304-8DB7-772D2AE1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5A0FF-A54F-4215-9C0B-C21509AB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8B073-8E42-45EC-AC9C-ACF338FC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BE5A1-9052-41FC-8D71-AB9C9AD5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8F698-CCC6-44C5-9F16-20E7FF1F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47C57-AB5F-4825-902E-EF89F6CE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B6C9C-6222-41E8-AB53-CA0BACAC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B9C3-7132-4F21-B530-6E5F4427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1BD02-DDAD-4C7E-A5D2-75218023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A6315-EF3B-4C37-B033-215A09CB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D942E-1DC4-424F-9DEC-B3C70FD8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9D216-3A30-4CE1-8C48-AA8EB536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16B2A-B760-425C-AF6C-F61E9221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B8CAA-45AD-46FD-A382-EADAB15D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5A981-0EA7-44AC-9551-0D4D9BC4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6906B-847B-4219-BE7E-FEF28F0E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6DF21-EDE7-4417-B7AD-980005A9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D1247-BFBE-482A-9A2D-A1140514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F398-8247-4854-A157-591ED8E1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70ACF-67D6-43C1-80A9-BC553A86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181FF-D2AA-4600-A07A-DED9C663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58FCB-C77F-4436-9969-04F38424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1EFE9-6904-4099-9BCC-2B7100D9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467A9-BEE0-4E1F-989A-9521256C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5D51C-972A-430D-9350-D3D473F0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28617-6319-4F81-BF10-A95EBF3E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5EA34-592E-47C6-8668-419B3ACC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63CC1-AD0B-4F14-B9F8-E951E6C0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1063B-FDDD-4C0A-B09C-FEE4B49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9FD9-3C96-49FF-90D3-CCBD4795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C6134-8DAE-4CE9-90AD-D211ADB3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6CB9B-C681-4605-A390-3777CBAE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0623D-B616-4928-961C-6735C9A1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ED847-23CD-4939-85F4-070F0F2D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8CC70-4248-426E-879B-27850829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DEBD6-9C98-497B-83D0-95A3EB82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26775-A5F1-40F2-AA8A-705D94D4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61B69-7BF3-4A15-9D55-68111265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7E432-76E7-4A58-A39B-4F5A60B4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8598A-199E-4678-A0BA-1E2829D6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C7D6-5692-427F-A4DB-069B4569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3270C-7B2D-4555-AD30-D8A90364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53C0D-557F-4786-AB30-0A75381C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9D1AE-C823-44E7-A510-4FB9028A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D55B2-3BAC-4AB3-B040-226644B6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580AB-AC95-481E-8EA0-472F070C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93A75-68A7-45CE-8715-1CE9B67E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EB8C0-B03A-4B69-A738-73D191F0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4739AC-945B-4FD9-AFF6-44D14B75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72DC1-8152-499C-A762-C0B738B3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10586-5E5C-4BA4-914D-690EB6D5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046D-0F18-4ED5-9922-DF3CCEF1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0AA38-113B-4341-AFB9-3E108B81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1275E-2DE2-4A02-BB4D-55CDD902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42EF9-15CE-41C3-AFAB-61B82D03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77625-6927-4F1D-B540-47D94706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F42FC-9947-4A22-8BE8-EE9162C6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5A705-9F70-433F-AA90-AAB365C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67C0D-58D7-4EC2-8AD9-BB771F39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6A497-AA74-47AD-B231-7C8E0E18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217DD-A358-4329-A8A7-53ACFBB3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FB4E-2B2B-4CD9-8C22-2AE17C87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8DCF-7324-4AFF-8103-D1455EA3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681F-0F04-4D0E-8609-C960B74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B574-574D-426D-9425-C2E94CA9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C54C-A754-403B-A3F8-89B146B6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1D86-0AB6-46F2-B2E6-606D6D64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5309-B2AB-4C9B-A43D-86C7E6F3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62AB-E310-41D1-BE25-C522F021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0CF0-59AD-42A8-A1E7-50913DCA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C0AB-9643-4B50-AEF9-8880E939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A601-3D19-4597-BB88-2E116296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D715A-3D36-457E-8B1C-778639B8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86EA5-FE7B-4203-ADAB-6916EFFC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4CD1-4E83-4648-8260-A96C7D1F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4BA2-D988-411D-B01A-65DBB12F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DEFD-FAB2-4B47-B025-CE1F15F4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821D-DD3C-4F3C-8DFF-8B862ED3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A712-D15F-4C77-BBE9-CDF2076C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BD23-2728-4F5F-8E2F-057AB670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5E18E-9FE2-4D33-94FD-59DC7C32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5C17-80DB-4A96-829C-902F1DE8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BEB5-6103-41F7-8609-A7FB3F11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8123-FC84-4759-9DDF-A9D76E4A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9093-A282-4075-8070-A1F5C08C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E416-BB15-47A5-8EF6-A0C67819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4167-C344-46DB-A1E3-3D89E8B6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47B5-97C2-45E7-84B3-0FAAD91E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74A69-A3FC-4E60-8D0C-4C555779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586C-DCF6-4386-A422-A014A380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F2DA-16B7-4F6D-AC60-D8FB9A19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A42F6-87BF-4652-9131-4A9D9CDA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283E-5900-42D0-8574-3A8BBF01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0D637-30C7-4286-B675-0E74C4B3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8207-54E1-41EB-92FC-78B4066C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664CA-7CB0-44B4-B835-6C0644E0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E7E55-7025-41F4-B427-6EEA138A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17F1-9363-4B23-A353-49AE8A31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DB8F-AAA7-41AA-85AC-AE3BF7B2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03C12-C3BD-4759-A695-1778CD76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8669E-569E-4AED-8439-1D159D85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88012-59A6-4AE0-AB2C-08E1D639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95C86-8D7F-4050-A1B4-173AB882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6372F-7486-4988-961A-08F3F48A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3DD8-E589-4ED6-BD62-697655A8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2CB93-D9A0-492C-9551-7F929213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F1822-D28B-4899-89CF-75B4A219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152B7-6A93-46E9-92A1-680CCE5D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368A-6D16-423A-A764-DE1C1110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304B1-E9CA-4D15-A0FA-C5C14272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68CC9-EE82-43C8-90C6-0DBAEB3A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D1CD7-4B1B-4DBD-95E0-5BEB557F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1B5DA-F0E9-4608-B7E0-C80A6AA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FEB85-BE55-47DC-94E8-94915F7A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DE359-3C90-4818-B95A-E38BDAAF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74511-A441-460B-AD8B-1EEF7DCC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C4FDF-9E14-43EF-9A02-B1E9A051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33180-3D79-47E8-A14D-91947E50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27293-1AA3-4167-93EA-211ADD74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ABD9-F709-47D8-8066-3D5C3B13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7B337-2FAD-401B-A0B2-4B0E16F2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61FBA-C812-4654-989E-7DD5D795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75191-263D-4CA0-8647-CD4F5ABE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F13B3-7681-4CAA-AE00-66C4306C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C784B-79A6-4586-A660-8BCBE1E7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F24D7-106A-4F3F-A96D-763C4D10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D7BB1-0C61-4D49-BAA0-96A71D5A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5663A-9240-46EC-BEAB-A9C22389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CD8EB-6BF2-4230-BFA2-88F077CA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EBDE5-551C-408A-A52E-86638F28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FDB6-9AE8-45CD-85E0-C67A2D74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EC044-C1EC-45A5-A1F0-248929AC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1CE0C-A5FD-4EE8-99FE-1CAEED26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532E8-6C00-440C-ADBB-2B2CFAF5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37956-DF9C-4664-B0E1-B1B6AD2A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7AD89-EC01-4560-BA2C-09F1751D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BE2CD4-5B69-4DC6-B5B8-9AD86296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2B7CE7-F44C-4B20-830F-F5812E2A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05AA86-6055-4CEB-B058-FCF35152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A8EE0-545C-4A85-83DE-23448A47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45A86-437F-4C5F-94DC-2392B3F4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4464-CF8B-42BB-9D3E-FDD753A1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01ED19-C1D8-42A5-99AC-6DF2B278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96AA8C-5E71-43B5-8270-F67F56E6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8696C-654D-4D21-BF63-4F72E84A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E28B48-C4AD-463D-808E-EBE2970F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D1780-FFBB-4EE9-9B28-985E72B7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BE5B68-A501-4CD5-AF05-FADA0FFC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56E0FC-DCC9-4505-BC8B-92602CC1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944FB-9CAD-4BD6-A15E-CEEF9C46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2721D-08F5-4055-A4BB-DB3F5030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5EC7A-D943-4BAB-BC4A-B8C3FBCF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Unicode MS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1FDE-592F-48AA-8D33-57E34EBCCEA4}" type="slidenum"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0415-4221-430D-A5A6-16E7A73FB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7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8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0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2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261E-7C01-46F0-9153-D001B1CBA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7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7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9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0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2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3531-91AB-49C2-829E-7B0500DC9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8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313C-1F7A-4A8A-BCAD-9B3C9A51C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3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57D5-3C3E-42E3-B8DE-7A2706076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Unicode MS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C9B4-4191-44E7-B623-2A04DE25290F}" type="slidenum"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F4E6-F7E1-46D1-9205-7F7B5EA4451D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D35B-620F-4F7E-9373-B5402C19B4B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DB62-47A1-4038-BFC0-0905740E2E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1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2191-CE03-440B-A631-194CDB2D7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BCE8-F1B1-4ECA-9125-C35C72E9E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CE89-57CA-4859-BD5F-0678E3748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5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51EC-AA10-4D6D-ABB4-CF91E467E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Unicode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Дни поз..ней осени бр..нят обыкновенно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Но мне она мила читатель д..рого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расою тихою блиста..щей смиренно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Дни поздней осени бранят обыкновенно,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Но мне она мила, читатель дорогой,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расою тихою, блистающей смиренно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[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]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, но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[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]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55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 чтоб продлилась жизнь моя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Я утром должен быть уверен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то с вами днем увижусь я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о, чтоб продлилась жизнь моя,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Я утром должен быть уверен,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то с вами днем увижусь я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[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о, ( чтоб),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]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, (что)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ы белых лебедей кормила,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ткинув тяжесть черных кос…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Я рядом плыл; сошлись кормила;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катный луч был странно кос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В. Я. Брюсов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ы белых лебедей кормила,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ткинув тяжесть черных кос…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Я рядом плыл; сошлись кормила;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катный луч был странно кос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     В. Я. Брюсов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[    ]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;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[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]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;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[    ]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ое предложени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Союзное                                 Бессоюзное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[  ], интонация [  ]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осочиненное            Сложноподчиненно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  ] , сочинит. союз [  ] .      [  ], ( подчинит. союз).</a:t>
            </a:r>
            <a:br>
              <a:rPr sz="28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788000" y="2060640"/>
            <a:ext cx="1152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3634920" y="2060640"/>
            <a:ext cx="1295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788000" y="2060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59280" y="2852640"/>
            <a:ext cx="21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2268000" y="2852640"/>
            <a:ext cx="7909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10009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еред весной бывают дни такие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од плотным снегом отдыхает луг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Шумят деревья весело-сухие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теплый ветер нежен и упруг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легкости своей дивится тело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дома своего не узнаешь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А песню ту, что прежде надоел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Как новую, с волнением поешь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                              А. А. Ахмато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628280"/>
            <a:ext cx="78598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еред весной бывают дни такие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од плотным снегом отдыхает луг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Шумят деревья весело-сухие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теплый ветер нежен и упруг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легкости своей дивится тело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дома своего не узнаешь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А песню ту, что прежде надоел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Как новую, с волнением поешь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 Unicode MS"/>
              </a:rPr>
              <a:t>Четырнадцатое декабря.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 Unicode MS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47640" y="1988640"/>
            <a:ext cx="6400800" cy="3024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 Unicode MS"/>
              </a:rPr>
              <a:t>Заглянем же, как Пушкин встарь, 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Arial Unicode MS"/>
              </a:rPr>
              <a:t>в толковый наш словарь.</a:t>
            </a: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496728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диплома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дипломан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эмиграция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иммиграция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адреса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адресант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59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75582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эмиграция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иммиграция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адресан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адреса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диплома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дипломант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465e"/>
            </a:gs>
            <a:gs pos="50000">
              <a:srgbClr val="ff99cc"/>
            </a:gs>
            <a:gs pos="100000">
              <a:srgbClr val="7546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339640" y="2565000"/>
            <a:ext cx="5327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некр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лог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ж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люзи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ход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тайствовать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б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ловать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одопров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д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зак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порить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ка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лог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позвон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т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костюм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рованный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щ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ель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465e"/>
            </a:gs>
            <a:gs pos="50000">
              <a:srgbClr val="ff99cc"/>
            </a:gs>
            <a:gs pos="100000">
              <a:srgbClr val="7546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1908000" y="765000"/>
            <a:ext cx="5472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некр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О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л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о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г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ж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А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люз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и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б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А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лов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а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ть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кат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А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л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о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г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костюм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И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р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о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ванный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щ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А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в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е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ль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484360" y="306828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пахать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каюта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боюсь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съесть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24000" y="291600"/>
            <a:ext cx="882000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Тема урока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Виды сложных предложений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52:53Z</dcterms:created>
  <dc:creator>Витя</dc:creator>
  <dc:description/>
  <dc:language>en-US</dc:language>
  <cp:lastModifiedBy>Витя</cp:lastModifiedBy>
  <dcterms:modified xsi:type="dcterms:W3CDTF">2007-12-13T04:14:07Z</dcterms:modified>
  <cp:revision>3</cp:revision>
  <dc:subject/>
  <dc:title>Слайд 1</dc:title>
</cp:coreProperties>
</file>