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187E5-49F6-4F16-99BE-FA9B12B7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22C87-0EE0-4781-8DF8-BAC8DA03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46507-C2E1-4B09-8E77-87E94349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08B14-65C8-4B53-9651-CBED9681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07AD1-94F3-4E3F-AC32-1D0232D9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FBF5E-007D-40F3-8C29-E5E8D6F0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C038D-2F86-4721-82B7-967CDBF2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172EF-AA02-4730-AFC4-7581F9ED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5C8C8-BFDB-40EA-8FA3-7D6C5995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BD38B-5CE3-4E64-BFD1-E4A7ED97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A4E2A-2E5E-451C-AE1E-FBEFB837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F3F7A-5EBD-4070-B9DB-6F216134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1E02-92A6-47C9-98B4-E177AD30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E41F8-61BD-440C-9131-E56687B1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93540-22FB-496D-BF2E-793CFC8B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FD765-9071-4C99-B986-B79AA87F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35FF0-2A66-4775-9F47-CED2B12D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08F42-20E3-4484-932F-4707E260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202FA-1908-4759-AC90-6D066888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5D207-2CD9-4DC8-BFFF-D2B70270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AC780-335D-43CE-97B8-552FC60F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6CCBE-5D29-4B5E-913E-E770E416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E8E12-B83D-4900-A2B0-07B53D79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FE60F-FBD8-42C9-BB71-182AB1DD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04750-0ECF-48C4-8A4D-29665CFB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B184F-CB42-4435-A6CE-77EEF09C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4FE6D-B37D-4139-9504-0F72B25D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E3791-F806-4479-A5D5-17C2A056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05C91-8FF7-4A55-9402-4D845D47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1F4BB-6500-491E-8085-64179362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0352D-2ED9-489D-AEDB-13C6C28F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EDFA7-88B1-4904-A077-ACEF2DCB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A2B6C-2659-4E7A-A400-89D62453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69DDB-72CA-4CEB-B426-B0ADF121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FC7C-A9BA-42B7-8332-978D19D5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2B964-20ED-4302-90AE-40219483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79242-11B2-4E33-B93A-07072065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0A2F5-A6F4-4780-A3AB-62B9AF68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36872-1EE5-4597-A5C1-350C0805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6CDD7-7478-4CA1-8025-D94B2CAA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46A55-3B3A-46DF-8D10-A4468FAB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33AFE-D3A4-4D06-AC74-6350E7CD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60BE7-8D8E-4B65-AAFA-8D51D718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AFE83-6DF6-49F1-AD83-998DE252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6D2C8-4D2C-4EDE-ABFF-08B8581D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BEB3-3291-4E5D-BD84-20DB2568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8F233-D518-420F-8375-22797FA0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29A64-F830-4716-A8EA-D394690C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F39F7-A070-450B-8736-1C9C810F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771E2-126B-483A-9EDD-56527A89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0A883-D2C7-4517-A92B-904CDE61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5B256-B5CE-4257-B144-E6C2839F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B97849-9DAA-426A-97D6-AF4D3D94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54669E-807D-4F92-96F0-63F5B7BB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EEFC2-7292-425F-A9D3-9A7A85E7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732B1-CAB1-4D59-867B-5232D9B3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DEAE-F62A-4833-958A-A5EB3240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FD110-FB97-47C4-B4A8-68190698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8FD70-9555-49DE-974C-A8B10274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34EA2-EF03-41D1-98EE-75E21BA4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B619A-29DC-4D2E-AE65-80B23180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49E4E-17D0-43E1-BF71-E86F734B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CF9D8B-0CFC-492E-B216-6F970A3D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54A69-EFBF-4139-BCBD-27EE8D26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E08BF1-14AD-45A7-88D9-EE54F594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7CF6C4-70A7-4681-A4CE-9BE1CEF3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2A79C6-C8CC-45FB-8DD6-B7EFAA4B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06A0-E316-4A97-AC1E-D71014C7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712694-EE79-416E-9974-71E57D68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195EBF-321E-40B4-A875-E04965E8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E161B4-CB11-4CCD-A512-60B98A2F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81F95A-1A10-4F9D-98CB-6D7E9344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75528C-73AF-4C04-8F89-2DF1636E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0CD52-9A29-4B35-B0AC-F9A9D777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2FBCA-8897-4086-B6CF-9E3330C8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668C0-23AD-443D-9C8D-AE1BC97E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2F68A-C676-4A38-A832-F0D6CDAC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1B99-C0F8-46A0-91C6-0343E508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61F6-3FFC-4F64-950E-7EAA692F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61B5-20B4-45D6-B672-0927E4B5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2F8B0-FDAC-42A6-85B2-B69B760F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062E-5246-48BA-976D-404F4344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8BA0-770E-48DF-9599-CB63E646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2E83-FF6E-4715-BE5B-62B20238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6573-E01B-4087-8AA5-2E467DF0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EAA8-8161-4708-9926-7B61424F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8C55E-2752-4488-A11A-44ECA92C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1280D-1375-4548-AC47-E0C8081A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6A16C-E721-4CDF-BC45-8F8678DF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D0FAF-48C9-4DC3-BABB-893308ED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CA43D-C954-48ED-BF2A-FB681F6A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14A6B-0535-40C4-82D3-9A02CEDC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3CA62-9064-4B66-9215-CEB623A2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42A54-BC13-487B-A575-361A1B08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4B42A-4CB8-440F-AC8E-8DB29DBA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C235-A3EA-4645-8761-244455B1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953FB-4C83-45A9-9FD3-F43D497E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32C1D-D6F5-4578-82ED-35579140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B8B28-A165-4696-A6A1-3D9E144E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E1265-BEB7-43AB-BD8E-C42ED465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C6A06-8444-4BCE-9AB2-AF40CC83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74C9F-577B-47F7-9027-AA918F99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58E2-582B-44F3-A740-E7A92C8F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54BFD-65F6-4792-9761-8E10BD83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9D3A0-77CB-4D0F-996D-C1B7246F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DB197-CDB0-4497-A53F-58C488DF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D995C-03C2-457D-BB0C-7D5A65AC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AC0A5-BF89-4C30-8433-D045DC02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E74F8-037F-428D-9754-489D9AB7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D67B1-E62E-44E7-9EAB-0EB94512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36DF2-C880-4E81-B368-C4E1FF49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9F243-487E-4A4E-8A96-4CEFD342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82D3F-F5DA-4CEF-9D24-90FDF056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CB63B-EFA1-4686-8D36-D6BF0CDD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D0A34-6909-4FFC-8C67-A764F62E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4868C-4D84-4EFE-BD08-A5A822B5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798D8-27CB-47C5-B146-2CA384F4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A2B3A-DB2D-4D0C-8CEC-0B714382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AF66E-0031-48D0-B28D-A31E16A6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1909F-DBCC-47B6-B7A0-8FDB2A5A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4CE48-DCA0-4F54-8951-4A1FF282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5ABD0-AB1E-46F0-B8E9-446C4E3B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81CAA-9535-4B35-A43C-1D850167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A89C9-E940-4E64-9481-F2826F26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24A50-A82B-4A92-879E-C75DF8A7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AD2C0-6AD9-4F67-AF74-D5751390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F9E7F-F19F-438C-B5DC-29532707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55AF1-E5A5-4A06-822C-296A3CB7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D6E43-8D18-4A1A-9D5D-B648477A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54597-0F83-4C31-B382-9EA4DB76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D9AFB-575C-42A1-BFE5-AFEC773F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1D400-D95C-4B56-8639-0E47AC5A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98F82-DAC5-404A-8337-D4A650A5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1FD3A-AE99-45AA-BF3D-8FE778B6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7D566-ADCB-47E4-9A1E-6CA73596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66AD8-0FC2-475A-9048-BF4A751A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479D1-FE31-4886-8756-1469ACAE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12A5D-FF1C-432C-A21C-16B49471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6A4CB-989C-4872-B226-713BFF26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F0E9E-4365-4B29-8C94-67E2AB0B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F024D-BBC4-4DB7-989C-7BDBD907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4438E-741C-411B-88B9-0EE95DCC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AED55-36A0-4E0D-9ED5-44CA202D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E7524-382D-4CB1-9883-9C048DBC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2F766-E1BE-4DA2-AEA4-BD45429D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F2CB5-18AC-4957-A3C3-176A407D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19DCE-A0BE-4349-B520-E92739DD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1C046-044D-4F6F-99C3-4CD8E0FC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3826A-5056-4444-B7EF-9DC543CF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EC7E2-0EF7-46D5-9D0A-C2871B2F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1628D-89A7-440A-919B-B4BEC506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FB23D-ED77-4227-8A93-199C86E9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B4894E-09E3-4340-BEF6-D886C902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6A8E40-EC42-4715-ACB2-EA7C30D2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B0B178-CAA7-40F9-9111-EF072A93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E2D18F-0CE4-45A5-A4FC-080E33BD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1CE0DD-74B2-49DE-A822-620A30B1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36227-E64B-41A8-97C3-FF520506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530D13-37B9-40E6-A9DE-B91A5885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F74AB9-BEE7-4376-8B47-1F9340D2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9BDD98-9D12-4CD9-94FD-E46DA420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8A1C98-14A9-4A89-BF84-47D72248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C897E2-C0E7-4083-A0F5-A886024F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E07C7C-051A-4E8E-8EE5-E4BE1EE9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60CBE7-C8C8-4557-849F-0DC73AF7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4274A-3103-464E-9C2D-DCEBFC7E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8D44D-D0A6-48C6-8461-1FDB9E1C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7BD64-F0E2-4D0B-8561-92A8CD82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 Unicode MS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66EE-B922-4DC2-9BD9-C7667E333830}" type="slidenum"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39E3-8C8A-45BB-8B78-420DFB36C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7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7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8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0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2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A68E-408B-4A86-A383-8B0EBE020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7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7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9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0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82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73ED-BC82-488E-9017-E37FF9E3E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8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6A12-08C3-4663-A7AB-D910F8C2F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3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9E13-5E8B-4285-A682-231EC99FC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Unicode MS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89D5-9C0E-4D67-BFF5-B1E87744C8E2}" type="slidenum"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9178-1AD5-47E7-8F2A-35C097636111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1E76-8A20-4F1E-9561-8ABE79FFC377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6118-9265-40DB-A476-15E90C625C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7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7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8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9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1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E43A-17D2-49C5-BC3C-914BBB2ECE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3802-29AD-4C45-BB2B-11A845142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26E3-4245-46CD-851E-C2AEDCCF4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5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B097-E2BE-4823-BF9B-755FD4B34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Unicode M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Дни поз..ней осени бр..нят обыкновенно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Но мне она мила читатель д..рогой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Красою тихою блиста..щей смиренно.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Дни поздней осени бранят обыкновенно,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Но мне она мила, читатель дорогой,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Красою тихою, блистающей смиренно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[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]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, но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[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]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55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о чтоб продлилась жизнь моя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Я утром должен быть уверен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то с вами днем увижусь я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о, чтоб продлилась жизнь моя,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Я утром должен быть уверен,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Что с вами днем увижусь я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[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о, ( чтоб), 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]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, (что)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ы белых лебедей кормила,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ткинув тяжесть черных кос…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Я рядом плыл; сошлись кормила;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катный луч был странно кос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                            В. Я. Брюсов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ы белых лебедей кормила,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ткинув тяжесть черных кос…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Я рядом плыл; сошлись кормила;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Закатный луч был странно кос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                       В. Я. Брюсов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[    ]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;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[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]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;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[    ]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жное предложение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Союзное                                 Бессоюзное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[  ], интонация [  ]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жносочиненное            Сложноподчиненное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  ] , сочинит. союз [  ] .      [  ], ( подчинит. союз).</a:t>
            </a:r>
            <a:br>
              <a:rPr sz="28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788000" y="2060640"/>
            <a:ext cx="11523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3634920" y="2060640"/>
            <a:ext cx="12956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788000" y="206064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059280" y="2852640"/>
            <a:ext cx="2160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2268000" y="2852640"/>
            <a:ext cx="79092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10009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Перед весной бывают дни такие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Под плотным снегом отдыхает луг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Шумят деревья весело-сухие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И теплый ветер нежен и упруг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И легкости своей дивится тело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И дома своего не узнаешь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А песню ту, что прежде надоел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Как новую, с волнением поешь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                               А. А. Ахматов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1628280"/>
            <a:ext cx="78598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Перед весной бывают дни такие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Под плотным снегом отдыхает луг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Шумят деревья весело-сухие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И теплый ветер нежен и упруг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И легкости своей дивится тело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И дома своего не узнаешь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А песню ту, что прежде надоел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Как новую, с волнением поешь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 Unicode MS"/>
              </a:rPr>
              <a:t>Четырнадцатое декабря.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 Unicode MS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547640" y="1988640"/>
            <a:ext cx="6400800" cy="3024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 Unicode MS"/>
              </a:rPr>
              <a:t>Заглянем же, как Пушкин встарь, 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Arial Unicode MS"/>
              </a:rPr>
              <a:t>в толковый наш словарь.</a:t>
            </a:r>
            <a:endParaRPr b="0" lang="en-US" sz="4400" spc="-1" strike="noStrike">
              <a:solidFill>
                <a:srgbClr val="ff0000"/>
              </a:solidFill>
              <a:latin typeface="Arial Unicode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496728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дипломат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дипломант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эмиграция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иммиграция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адресат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адресант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2"/>
          <a:stretch/>
        </p:blipFill>
        <p:spPr>
          <a:xfrm>
            <a:off x="6227640" y="3789360"/>
            <a:ext cx="2592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440" y="1125360"/>
            <a:ext cx="75582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эмиграция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иммиграция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адресант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адресат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дипломат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Unicode MS"/>
              </a:rPr>
              <a:t>дипломант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465e"/>
            </a:gs>
            <a:gs pos="50000">
              <a:srgbClr val="ff99cc"/>
            </a:gs>
            <a:gs pos="100000">
              <a:srgbClr val="7546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339640" y="2565000"/>
            <a:ext cx="5327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некр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лог</a:t>
            </a: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ж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люзи</a:t>
            </a: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ход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тайствовать</a:t>
            </a: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б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ловать</a:t>
            </a: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одопров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д</a:t>
            </a: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зак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порить</a:t>
            </a: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ка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лог</a:t>
            </a: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позвон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т</a:t>
            </a: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костюм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рованный</a:t>
            </a:r>
            <a:br>
              <a:rPr sz="3600"/>
            </a:b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щ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ель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465e"/>
            </a:gs>
            <a:gs pos="50000">
              <a:srgbClr val="ff99cc"/>
            </a:gs>
            <a:gs pos="100000">
              <a:srgbClr val="7546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1908000" y="765000"/>
            <a:ext cx="5472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некр</a:t>
            </a: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О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л</a:t>
            </a:r>
            <a:r>
              <a:rPr b="0" lang="ru-RU" sz="4400" spc="-1" strike="noStrike" u="sng">
                <a:solidFill>
                  <a:srgbClr val="660033"/>
                </a:solidFill>
                <a:uFillTx/>
                <a:latin typeface="Arial Unicode MS"/>
              </a:rPr>
              <a:t>о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г</a:t>
            </a:r>
            <a:br>
              <a:rPr sz="4400"/>
            </a:b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ж</a:t>
            </a: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А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люз</a:t>
            </a:r>
            <a:r>
              <a:rPr b="0" lang="ru-RU" sz="4400" spc="-1" strike="noStrike" u="sng">
                <a:solidFill>
                  <a:srgbClr val="660033"/>
                </a:solidFill>
                <a:uFillTx/>
                <a:latin typeface="Arial Unicode MS"/>
              </a:rPr>
              <a:t>и</a:t>
            </a:r>
            <a:br>
              <a:rPr sz="4400"/>
            </a:b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б</a:t>
            </a: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А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лов</a:t>
            </a:r>
            <a:r>
              <a:rPr b="0" lang="ru-RU" sz="4400" spc="-1" strike="noStrike" u="sng">
                <a:solidFill>
                  <a:srgbClr val="660033"/>
                </a:solidFill>
                <a:uFillTx/>
                <a:latin typeface="Arial Unicode MS"/>
              </a:rPr>
              <a:t>а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ть</a:t>
            </a:r>
            <a:br>
              <a:rPr sz="4400"/>
            </a:b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кат</a:t>
            </a: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А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л</a:t>
            </a:r>
            <a:r>
              <a:rPr b="0" lang="ru-RU" sz="4400" spc="-1" strike="noStrike" u="sng">
                <a:solidFill>
                  <a:srgbClr val="660033"/>
                </a:solidFill>
                <a:uFillTx/>
                <a:latin typeface="Arial Unicode MS"/>
              </a:rPr>
              <a:t>о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г</a:t>
            </a:r>
            <a:br>
              <a:rPr sz="4400"/>
            </a:b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костюм</a:t>
            </a: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И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р</a:t>
            </a:r>
            <a:r>
              <a:rPr b="0" lang="ru-RU" sz="4400" spc="-1" strike="noStrike" u="sng">
                <a:solidFill>
                  <a:srgbClr val="660033"/>
                </a:solidFill>
                <a:uFillTx/>
                <a:latin typeface="Arial Unicode MS"/>
              </a:rPr>
              <a:t>о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ванный</a:t>
            </a:r>
            <a:br>
              <a:rPr sz="4400"/>
            </a:b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щ</a:t>
            </a: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А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в</a:t>
            </a:r>
            <a:r>
              <a:rPr b="0" lang="ru-RU" sz="4400" spc="-1" strike="noStrike" u="sng">
                <a:solidFill>
                  <a:srgbClr val="660033"/>
                </a:solidFill>
                <a:uFillTx/>
                <a:latin typeface="Arial Unicode MS"/>
              </a:rPr>
              <a:t>е</a:t>
            </a:r>
            <a:r>
              <a:rPr b="0" lang="ru-RU" sz="4400" spc="-1" strike="noStrike">
                <a:solidFill>
                  <a:srgbClr val="660033"/>
                </a:solidFill>
                <a:latin typeface="Arial Unicode MS"/>
              </a:rPr>
              <a:t>ль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2484360" y="3068280"/>
            <a:ext cx="324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Arial"/>
              </a:rPr>
              <a:t>пахать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660033"/>
                </a:solidFill>
                <a:latin typeface="Arial"/>
              </a:rPr>
              <a:t>каюта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660033"/>
                </a:solidFill>
                <a:latin typeface="Arial"/>
              </a:rPr>
              <a:t>боюсь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660033"/>
                </a:solidFill>
                <a:latin typeface="Arial"/>
              </a:rPr>
              <a:t>съесть</a:t>
            </a:r>
            <a:br>
              <a:rPr sz="4800"/>
            </a:b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24000" y="291600"/>
            <a:ext cx="882000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Тема урока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Виды сложных предложений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0:52:53Z</dcterms:created>
  <dc:creator>Витя</dc:creator>
  <dc:description/>
  <dc:language>en-US</dc:language>
  <cp:lastModifiedBy>Витя</cp:lastModifiedBy>
  <dcterms:modified xsi:type="dcterms:W3CDTF">2007-12-13T04:14:07Z</dcterms:modified>
  <cp:revision>3</cp:revision>
  <dc:subject/>
  <dc:title>Слайд 1</dc:title>
</cp:coreProperties>
</file>