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8F3-A173-46EA-BEDA-1008F0E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2E9-0AE8-480C-B949-B960B09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0EA-5F43-49C7-9F12-D119D7FD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E8C-6228-4DBA-B691-E8755EDC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9FE-8BE0-44A8-843E-AF6BCA5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BF4-F058-4535-AFFC-C2043335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D22-47DF-428A-8D8A-428FD863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840-6012-4DD8-9176-AE4A7B8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67F-F04F-4F4F-B4D1-75CAB2A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245-3A9D-42E1-A74F-91D20ED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8D-410F-47B7-ACD7-2F49D8C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1D9-67F5-43F2-851E-552B262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661A-B795-4A34-9395-4CAB5E0C8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04920" y="378000"/>
            <a:ext cx="5121000" cy="527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5718240" y="2163600"/>
            <a:ext cx="3114720" cy="41515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480960" y="4694400"/>
            <a:ext cx="56088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1"/>
          <p:cNvGrpSpPr/>
          <p:nvPr/>
        </p:nvGrpSpPr>
        <p:grpSpPr>
          <a:xfrm>
            <a:off x="1714680" y="1071720"/>
            <a:ext cx="1731960" cy="3676320"/>
            <a:chOff x="1714680" y="1071720"/>
            <a:chExt cx="1731960" cy="3676320"/>
          </a:xfrm>
        </p:grpSpPr>
        <p:pic>
          <p:nvPicPr>
            <p:cNvPr id="45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2786400" y="107172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2357640" y="249984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1714680" y="107172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12" descr=""/>
          <p:cNvPicPr/>
          <p:nvPr/>
        </p:nvPicPr>
        <p:blipFill>
          <a:blip r:embed="rId4"/>
          <a:stretch/>
        </p:blipFill>
        <p:spPr>
          <a:xfrm>
            <a:off x="4857840" y="1214280"/>
            <a:ext cx="1333440" cy="17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5"/>
          <a:stretch/>
        </p:blipFill>
        <p:spPr>
          <a:xfrm>
            <a:off x="5786280" y="3143160"/>
            <a:ext cx="115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500040" y="986040"/>
            <a:ext cx="7777080" cy="4511160"/>
            <a:chOff x="500040" y="986040"/>
            <a:chExt cx="7777080" cy="4511160"/>
          </a:xfrm>
        </p:grpSpPr>
        <p:sp>
          <p:nvSpPr>
            <p:cNvPr id="51" name="AutoShape 3"/>
            <p:cNvSpPr/>
            <p:nvPr/>
          </p:nvSpPr>
          <p:spPr>
            <a:xfrm>
              <a:off x="50004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330588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5"/>
            <p:cNvSpPr/>
            <p:nvPr/>
          </p:nvSpPr>
          <p:spPr>
            <a:xfrm>
              <a:off x="6134040" y="1383480"/>
              <a:ext cx="2143080" cy="4113720"/>
            </a:xfrm>
            <a:custGeom>
              <a:avLst/>
              <a:gdLst>
                <a:gd name="textAreaLeft" fmla="*/ 104400 w 2143080"/>
                <a:gd name="textAreaRight" fmla="*/ 2038680 w 2143080"/>
                <a:gd name="textAreaTop" fmla="*/ 104400 h 4113720"/>
                <a:gd name="textAreaBottom" fmla="*/ 4009320 h 4113720"/>
              </a:gdLst>
              <a:ahLst/>
              <a:rect l="textAreaLeft" t="textAreaTop" r="textAreaRight" b="textAreaBottom"/>
              <a:pathLst>
                <a:path w="21600" h="41459">
                  <a:moveTo>
                    <a:pt x="3600" y="0"/>
                  </a:moveTo>
                  <a:arcTo wR="3600" hR="3600" stAng="16200000" swAng="-5400000"/>
                  <a:lnTo>
                    <a:pt x="0" y="37859"/>
                  </a:lnTo>
                  <a:arcTo wR="3600" hR="3600" stAng="10800000" swAng="-5400000"/>
                  <a:lnTo>
                    <a:pt x="18000" y="414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2707200" y="3089880"/>
              <a:ext cx="5299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5491080" y="3089880"/>
              <a:ext cx="5299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Arc 8"/>
            <p:cNvSpPr/>
            <p:nvPr/>
          </p:nvSpPr>
          <p:spPr>
            <a:xfrm flipV="1" rot="5294400">
              <a:off x="145296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Arc 9"/>
            <p:cNvSpPr/>
            <p:nvPr/>
          </p:nvSpPr>
          <p:spPr>
            <a:xfrm flipV="1" rot="5294400">
              <a:off x="419328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Arc 10"/>
            <p:cNvSpPr/>
            <p:nvPr/>
          </p:nvSpPr>
          <p:spPr>
            <a:xfrm flipV="1" rot="5294400">
              <a:off x="7042680" y="745560"/>
              <a:ext cx="382680" cy="889920"/>
            </a:xfrm>
            <a:custGeom>
              <a:avLst/>
              <a:gdLst/>
              <a:ahLst/>
              <a:rect l="l" t="t" r="r" b="b"/>
              <a:pathLst>
                <a:path fill="none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</a:path>
                <a:path stroke="0" w="21600" h="43046">
                  <a:moveTo>
                    <a:pt x="1383" y="0"/>
                  </a:moveTo>
                  <a:cubicBezTo>
                    <a:pt x="12752" y="730"/>
                    <a:pt x="21600" y="10163"/>
                    <a:pt x="21600" y="21556"/>
                  </a:cubicBezTo>
                  <a:cubicBezTo>
                    <a:pt x="21600" y="32641"/>
                    <a:pt x="13208" y="-23610"/>
                    <a:pt x="2179" y="-22491"/>
                  </a:cubicBezTo>
                  <a:lnTo>
                    <a:pt x="0" y="21556"/>
                  </a:lnTo>
                  <a:lnTo>
                    <a:pt x="138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Группа 17"/>
          <p:cNvGrpSpPr/>
          <p:nvPr/>
        </p:nvGrpSpPr>
        <p:grpSpPr>
          <a:xfrm>
            <a:off x="714240" y="1500120"/>
            <a:ext cx="1731960" cy="3676680"/>
            <a:chOff x="714240" y="1500120"/>
            <a:chExt cx="1731960" cy="3676680"/>
          </a:xfrm>
        </p:grpSpPr>
        <p:pic>
          <p:nvPicPr>
            <p:cNvPr id="60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785960" y="150012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357200" y="292860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714240" y="150012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2" descr=""/>
          <p:cNvPicPr/>
          <p:nvPr/>
        </p:nvPicPr>
        <p:blipFill>
          <a:blip r:embed="rId4"/>
          <a:stretch/>
        </p:blipFill>
        <p:spPr>
          <a:xfrm>
            <a:off x="3714840" y="2071800"/>
            <a:ext cx="1333440" cy="17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4286160" y="3643200"/>
            <a:ext cx="11559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65" name="Группа 26"/>
          <p:cNvGrpSpPr/>
          <p:nvPr/>
        </p:nvGrpSpPr>
        <p:grpSpPr>
          <a:xfrm>
            <a:off x="714240" y="1571760"/>
            <a:ext cx="1731960" cy="3676680"/>
            <a:chOff x="714240" y="1571760"/>
            <a:chExt cx="1731960" cy="3676680"/>
          </a:xfrm>
        </p:grpSpPr>
        <p:pic>
          <p:nvPicPr>
            <p:cNvPr id="66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1785960" y="157176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1357200" y="3000240"/>
              <a:ext cx="660240" cy="22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714240" y="1571760"/>
              <a:ext cx="660240" cy="224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2" descr=""/>
          <p:cNvPicPr/>
          <p:nvPr/>
        </p:nvPicPr>
        <p:blipFill>
          <a:blip r:embed="rId9"/>
          <a:stretch/>
        </p:blipFill>
        <p:spPr>
          <a:xfrm>
            <a:off x="3786120" y="2143080"/>
            <a:ext cx="1333440" cy="17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10"/>
          <a:stretch/>
        </p:blipFill>
        <p:spPr>
          <a:xfrm>
            <a:off x="4357800" y="3643200"/>
            <a:ext cx="1155600" cy="1857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2"/>
          <p:cNvSpPr/>
          <p:nvPr/>
        </p:nvSpPr>
        <p:spPr>
          <a:xfrm>
            <a:off x="6143760" y="214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3"/>
          <p:cNvSpPr/>
          <p:nvPr/>
        </p:nvSpPr>
        <p:spPr>
          <a:xfrm>
            <a:off x="6650280" y="21420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14200" y="2858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3143160" y="2858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люс 36"/>
          <p:cNvSpPr/>
          <p:nvPr/>
        </p:nvSpPr>
        <p:spPr>
          <a:xfrm>
            <a:off x="2806560" y="3152880"/>
            <a:ext cx="357480" cy="357120"/>
          </a:xfrm>
          <a:custGeom>
            <a:avLst/>
            <a:gdLst/>
            <a:ahLst/>
            <a:rect l="l" t="t" r="r" b="b"/>
            <a:pathLst>
              <a:path w="357190" h="357190">
                <a:moveTo>
                  <a:pt x="47346" y="136589"/>
                </a:moveTo>
                <a:lnTo>
                  <a:pt x="136589" y="136589"/>
                </a:lnTo>
                <a:lnTo>
                  <a:pt x="136589" y="47346"/>
                </a:lnTo>
                <a:lnTo>
                  <a:pt x="220601" y="47346"/>
                </a:lnTo>
                <a:lnTo>
                  <a:pt x="220601" y="136589"/>
                </a:lnTo>
                <a:lnTo>
                  <a:pt x="309844" y="136589"/>
                </a:lnTo>
                <a:lnTo>
                  <a:pt x="309844" y="220601"/>
                </a:lnTo>
                <a:lnTo>
                  <a:pt x="220601" y="220601"/>
                </a:lnTo>
                <a:lnTo>
                  <a:pt x="220601" y="309844"/>
                </a:lnTo>
                <a:lnTo>
                  <a:pt x="136589" y="309844"/>
                </a:lnTo>
                <a:lnTo>
                  <a:pt x="136589" y="220601"/>
                </a:lnTo>
                <a:lnTo>
                  <a:pt x="47346" y="220601"/>
                </a:lnTo>
                <a:lnTo>
                  <a:pt x="47346" y="1365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Равно 37"/>
          <p:cNvSpPr/>
          <p:nvPr/>
        </p:nvSpPr>
        <p:spPr>
          <a:xfrm>
            <a:off x="5500800" y="321480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73581"/>
                </a:moveTo>
                <a:lnTo>
                  <a:pt x="433782" y="73581"/>
                </a:lnTo>
                <a:lnTo>
                  <a:pt x="433782" y="157592"/>
                </a:lnTo>
                <a:lnTo>
                  <a:pt x="66284" y="157592"/>
                </a:lnTo>
                <a:lnTo>
                  <a:pt x="66284" y="73581"/>
                </a:lnTo>
                <a:close/>
                <a:moveTo>
                  <a:pt x="66284" y="199598"/>
                </a:moveTo>
                <a:lnTo>
                  <a:pt x="433782" y="199598"/>
                </a:lnTo>
                <a:lnTo>
                  <a:pt x="433782" y="283609"/>
                </a:lnTo>
                <a:lnTo>
                  <a:pt x="66284" y="283609"/>
                </a:lnTo>
                <a:lnTo>
                  <a:pt x="66284" y="19959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1643040" y="557208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-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ы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5857920" y="557208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-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60313 0.00278 E">
                                      <p:cBhvr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39 L 0.2099 0.00231 E">
                                      <p:cBhvr>
                                        <p:cTn id="1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19132 -3.7037E-006 C 0.27725 -3.7037E-006 0.38316 0.06274 0.38316 0.11436 L 0.38316 0.22871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Овал 16"/>
          <p:cNvSpPr/>
          <p:nvPr/>
        </p:nvSpPr>
        <p:spPr>
          <a:xfrm>
            <a:off x="6143760" y="3071880"/>
            <a:ext cx="128592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Группа 1"/>
          <p:cNvGrpSpPr/>
          <p:nvPr/>
        </p:nvGrpSpPr>
        <p:grpSpPr>
          <a:xfrm>
            <a:off x="1428840" y="571680"/>
            <a:ext cx="928440" cy="2247840"/>
            <a:chOff x="1428840" y="571680"/>
            <a:chExt cx="928440" cy="2247840"/>
          </a:xfrm>
        </p:grpSpPr>
        <p:pic>
          <p:nvPicPr>
            <p:cNvPr id="81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200340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773360" y="144504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142884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3786120" y="571680"/>
            <a:ext cx="857160" cy="111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5"/>
          <a:stretch/>
        </p:blipFill>
        <p:spPr>
          <a:xfrm>
            <a:off x="4214880" y="1428840"/>
            <a:ext cx="857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6" name="Группа 7"/>
          <p:cNvGrpSpPr/>
          <p:nvPr/>
        </p:nvGrpSpPr>
        <p:grpSpPr>
          <a:xfrm>
            <a:off x="6215040" y="571680"/>
            <a:ext cx="928800" cy="2247840"/>
            <a:chOff x="6215040" y="571680"/>
            <a:chExt cx="928800" cy="2247840"/>
          </a:xfrm>
        </p:grpSpPr>
        <p:pic>
          <p:nvPicPr>
            <p:cNvPr id="87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678996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6559920" y="144504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215040" y="57168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12" descr=""/>
          <p:cNvPicPr/>
          <p:nvPr/>
        </p:nvPicPr>
        <p:blipFill>
          <a:blip r:embed="rId9"/>
          <a:stretch/>
        </p:blipFill>
        <p:spPr>
          <a:xfrm>
            <a:off x="7215120" y="642960"/>
            <a:ext cx="857160" cy="111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10"/>
          <a:stretch/>
        </p:blipFill>
        <p:spPr>
          <a:xfrm>
            <a:off x="7072200" y="171468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Плюс 13"/>
          <p:cNvSpPr/>
          <p:nvPr/>
        </p:nvSpPr>
        <p:spPr>
          <a:xfrm>
            <a:off x="2643120" y="1214280"/>
            <a:ext cx="857160" cy="85752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Равно 14"/>
          <p:cNvSpPr/>
          <p:nvPr/>
        </p:nvSpPr>
        <p:spPr>
          <a:xfrm>
            <a:off x="4929120" y="128592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1714680" y="3000240"/>
            <a:ext cx="63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р + ж  =  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8"/>
          <p:cNvSpPr/>
          <p:nvPr/>
        </p:nvSpPr>
        <p:spPr>
          <a:xfrm>
            <a:off x="1785960" y="4357800"/>
            <a:ext cx="12859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>
            <a:off x="3786120" y="4357800"/>
            <a:ext cx="128592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500120" y="51436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786120" y="51436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5929200" y="5000760"/>
            <a:ext cx="23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ЦЕЛО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43754" t="0" r="0" b="0"/>
          <a:stretch/>
        </p:blipFill>
        <p:spPr>
          <a:xfrm>
            <a:off x="6429240" y="0"/>
            <a:ext cx="2714760" cy="321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214880" y="4857840"/>
            <a:ext cx="218268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57680" y="428760"/>
            <a:ext cx="203652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571680" y="1214280"/>
            <a:ext cx="175860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5"/>
          <a:srcRect l="0" t="0" r="56252" b="0"/>
          <a:stretch/>
        </p:blipFill>
        <p:spPr>
          <a:xfrm>
            <a:off x="428760" y="3286080"/>
            <a:ext cx="25002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6"/>
          <a:stretch/>
        </p:blipFill>
        <p:spPr>
          <a:xfrm>
            <a:off x="4214880" y="2428920"/>
            <a:ext cx="1904760" cy="156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7"/>
          <a:stretch/>
        </p:blipFill>
        <p:spPr>
          <a:xfrm>
            <a:off x="6429240" y="31431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9"/>
          <p:cNvSpPr/>
          <p:nvPr/>
        </p:nvSpPr>
        <p:spPr>
          <a:xfrm>
            <a:off x="2428920" y="2357280"/>
            <a:ext cx="1857240" cy="500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4286160" y="1571760"/>
            <a:ext cx="2928960" cy="1928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12"/>
          <p:cNvSpPr/>
          <p:nvPr/>
        </p:nvSpPr>
        <p:spPr>
          <a:xfrm flipV="1">
            <a:off x="3071880" y="2786040"/>
            <a:ext cx="4357800" cy="2286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йди части и цел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7"/>
          <p:cNvGrpSpPr/>
          <p:nvPr/>
        </p:nvGrpSpPr>
        <p:grpSpPr>
          <a:xfrm>
            <a:off x="857160" y="357120"/>
            <a:ext cx="1143000" cy="2390760"/>
            <a:chOff x="857160" y="357120"/>
            <a:chExt cx="1143000" cy="2390760"/>
          </a:xfrm>
        </p:grpSpPr>
        <p:pic>
          <p:nvPicPr>
            <p:cNvPr id="112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564560" y="35712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281600" y="128592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857160" y="357120"/>
              <a:ext cx="435600" cy="14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2" descr=""/>
          <p:cNvPicPr/>
          <p:nvPr/>
        </p:nvPicPr>
        <p:blipFill>
          <a:blip r:embed="rId4"/>
          <a:stretch/>
        </p:blipFill>
        <p:spPr>
          <a:xfrm>
            <a:off x="3357720" y="285840"/>
            <a:ext cx="1118880" cy="145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5"/>
          <a:stretch/>
        </p:blipFill>
        <p:spPr>
          <a:xfrm>
            <a:off x="4071960" y="1285920"/>
            <a:ext cx="97776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13"/>
          <p:cNvGrpSpPr/>
          <p:nvPr/>
        </p:nvGrpSpPr>
        <p:grpSpPr>
          <a:xfrm>
            <a:off x="6215040" y="357120"/>
            <a:ext cx="928800" cy="2247840"/>
            <a:chOff x="6215040" y="357120"/>
            <a:chExt cx="928800" cy="2247840"/>
          </a:xfrm>
        </p:grpSpPr>
        <p:pic>
          <p:nvPicPr>
            <p:cNvPr id="118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6789960" y="3571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6559920" y="12304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215040" y="3571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12" descr=""/>
          <p:cNvPicPr/>
          <p:nvPr/>
        </p:nvPicPr>
        <p:blipFill>
          <a:blip r:embed="rId9"/>
          <a:stretch/>
        </p:blipFill>
        <p:spPr>
          <a:xfrm>
            <a:off x="7072200" y="114300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0"/>
          <a:stretch/>
        </p:blipFill>
        <p:spPr>
          <a:xfrm>
            <a:off x="7572240" y="642960"/>
            <a:ext cx="824040" cy="1322280"/>
          </a:xfrm>
          <a:prstGeom prst="rect">
            <a:avLst/>
          </a:prstGeom>
          <a:ln w="0">
            <a:noFill/>
          </a:ln>
        </p:spPr>
      </p:pic>
      <p:sp>
        <p:nvSpPr>
          <p:cNvPr id="123" name="Плюс 19"/>
          <p:cNvSpPr/>
          <p:nvPr/>
        </p:nvSpPr>
        <p:spPr>
          <a:xfrm>
            <a:off x="2286000" y="1071720"/>
            <a:ext cx="857160" cy="85716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Равно 20"/>
          <p:cNvSpPr/>
          <p:nvPr/>
        </p:nvSpPr>
        <p:spPr>
          <a:xfrm>
            <a:off x="5072040" y="114300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22"/>
          <p:cNvGrpSpPr/>
          <p:nvPr/>
        </p:nvGrpSpPr>
        <p:grpSpPr>
          <a:xfrm>
            <a:off x="1071720" y="3786120"/>
            <a:ext cx="928440" cy="2247840"/>
            <a:chOff x="1071720" y="3786120"/>
            <a:chExt cx="928440" cy="2247840"/>
          </a:xfrm>
        </p:grpSpPr>
        <p:pic>
          <p:nvPicPr>
            <p:cNvPr id="126" name="Picture 11" descr=""/>
            <p:cNvPicPr/>
            <p:nvPr/>
          </p:nvPicPr>
          <p:blipFill>
            <a:blip r:embed="rId11"/>
            <a:srcRect l="55174" t="0" r="6890" b="0"/>
            <a:stretch/>
          </p:blipFill>
          <p:spPr>
            <a:xfrm>
              <a:off x="1646280" y="37861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1" descr=""/>
            <p:cNvPicPr/>
            <p:nvPr/>
          </p:nvPicPr>
          <p:blipFill>
            <a:blip r:embed="rId12"/>
            <a:srcRect l="55174" t="0" r="6890" b="0"/>
            <a:stretch/>
          </p:blipFill>
          <p:spPr>
            <a:xfrm>
              <a:off x="1416240" y="46594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1" descr=""/>
            <p:cNvPicPr/>
            <p:nvPr/>
          </p:nvPicPr>
          <p:blipFill>
            <a:blip r:embed="rId13"/>
            <a:srcRect l="55174" t="0" r="6890" b="0"/>
            <a:stretch/>
          </p:blipFill>
          <p:spPr>
            <a:xfrm>
              <a:off x="1071720" y="37861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12" descr=""/>
          <p:cNvPicPr/>
          <p:nvPr/>
        </p:nvPicPr>
        <p:blipFill>
          <a:blip r:embed="rId14"/>
          <a:stretch/>
        </p:blipFill>
        <p:spPr>
          <a:xfrm>
            <a:off x="1714680" y="350028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5"/>
          <a:stretch/>
        </p:blipFill>
        <p:spPr>
          <a:xfrm>
            <a:off x="2071800" y="4714920"/>
            <a:ext cx="823680" cy="1322280"/>
          </a:xfrm>
          <a:prstGeom prst="rect">
            <a:avLst/>
          </a:prstGeom>
          <a:ln w="0">
            <a:noFill/>
          </a:ln>
        </p:spPr>
      </p:pic>
      <p:grpSp>
        <p:nvGrpSpPr>
          <p:cNvPr id="131" name="Группа 28"/>
          <p:cNvGrpSpPr/>
          <p:nvPr/>
        </p:nvGrpSpPr>
        <p:grpSpPr>
          <a:xfrm>
            <a:off x="6929280" y="3571920"/>
            <a:ext cx="928800" cy="2247840"/>
            <a:chOff x="6929280" y="3571920"/>
            <a:chExt cx="928800" cy="2247840"/>
          </a:xfrm>
        </p:grpSpPr>
        <p:pic>
          <p:nvPicPr>
            <p:cNvPr id="132" name="Picture 11" descr=""/>
            <p:cNvPicPr/>
            <p:nvPr/>
          </p:nvPicPr>
          <p:blipFill>
            <a:blip r:embed="rId16"/>
            <a:srcRect l="55174" t="0" r="6890" b="0"/>
            <a:stretch/>
          </p:blipFill>
          <p:spPr>
            <a:xfrm>
              <a:off x="7504200" y="35719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"/>
            <p:cNvPicPr/>
            <p:nvPr/>
          </p:nvPicPr>
          <p:blipFill>
            <a:blip r:embed="rId17"/>
            <a:srcRect l="55174" t="0" r="6890" b="0"/>
            <a:stretch/>
          </p:blipFill>
          <p:spPr>
            <a:xfrm>
              <a:off x="7274160" y="444528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1" descr=""/>
            <p:cNvPicPr/>
            <p:nvPr/>
          </p:nvPicPr>
          <p:blipFill>
            <a:blip r:embed="rId18"/>
            <a:srcRect l="55174" t="0" r="6890" b="0"/>
            <a:stretch/>
          </p:blipFill>
          <p:spPr>
            <a:xfrm>
              <a:off x="6929280" y="357192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12" descr=""/>
          <p:cNvPicPr/>
          <p:nvPr/>
        </p:nvPicPr>
        <p:blipFill>
          <a:blip r:embed="rId19"/>
          <a:stretch/>
        </p:blipFill>
        <p:spPr>
          <a:xfrm>
            <a:off x="6000840" y="3429000"/>
            <a:ext cx="949320" cy="123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0"/>
          <a:stretch/>
        </p:blipFill>
        <p:spPr>
          <a:xfrm>
            <a:off x="6286680" y="4643280"/>
            <a:ext cx="823680" cy="1322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4"/>
          <p:cNvSpPr/>
          <p:nvPr/>
        </p:nvSpPr>
        <p:spPr>
          <a:xfrm>
            <a:off x="4000680" y="3643200"/>
            <a:ext cx="2571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Равно 35"/>
          <p:cNvSpPr/>
          <p:nvPr/>
        </p:nvSpPr>
        <p:spPr>
          <a:xfrm>
            <a:off x="3357720" y="4000680"/>
            <a:ext cx="2286000" cy="1285560"/>
          </a:xfrm>
          <a:custGeom>
            <a:avLst/>
            <a:gdLst/>
            <a:ahLst/>
            <a:rect l="l" t="t" r="r" b="b"/>
            <a:pathLst>
              <a:path w="2286016" h="1285884">
                <a:moveTo>
                  <a:pt x="303011" y="264892"/>
                </a:moveTo>
                <a:lnTo>
                  <a:pt x="1983005" y="264892"/>
                </a:lnTo>
                <a:lnTo>
                  <a:pt x="1983005" y="567332"/>
                </a:lnTo>
                <a:lnTo>
                  <a:pt x="303011" y="567332"/>
                </a:lnTo>
                <a:lnTo>
                  <a:pt x="303011" y="264892"/>
                </a:lnTo>
                <a:close/>
                <a:moveTo>
                  <a:pt x="303011" y="718552"/>
                </a:moveTo>
                <a:lnTo>
                  <a:pt x="1983005" y="718552"/>
                </a:lnTo>
                <a:lnTo>
                  <a:pt x="1983005" y="1020992"/>
                </a:lnTo>
                <a:lnTo>
                  <a:pt x="303011" y="1020992"/>
                </a:lnTo>
                <a:lnTo>
                  <a:pt x="303011" y="718552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26493 0.00069 E">
                                      <p:cBhvr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28264 -0.00486 E">
                                      <p:cBhvr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28229 -0.00162 E">
                                      <p:cBhvr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0.0162 L 0.14062 0.01667 E">
                                      <p:cBhvr>
                                        <p:cTn id="13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-0.0875 0.02592 E">
                                      <p:cBhvr>
                                        <p:cTn id="13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2431 L -0.09063 -0.11713 E">
                                      <p:cBhvr>
                                        <p:cTn id="13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1420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935760" y="171468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28608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42960" y="5786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714840" y="5786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357960" y="564372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ЦЕЛО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Группа 7"/>
          <p:cNvGrpSpPr/>
          <p:nvPr/>
        </p:nvGrpSpPr>
        <p:grpSpPr>
          <a:xfrm>
            <a:off x="857160" y="3071880"/>
            <a:ext cx="1143000" cy="2390760"/>
            <a:chOff x="857160" y="3071880"/>
            <a:chExt cx="1143000" cy="2390760"/>
          </a:xfrm>
        </p:grpSpPr>
        <p:pic>
          <p:nvPicPr>
            <p:cNvPr id="146" name="Picture 11" descr=""/>
            <p:cNvPicPr/>
            <p:nvPr/>
          </p:nvPicPr>
          <p:blipFill>
            <a:blip r:embed="rId1"/>
            <a:srcRect l="55174" t="0" r="6890" b="0"/>
            <a:stretch/>
          </p:blipFill>
          <p:spPr>
            <a:xfrm>
              <a:off x="1564560" y="307188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1" descr=""/>
            <p:cNvPicPr/>
            <p:nvPr/>
          </p:nvPicPr>
          <p:blipFill>
            <a:blip r:embed="rId2"/>
            <a:srcRect l="55174" t="0" r="6890" b="0"/>
            <a:stretch/>
          </p:blipFill>
          <p:spPr>
            <a:xfrm>
              <a:off x="1281600" y="4000680"/>
              <a:ext cx="435600" cy="14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"/>
            <p:cNvPicPr/>
            <p:nvPr/>
          </p:nvPicPr>
          <p:blipFill>
            <a:blip r:embed="rId3"/>
            <a:srcRect l="55174" t="0" r="6890" b="0"/>
            <a:stretch/>
          </p:blipFill>
          <p:spPr>
            <a:xfrm>
              <a:off x="857160" y="3071880"/>
              <a:ext cx="435600" cy="14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3857760" y="2928960"/>
            <a:ext cx="1118880" cy="145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5"/>
          <a:stretch/>
        </p:blipFill>
        <p:spPr>
          <a:xfrm>
            <a:off x="4500720" y="3929040"/>
            <a:ext cx="977760" cy="157176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13"/>
          <p:cNvGrpSpPr/>
          <p:nvPr/>
        </p:nvGrpSpPr>
        <p:grpSpPr>
          <a:xfrm>
            <a:off x="6715080" y="3143160"/>
            <a:ext cx="928800" cy="2247840"/>
            <a:chOff x="6715080" y="3143160"/>
            <a:chExt cx="928800" cy="2247840"/>
          </a:xfrm>
        </p:grpSpPr>
        <p:pic>
          <p:nvPicPr>
            <p:cNvPr id="152" name="Picture 11" descr=""/>
            <p:cNvPicPr/>
            <p:nvPr/>
          </p:nvPicPr>
          <p:blipFill>
            <a:blip r:embed="rId6"/>
            <a:srcRect l="55174" t="0" r="6890" b="0"/>
            <a:stretch/>
          </p:blipFill>
          <p:spPr>
            <a:xfrm>
              <a:off x="7290000" y="314316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7"/>
            <a:srcRect l="55174" t="0" r="6890" b="0"/>
            <a:stretch/>
          </p:blipFill>
          <p:spPr>
            <a:xfrm>
              <a:off x="7059960" y="4016520"/>
              <a:ext cx="353880" cy="13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1" descr=""/>
            <p:cNvPicPr/>
            <p:nvPr/>
          </p:nvPicPr>
          <p:blipFill>
            <a:blip r:embed="rId8"/>
            <a:srcRect l="55174" t="0" r="6890" b="0"/>
            <a:stretch/>
          </p:blipFill>
          <p:spPr>
            <a:xfrm>
              <a:off x="6715080" y="3143160"/>
              <a:ext cx="353880" cy="13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2" descr=""/>
          <p:cNvPicPr/>
          <p:nvPr/>
        </p:nvPicPr>
        <p:blipFill>
          <a:blip r:embed="rId9"/>
          <a:stretch/>
        </p:blipFill>
        <p:spPr>
          <a:xfrm>
            <a:off x="7429680" y="2428920"/>
            <a:ext cx="94932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0"/>
          <a:stretch/>
        </p:blipFill>
        <p:spPr>
          <a:xfrm>
            <a:off x="7858080" y="3929040"/>
            <a:ext cx="824040" cy="1322280"/>
          </a:xfrm>
          <a:prstGeom prst="rect">
            <a:avLst/>
          </a:prstGeom>
          <a:ln w="0">
            <a:noFill/>
          </a:ln>
        </p:spPr>
      </p:pic>
      <p:sp>
        <p:nvSpPr>
          <p:cNvPr id="157" name="Плюс 19"/>
          <p:cNvSpPr/>
          <p:nvPr/>
        </p:nvSpPr>
        <p:spPr>
          <a:xfrm>
            <a:off x="2571840" y="3714840"/>
            <a:ext cx="857160" cy="857160"/>
          </a:xfrm>
          <a:custGeom>
            <a:avLst/>
            <a:gdLst/>
            <a:ahLst/>
            <a:rect l="l" t="t" r="r" b="b"/>
            <a:pathLst>
              <a:path w="857256" h="857256">
                <a:moveTo>
                  <a:pt x="113629" y="327815"/>
                </a:moveTo>
                <a:lnTo>
                  <a:pt x="327815" y="327815"/>
                </a:lnTo>
                <a:lnTo>
                  <a:pt x="327815" y="113629"/>
                </a:lnTo>
                <a:lnTo>
                  <a:pt x="529441" y="113629"/>
                </a:lnTo>
                <a:lnTo>
                  <a:pt x="529441" y="327815"/>
                </a:lnTo>
                <a:lnTo>
                  <a:pt x="743627" y="327815"/>
                </a:lnTo>
                <a:lnTo>
                  <a:pt x="743627" y="529441"/>
                </a:lnTo>
                <a:lnTo>
                  <a:pt x="529441" y="529441"/>
                </a:lnTo>
                <a:lnTo>
                  <a:pt x="529441" y="743627"/>
                </a:lnTo>
                <a:lnTo>
                  <a:pt x="327815" y="743627"/>
                </a:lnTo>
                <a:lnTo>
                  <a:pt x="327815" y="529441"/>
                </a:lnTo>
                <a:lnTo>
                  <a:pt x="113629" y="529441"/>
                </a:lnTo>
                <a:lnTo>
                  <a:pt x="113629" y="32781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Равно 20"/>
          <p:cNvSpPr/>
          <p:nvPr/>
        </p:nvSpPr>
        <p:spPr>
          <a:xfrm>
            <a:off x="5357880" y="3643200"/>
            <a:ext cx="1143000" cy="642960"/>
          </a:xfrm>
          <a:custGeom>
            <a:avLst/>
            <a:gdLst/>
            <a:ahLst/>
            <a:rect l="l" t="t" r="r" b="b"/>
            <a:pathLst>
              <a:path w="1143008" h="642942">
                <a:moveTo>
                  <a:pt x="151506" y="132446"/>
                </a:moveTo>
                <a:lnTo>
                  <a:pt x="991502" y="132446"/>
                </a:lnTo>
                <a:lnTo>
                  <a:pt x="991502" y="283666"/>
                </a:lnTo>
                <a:lnTo>
                  <a:pt x="151506" y="283666"/>
                </a:lnTo>
                <a:lnTo>
                  <a:pt x="151506" y="132446"/>
                </a:lnTo>
                <a:close/>
                <a:moveTo>
                  <a:pt x="151506" y="359276"/>
                </a:moveTo>
                <a:lnTo>
                  <a:pt x="991502" y="359276"/>
                </a:lnTo>
                <a:lnTo>
                  <a:pt x="991502" y="510496"/>
                </a:lnTo>
                <a:lnTo>
                  <a:pt x="151506" y="510496"/>
                </a:lnTo>
                <a:lnTo>
                  <a:pt x="151506" y="35927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1"/>
          <p:cNvSpPr/>
          <p:nvPr/>
        </p:nvSpPr>
        <p:spPr>
          <a:xfrm>
            <a:off x="2071800" y="21420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СЛОЖ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6:16:59Z</dcterms:created>
  <dc:creator>NinaBook</dc:creator>
  <dc:description/>
  <dc:language>en-US</dc:language>
  <cp:lastModifiedBy>NinaBook</cp:lastModifiedBy>
  <dcterms:modified xsi:type="dcterms:W3CDTF">2012-12-08T17:16:29Z</dcterms:modified>
  <cp:revision>20</cp:revision>
  <dc:subject/>
  <dc:title>Слайд 1</dc:title>
</cp:coreProperties>
</file>