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C2F-CF68-40CF-9CC5-B87414284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2A2A-964C-4F25-9749-76DEBB02A9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C49-DFF9-472A-A71E-3EE757778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E928-124C-4F2E-B3BE-7C685A12E9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0D3A-A8D9-4137-992F-20936FB6AF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A76-F074-4E7D-A196-D3BA1AD7E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6C7-74F4-433A-B219-CFF2A85DCA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4CA0-EB4A-4BBB-914A-F5483B659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4A78-68FC-457E-8935-5B55EA583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405-096E-4732-B062-8D95C4656C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B1F-013D-4C4E-9A9F-437025551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968-555C-4B26-BD7B-8C571AE0A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FB4-538C-431D-B43F-50D2BADE7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9BE-BD40-4815-8A7D-B8ABE1D07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03EC-49D0-4FDF-A3B0-57137D1CD2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E5-4D7F-4A99-B0FF-11BE7429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9EB-FDCB-49DC-A969-8FA7F02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F9B-F919-44E0-BAFA-54AB7253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E71-EB17-4C4A-9F82-7DB1644C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855-53F1-4BA9-979D-8F9DD852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14B-4FEE-43EE-99A3-5BD58E64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B2B-85D3-4395-BAC6-7FF18D4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0F8-B189-4056-90D5-D5917F81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4DD-A36B-4E3A-B1AA-ADEA487A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A1F-C604-4805-A7DE-3653344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0B8-781F-4D08-8DDD-B051D37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95B-1B9C-4693-94D4-A568763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C8D-15C2-47A3-A691-F6CA698B0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86200" y="214200"/>
            <a:ext cx="4129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очный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2040" y="4571640"/>
            <a:ext cx="385776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зучаем на урок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 – Петрова О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Ольга\Desktop\a78d1a24531178175b3e035ee7f3f89b.jpg"/>
          <p:cNvPicPr/>
          <p:nvPr/>
        </p:nvPicPr>
        <p:blipFill>
          <a:blip r:embed="rId1"/>
          <a:stretch/>
        </p:blipFill>
        <p:spPr>
          <a:xfrm>
            <a:off x="0" y="0"/>
            <a:ext cx="4838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ле этого, приступаем к декупаж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мачиваем разведенным акриловым лаком обе поверхности – и кошечку и салфетку. Как можно быстро, наклеиваем и разравниваем, слегка вдавливая в основу. Сильно приглаживать не стоит – салфетка может порваться.. Сверху притампониваем сухой тряпочкой или салфеткой.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кажу сразу, что удобно работать с небольшими фрагментами. Лак не так быстро высыха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чинаем декупажить всегда сзади, сверху – вни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Ольга\Desktop\8c4f58d6f647e27373154333ea8b6167.jpg"/>
          <p:cNvPicPr/>
          <p:nvPr/>
        </p:nvPicPr>
        <p:blipFill>
          <a:blip r:embed="rId1"/>
          <a:stretch/>
        </p:blipFill>
        <p:spPr>
          <a:xfrm>
            <a:off x="492120" y="428760"/>
            <a:ext cx="39686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образуются морщинки, или видно край фрагмента рисунка, то это не беда. Дать хорошенько высохнуть (примерно 3-4 часа) и аккуратно зашкурить мелкой наждачкой. Затем рисунок можно подписать цветом в тех местах, где надо скрыть белые проплешинки. Покрываем неразведенным лаком 2 раза, с интервалом в 3 часа. Даем высохнуть. Через сутки акриловый лак полимеризуется и становится крепким и эластич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Ольга\Desktop\535719e8d44c5708f1ecb6128af86c1b.jpg"/>
          <p:cNvPicPr/>
          <p:nvPr/>
        </p:nvPicPr>
        <p:blipFill>
          <a:blip r:embed="rId1"/>
          <a:stretch/>
        </p:blipFill>
        <p:spPr>
          <a:xfrm>
            <a:off x="457200" y="463680"/>
            <a:ext cx="40384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ш кот готов! Можно украсить его аксессуарами. Например, галстуком-бабочкой. Свернуть ленту и приклеить на «Момент-кристалл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Теперь, он будет радовать вас своими яблочными бочками даже зимо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Ольга\Desktop\88df4f56c16cfa86575e6cc05dd550c5.jpg"/>
          <p:cNvPicPr/>
          <p:nvPr/>
        </p:nvPicPr>
        <p:blipFill>
          <a:blip r:embed="rId1"/>
          <a:stretch/>
        </p:blipFill>
        <p:spPr>
          <a:xfrm>
            <a:off x="5359320" y="1862280"/>
            <a:ext cx="2616120" cy="400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Ольга\Desktop\b400eb733290e203b4a402d9b0d6219a.jpg"/>
          <p:cNvPicPr/>
          <p:nvPr/>
        </p:nvPicPr>
        <p:blipFill>
          <a:blip r:embed="rId2"/>
          <a:stretch/>
        </p:blipFill>
        <p:spPr>
          <a:xfrm>
            <a:off x="1039680" y="1862280"/>
            <a:ext cx="2873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Ольга\Desktop\cot1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Ольга\Desktop\03.jpg"/>
          <p:cNvPicPr/>
          <p:nvPr/>
        </p:nvPicPr>
        <p:blipFill>
          <a:blip r:embed="rId1"/>
          <a:stretch/>
        </p:blipFill>
        <p:spPr>
          <a:xfrm>
            <a:off x="142920" y="221472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Ольга\Desktop\11.jpg"/>
          <p:cNvPicPr/>
          <p:nvPr/>
        </p:nvPicPr>
        <p:blipFill>
          <a:blip r:embed="rId2"/>
          <a:stretch/>
        </p:blipFill>
        <p:spPr>
          <a:xfrm>
            <a:off x="5929200" y="0"/>
            <a:ext cx="30416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Ольга\Desktop\05.jpg"/>
          <p:cNvPicPr/>
          <p:nvPr/>
        </p:nvPicPr>
        <p:blipFill>
          <a:blip r:embed="rId3"/>
          <a:stretch/>
        </p:blipFill>
        <p:spPr>
          <a:xfrm>
            <a:off x="2928960" y="1500120"/>
            <a:ext cx="29620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работы нам понадобя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Белая бязь х/б размером примерно 30х40с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Холлофайбер или синтепо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Клей Пв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Акриловые краск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Акриловый глянцевый прозрачный ла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 Красивые салфетки или декупажная кар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7. Кусочек плотного карт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бязи рисуем крой кошки, сострачиваем. Выворачиваем и плотно набиваем холлофайбером или синтепоном. Лапки простегива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Ольга\Desktop\3a4e040ded2ab6fcd035b45be70fc72d.jpg"/>
          <p:cNvPicPr/>
          <p:nvPr/>
        </p:nvPicPr>
        <p:blipFill>
          <a:blip r:embed="rId1"/>
          <a:stretch/>
        </p:blipFill>
        <p:spPr>
          <a:xfrm>
            <a:off x="2786040" y="1643040"/>
            <a:ext cx="32162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жно учесть, что после грунтовки клеем Пва – в незаполненных местах могут образоваться пуст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Ольга\Desktop\c73d8e97c5e6ab888921ab00dfda3436.jpg"/>
          <p:cNvPicPr/>
          <p:nvPr/>
        </p:nvPicPr>
        <p:blipFill>
          <a:blip r:embed="rId1"/>
          <a:stretch/>
        </p:blipFill>
        <p:spPr>
          <a:xfrm>
            <a:off x="2786040" y="1600200"/>
            <a:ext cx="32004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основанию кошки пришиваем кусочек картона, обклеенный бязью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Это нужно для того, чтобы синтепон не выпячивался бугорком и кошка стояла ровно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Ольга\Desktop\5ce922089316d96f31197f2b0c96a3c2.jpg"/>
          <p:cNvPicPr/>
          <p:nvPr/>
        </p:nvPicPr>
        <p:blipFill>
          <a:blip r:embed="rId1"/>
          <a:stretch/>
        </p:blipFill>
        <p:spPr>
          <a:xfrm>
            <a:off x="1500120" y="1600200"/>
            <a:ext cx="5546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 же сшиваем и набиваем хвостик и пришиваем его к кошачьей поп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Ольга\Desktop\ba0d685b7a0876df2455bce235560a02.jpg"/>
          <p:cNvPicPr/>
          <p:nvPr/>
        </p:nvPicPr>
        <p:blipFill>
          <a:blip r:embed="rId1"/>
          <a:stretch/>
        </p:blipFill>
        <p:spPr>
          <a:xfrm>
            <a:off x="2500200" y="1600200"/>
            <a:ext cx="3784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тем грунтуем кошечку разведенным Пва и даем высохнуть сутки. На следующий день, разводим белую акриловую краску и покрываем всю кошечку. Даем высохнуть. Карандашом рисуем мордочку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Ольга\Desktop\e55871f9e50c13f3f8605bd74a3f61c0.jpg"/>
          <p:cNvPicPr/>
          <p:nvPr/>
        </p:nvPicPr>
        <p:blipFill>
          <a:blip r:embed="rId1"/>
          <a:stretch/>
        </p:blipFill>
        <p:spPr>
          <a:xfrm>
            <a:off x="2571840" y="1600200"/>
            <a:ext cx="3625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следующий день, разводим белую акриловую краску и покрываем всю кошечку. Даем высохнуть. Карандашом рисуем мордоч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Ольга\Desktop\b013a70e1226a660a62707c47e935f85.jpg"/>
          <p:cNvPicPr/>
          <p:nvPr/>
        </p:nvPicPr>
        <p:blipFill>
          <a:blip r:embed="rId1"/>
          <a:stretch/>
        </p:blipFill>
        <p:spPr>
          <a:xfrm>
            <a:off x="2571840" y="1600200"/>
            <a:ext cx="3579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тем акриловыми красками намечаем границы рисунка, желательно в тон будущей расцветки. И разрисовываем мордочку кошки. Глаза, носик, 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Ольга\Desktop\41d983c5080ab815b6f177929fff9a0a.jpg"/>
          <p:cNvPicPr/>
          <p:nvPr/>
        </p:nvPicPr>
        <p:blipFill>
          <a:blip r:embed="rId1"/>
          <a:stretch/>
        </p:blipFill>
        <p:spPr>
          <a:xfrm>
            <a:off x="2643120" y="1600200"/>
            <a:ext cx="34498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4:16:38Z</dcterms:created>
  <dc:creator>Ольга</dc:creator>
  <dc:description/>
  <dc:language>en-US</dc:language>
  <cp:lastModifiedBy>u</cp:lastModifiedBy>
  <dcterms:modified xsi:type="dcterms:W3CDTF">2012-12-08T10:43:49Z</dcterms:modified>
  <cp:revision>5</cp:revision>
  <dc:subject/>
  <dc:title>Слайд 1</dc:title>
</cp:coreProperties>
</file>