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822B-F546-4F10-BD92-2806B822E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D3B6-D39A-4086-86BB-C66658F886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54D2-7C05-4562-9D54-C2040AEDB0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EFF-13EB-492F-9BA9-B8C69C9E01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92B4-4ABB-4F03-8BF5-10D9A01CE1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0E83-F88D-46D1-BEB3-00D387C448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272-9E72-4500-A021-2DE832C14B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C73-2524-4427-AF47-F2D37BCBB4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C6F3-02AB-4AE4-8DD4-163F74209D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162-68BB-4FD7-A028-69CB3DF641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920-A953-4260-BB4B-7E4D84ED8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C1F-18E6-4562-8351-B199684DA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346D-AAAE-4CAC-9EC1-E724CD615B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58EB-A352-4C6C-934F-238F20A988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B69D-46F7-4EFB-97FD-B2B94CB1A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2C7-A52A-4561-BDA0-EC14AF73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865-8DD8-490A-9575-18413214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04F-5766-4BB8-8E26-790729EF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823-BB9D-45CD-9BA2-C2BC532C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115-DB0F-4287-91B8-7A6EF5DC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BE3-5FCB-456C-B519-7542AE17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905-D853-480F-A2BA-8B2E47F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AAC-A2A1-4884-93D7-259C1061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CF8-31FD-4CAC-A195-743B01E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4BB-0C7C-4235-AA4D-CF5B835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ECA-C839-46AC-AF41-11DC90D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82D-25D7-4645-8188-1FB26C1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F61-E126-448C-BE06-3E0B39425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86200" y="214200"/>
            <a:ext cx="4129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блочный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2040" y="4571640"/>
            <a:ext cx="385776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зучаем на урок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 – Петрова О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Ольга\Desktop\a78d1a24531178175b3e035ee7f3f89b.jpg"/>
          <p:cNvPicPr/>
          <p:nvPr/>
        </p:nvPicPr>
        <p:blipFill>
          <a:blip r:embed="rId1"/>
          <a:stretch/>
        </p:blipFill>
        <p:spPr>
          <a:xfrm>
            <a:off x="0" y="0"/>
            <a:ext cx="48387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ле этого, приступаем к декупаж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мачиваем разведенным акриловым лаком обе поверхности – и кошечку и салфетку. Как можно быстро, наклеиваем и разравниваем, слегка вдавливая в основу. Сильно приглаживать не стоит – салфетка может порваться.. Сверху притампониваем сухой тряпочкой или салфеткой.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кажу сразу, что удобно работать с небольшими фрагментами. Лак не так быстро высыха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чинаем декупажить всегда сзади, сверху – вни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Ольга\Desktop\8c4f58d6f647e27373154333ea8b6167.jpg"/>
          <p:cNvPicPr/>
          <p:nvPr/>
        </p:nvPicPr>
        <p:blipFill>
          <a:blip r:embed="rId1"/>
          <a:stretch/>
        </p:blipFill>
        <p:spPr>
          <a:xfrm>
            <a:off x="492120" y="428760"/>
            <a:ext cx="39686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 образуются морщинки, или видно край фрагмента рисунка, то это не беда. Дать хорошенько высохнуть (примерно 3-4 часа) и аккуратно зашкурить мелкой наждачкой. Затем рисунок можно подписать цветом в тех местах, где надо скрыть белые проплешинки. Покрываем неразведенным лаком 2 раза, с интервалом в 3 часа. Даем высохнуть. Через сутки акриловый лак полимеризуется и становится крепким и эластич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Ольга\Desktop\535719e8d44c5708f1ecb6128af86c1b.jpg"/>
          <p:cNvPicPr/>
          <p:nvPr/>
        </p:nvPicPr>
        <p:blipFill>
          <a:blip r:embed="rId1"/>
          <a:stretch/>
        </p:blipFill>
        <p:spPr>
          <a:xfrm>
            <a:off x="457200" y="463680"/>
            <a:ext cx="40384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ш кот готов! Можно украсить его аксессуарами. Например, галстуком-бабочкой. Свернуть ленту и приклеить на «Момент-кристалл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Теперь, он будет радовать вас своими яблочными бочками даже зимо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Ольга\Desktop\88df4f56c16cfa86575e6cc05dd550c5.jpg"/>
          <p:cNvPicPr/>
          <p:nvPr/>
        </p:nvPicPr>
        <p:blipFill>
          <a:blip r:embed="rId1"/>
          <a:stretch/>
        </p:blipFill>
        <p:spPr>
          <a:xfrm>
            <a:off x="5359320" y="1862280"/>
            <a:ext cx="2616120" cy="4000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Ольга\Desktop\b400eb733290e203b4a402d9b0d6219a.jpg"/>
          <p:cNvPicPr/>
          <p:nvPr/>
        </p:nvPicPr>
        <p:blipFill>
          <a:blip r:embed="rId2"/>
          <a:stretch/>
        </p:blipFill>
        <p:spPr>
          <a:xfrm>
            <a:off x="1039680" y="1862280"/>
            <a:ext cx="2873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Ольга\Desktop\cot1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Ольга\Desktop\03.jpg"/>
          <p:cNvPicPr/>
          <p:nvPr/>
        </p:nvPicPr>
        <p:blipFill>
          <a:blip r:embed="rId1"/>
          <a:stretch/>
        </p:blipFill>
        <p:spPr>
          <a:xfrm>
            <a:off x="142920" y="221472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Ольга\Desktop\11.jpg"/>
          <p:cNvPicPr/>
          <p:nvPr/>
        </p:nvPicPr>
        <p:blipFill>
          <a:blip r:embed="rId2"/>
          <a:stretch/>
        </p:blipFill>
        <p:spPr>
          <a:xfrm>
            <a:off x="5929200" y="0"/>
            <a:ext cx="304164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Ольга\Desktop\05.jpg"/>
          <p:cNvPicPr/>
          <p:nvPr/>
        </p:nvPicPr>
        <p:blipFill>
          <a:blip r:embed="rId3"/>
          <a:stretch/>
        </p:blipFill>
        <p:spPr>
          <a:xfrm>
            <a:off x="2928960" y="1500120"/>
            <a:ext cx="296208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работы нам понадобя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Белая бязь х/б размером примерно 30х40с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Холлофайбер или синтепо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Клей Пв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Акриловые краск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Акриловый глянцевый прозрачный ла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. Красивые салфетки или декупажная кар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7. Кусочек плотного карт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бязи рисуем крой кошки, сострачиваем. Выворачиваем и плотно набиваем холлофайбером или синтепоном. Лапки простегива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Ольга\Desktop\3a4e040ded2ab6fcd035b45be70fc72d.jpg"/>
          <p:cNvPicPr/>
          <p:nvPr/>
        </p:nvPicPr>
        <p:blipFill>
          <a:blip r:embed="rId1"/>
          <a:stretch/>
        </p:blipFill>
        <p:spPr>
          <a:xfrm>
            <a:off x="2786040" y="1643040"/>
            <a:ext cx="32162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жно учесть, что после грунтовки клеем Пва – в незаполненных местах могут образоваться пуст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Ольга\Desktop\c73d8e97c5e6ab888921ab00dfda3436.jpg"/>
          <p:cNvPicPr/>
          <p:nvPr/>
        </p:nvPicPr>
        <p:blipFill>
          <a:blip r:embed="rId1"/>
          <a:stretch/>
        </p:blipFill>
        <p:spPr>
          <a:xfrm>
            <a:off x="2786040" y="1600200"/>
            <a:ext cx="32004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основанию кошки пришиваем кусочек картона, обклеенный бязью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Это нужно для того, чтобы синтепон не выпячивался бугорком и кошка стояла ровно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Ольга\Desktop\5ce922089316d96f31197f2b0c96a3c2.jpg"/>
          <p:cNvPicPr/>
          <p:nvPr/>
        </p:nvPicPr>
        <p:blipFill>
          <a:blip r:embed="rId1"/>
          <a:stretch/>
        </p:blipFill>
        <p:spPr>
          <a:xfrm>
            <a:off x="1500120" y="1600200"/>
            <a:ext cx="5546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 же сшиваем и набиваем хвостик и пришиваем его к кошачьей поп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Ольга\Desktop\ba0d685b7a0876df2455bce235560a02.jpg"/>
          <p:cNvPicPr/>
          <p:nvPr/>
        </p:nvPicPr>
        <p:blipFill>
          <a:blip r:embed="rId1"/>
          <a:stretch/>
        </p:blipFill>
        <p:spPr>
          <a:xfrm>
            <a:off x="2500200" y="1600200"/>
            <a:ext cx="3784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тем грунтуем кошечку разведенным Пва и даем высохнуть сутки. На следующий день, разводим белую акриловую краску и покрываем всю кошечку. Даем высохнуть. Карандашом рисуем мордочку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Ольга\Desktop\e55871f9e50c13f3f8605bd74a3f61c0.jpg"/>
          <p:cNvPicPr/>
          <p:nvPr/>
        </p:nvPicPr>
        <p:blipFill>
          <a:blip r:embed="rId1"/>
          <a:stretch/>
        </p:blipFill>
        <p:spPr>
          <a:xfrm>
            <a:off x="2571840" y="1600200"/>
            <a:ext cx="36259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следующий день, разводим белую акриловую краску и покрываем всю кошечку. Даем высохнуть. Карандашом рисуем мордоч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Ольга\Desktop\b013a70e1226a660a62707c47e935f85.jpg"/>
          <p:cNvPicPr/>
          <p:nvPr/>
        </p:nvPicPr>
        <p:blipFill>
          <a:blip r:embed="rId1"/>
          <a:stretch/>
        </p:blipFill>
        <p:spPr>
          <a:xfrm>
            <a:off x="2571840" y="1600200"/>
            <a:ext cx="3579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тем акриловыми красками намечаем границы рисунка, желательно в тон будущей расцветки. И разрисовываем мордочку кошки. Глаза, носик, у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Ольга\Desktop\41d983c5080ab815b6f177929fff9a0a.jpg"/>
          <p:cNvPicPr/>
          <p:nvPr/>
        </p:nvPicPr>
        <p:blipFill>
          <a:blip r:embed="rId1"/>
          <a:stretch/>
        </p:blipFill>
        <p:spPr>
          <a:xfrm>
            <a:off x="2643120" y="1600200"/>
            <a:ext cx="34498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4:16:38Z</dcterms:created>
  <dc:creator>Ольга</dc:creator>
  <dc:description/>
  <dc:language>en-US</dc:language>
  <cp:lastModifiedBy>u</cp:lastModifiedBy>
  <dcterms:modified xsi:type="dcterms:W3CDTF">2012-12-08T10:43:49Z</dcterms:modified>
  <cp:revision>5</cp:revision>
  <dc:subject/>
  <dc:title>Слайд 1</dc:title>
</cp:coreProperties>
</file>