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DD7-FDBB-4ACF-B7E4-42DDD5E1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5EA-3871-4917-8BCA-9A99BE53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069-2A15-4870-9CF5-0B9B5206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3D0-C84D-4DB7-B5CB-0EB37387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102-0FC7-4519-9274-00C13CC9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3CF-732E-4D55-9552-4B5DBC2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89F-87DC-4EA4-85A1-95795849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7B6-A519-4140-8F7D-546C5CC8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920-BAA1-4828-B1CF-1147AF5B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ECF-8774-44A6-B178-1AC351E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7D7-1FDB-40A2-8CBA-03DC6EE7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98A-2392-43DF-9165-60D9004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208-1688-4CDD-A457-E69182D4F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tranamasterov.ru/technics/water_bomb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 &amp;Mcy;&amp;acy;&amp;scy;&amp;tcy;&amp;iecy;&amp;rcy;-&amp;kcy;&amp;lcy;&amp;acy;&amp;scy;&amp;scy; &amp;Ocy;&amp;rcy;&amp;icy;&amp;gcy;&amp;acy;&amp;mcy;&amp;icy; &amp;mcy;&amp;ocy;&amp;dcy;&amp;ucy;&amp;lcy;&amp;softcy;&amp;ncy;&amp;ocy;&amp;iecy;: &amp;IOcy;&amp;lcy;&amp;ocy;&amp;chcy;&amp;kcy;&amp;acy; &amp;ncy;&amp;acy; &amp;scy;&amp;ncy;&amp;iecy;&amp;gcy;&amp;ucy; &amp;Bcy;&amp;ucy;&amp;mcy;&amp;acy;&amp;gcy;&amp;acy; &amp;Ncy;&amp;ocy;&amp;vcy;&amp;ycy;&amp;jcy; &amp;gcy;&amp;ocy;&amp;dcy;"/>
          <p:cNvPicPr/>
          <p:nvPr/>
        </p:nvPicPr>
        <p:blipFill>
          <a:blip r:embed="rId1"/>
          <a:srcRect l="4951" t="4508" r="2834" b="3116"/>
          <a:stretch/>
        </p:blipFill>
        <p:spPr>
          <a:xfrm>
            <a:off x="2016000" y="0"/>
            <a:ext cx="500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tranamasterov.ru/files/imagecache/orig_with_logo2/images/techno/paper/PICT3592.jpg"/>
          <p:cNvPicPr/>
          <p:nvPr/>
        </p:nvPicPr>
        <p:blipFill>
          <a:blip r:embed="rId1"/>
          <a:stretch/>
        </p:blipFill>
        <p:spPr>
          <a:xfrm>
            <a:off x="755640" y="2060640"/>
            <a:ext cx="6912000" cy="37098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324000" y="40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сложить модули, возьми несколько квадратов со стороной 8-10 см. Начни с базовой формы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одяная бомбоч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346760" y="5661000"/>
            <a:ext cx="65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ложи верхний угол к сере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tranamasterov.ru/files/imagecache/orig_with_logo2/images/techno/paper/PICT3593.jpg"/>
          <p:cNvPicPr/>
          <p:nvPr/>
        </p:nvPicPr>
        <p:blipFill>
          <a:blip r:embed="rId1"/>
          <a:stretch/>
        </p:blipFill>
        <p:spPr>
          <a:xfrm>
            <a:off x="395280" y="333360"/>
            <a:ext cx="7705800" cy="46227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215440" y="5446800"/>
            <a:ext cx="55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втори с другой стор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11280" y="487584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ни вперёд угол нижнего слоя таким образом, чтобы он закрыл половину верхнего треугольник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stranamasterov.ru/files/imagecache/orig_with_logo2/images/techno/paper/PICT3594.jpg"/>
          <p:cNvPicPr/>
          <p:nvPr/>
        </p:nvPicPr>
        <p:blipFill>
          <a:blip r:embed="rId1"/>
          <a:stretch/>
        </p:blipFill>
        <p:spPr>
          <a:xfrm>
            <a:off x="1403280" y="189000"/>
            <a:ext cx="6769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tranamasterov.ru/files/imagecache/orig_with_logo2/images/techno/paper/PICT3595.jpg"/>
          <p:cNvPicPr/>
          <p:nvPr/>
        </p:nvPicPr>
        <p:blipFill>
          <a:blip r:embed="rId1"/>
          <a:stretch/>
        </p:blipFill>
        <p:spPr>
          <a:xfrm>
            <a:off x="611280" y="44280"/>
            <a:ext cx="6840360" cy="5654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1710720" y="5446800"/>
            <a:ext cx="66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тори с другой стороны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stranamasterov.ru/files/imagecache/orig_with_logo2/images/techno/paper/PICT3596.jpg"/>
          <p:cNvPicPr/>
          <p:nvPr/>
        </p:nvPicPr>
        <p:blipFill>
          <a:blip r:embed="rId1"/>
          <a:stretch/>
        </p:blipFill>
        <p:spPr>
          <a:xfrm>
            <a:off x="2016000" y="333360"/>
            <a:ext cx="53643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 &amp;Mcy;&amp;acy;&amp;scy;&amp;tcy;&amp;iecy;&amp;rcy;-&amp;kcy;&amp;lcy;&amp;acy;&amp;scy;&amp;scy; &amp;Ocy;&amp;rcy;&amp;icy;&amp;gcy;&amp;acy;&amp;mcy;&amp;icy; &amp;mcy;&amp;ocy;&amp;dcy;&amp;ucy;&amp;lcy;&amp;softcy;&amp;ncy;&amp;ocy;&amp;iecy;: &amp;IOcy;&amp;lcy;&amp;ocy;&amp;chcy;&amp;kcy;&amp;acy; &amp;ncy;&amp;acy; &amp;scy;&amp;ncy;&amp;iecy;&amp;gcy;&amp;ucy; &amp;Bcy;&amp;ucy;&amp;mcy;&amp;acy;&amp;gcy;&amp;acy; &amp;Ncy;&amp;ocy;&amp;vcy;&amp;ycy;&amp;jcy; &amp;gcy;&amp;ocy;&amp;dcy;"/>
          <p:cNvPicPr/>
          <p:nvPr/>
        </p:nvPicPr>
        <p:blipFill>
          <a:blip r:embed="rId1"/>
          <a:srcRect l="4951" t="4508" r="2834" b="3116"/>
          <a:stretch/>
        </p:blipFill>
        <p:spPr>
          <a:xfrm>
            <a:off x="2016000" y="0"/>
            <a:ext cx="500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6:09:08Z</dcterms:created>
  <dc:creator>student</dc:creator>
  <dc:description/>
  <dc:language>en-US</dc:language>
  <cp:lastModifiedBy>student</cp:lastModifiedBy>
  <dcterms:modified xsi:type="dcterms:W3CDTF">2012-10-26T16:18:53Z</dcterms:modified>
  <cp:revision>2</cp:revision>
  <dc:subject/>
  <dc:title>Слайд 1</dc:title>
</cp:coreProperties>
</file>