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127-0FB9-47BD-AFA0-5308888B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FB7-27B6-46CB-816C-6913669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8DC-862F-4E99-B939-4BFAEC5A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A89-B24B-4B4F-B252-C62BF07E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F72-2AD7-4824-A989-83754B54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5AE-E0EB-4358-8706-797043DA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1AA-10E2-4336-9F3C-A0504C14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C5E-A6F8-4BA9-9B34-51C971E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502-A26D-4838-A6D4-675F9149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CCA-A16F-41FA-AD72-8575F8BD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CC4-6C66-46B2-8898-932D4F78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3DE-D2E4-4001-B054-7341190B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25E-CED2-4D23-864D-5E43E98149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999800"/>
            <a:ext cx="53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омпетентностно-ориентированны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28800" y="3143160"/>
            <a:ext cx="7746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едмет: начальные классы (2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читель: Куштина Ирина Никола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Регуля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ланировать свои действия в соответствии с поставленной задач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ысказывать свои предпо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декватно воспринимать оценку свое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редвидеть возможные результаты свое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«Что узнали, чему научились» (технология;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 класс)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регулятивна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71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кст за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Миша и папа делают полку для книг. Папа попросил сына подобрать доску определённого разм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к поступит Миш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 помощью значка выбери инструмент для измерения, который Миша должен принести пап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4" descr="http://images.prom.ua/871466_w640_h640_pk112.jpg"/>
          <p:cNvPicPr/>
          <p:nvPr/>
        </p:nvPicPr>
        <p:blipFill>
          <a:blip r:embed="rId1"/>
          <a:srcRect l="21113" t="24197" r="19004" b="25929"/>
          <a:stretch/>
        </p:blipFill>
        <p:spPr>
          <a:xfrm>
            <a:off x="3763800" y="2879640"/>
            <a:ext cx="1667160" cy="1040040"/>
          </a:xfrm>
          <a:prstGeom prst="rect">
            <a:avLst/>
          </a:prstGeom>
          <a:ln w="9360">
            <a:solidFill>
              <a:srgbClr val="4f81bd"/>
            </a:solidFill>
            <a:round/>
          </a:ln>
        </p:spPr>
      </p:pic>
      <p:graphicFrame>
        <p:nvGraphicFramePr>
          <p:cNvPr id="49" name=""/>
          <p:cNvGraphicFramePr/>
          <p:nvPr/>
        </p:nvGraphicFramePr>
        <p:xfrm>
          <a:off x="468360" y="5445000"/>
          <a:ext cx="6076800" cy="93672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летка (линей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836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ус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ик матема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4b50"/>
                </a:solidFill>
                <a:latin typeface="Times New Roman"/>
              </a:rPr>
              <a:t>Коммуник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8000" y="836640"/>
            <a:ext cx="8928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пределение цели, функций участников, способов взаимо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нициативное сотрудничество в поиске и сборе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Выявление, поиск и оценка альтернативных способов разрешения конфликта, принятие решения и его реализ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мение с достаточной полнотой и точностью выражать свои мыс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Владение монологической и диалогической формами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Тема: «Учимся решать жизненные задачи» (окружающий мир; 2 класс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коммуникативная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ная формулиров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 Маше и Лене дали задание оценить поведение девочки и предложили варианты ответ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судив друг с другом все варианты, дайте правильную оценку поведения. Обоснуйте своё мн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ерите и отметьте значком правильную оценку поведения девоч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3" descr="C:\Users\Ученик.COMN6-HP\Pictures\2012-11-30 Ира\Ира 001.jpg"/>
          <p:cNvPicPr/>
          <p:nvPr/>
        </p:nvPicPr>
        <p:blipFill>
          <a:blip r:embed="rId1"/>
          <a:srcRect l="11895" t="62075" r="67050" b="12121"/>
          <a:stretch/>
        </p:blipFill>
        <p:spPr>
          <a:xfrm>
            <a:off x="5364000" y="2565360"/>
            <a:ext cx="1247760" cy="21034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graphicFrame>
        <p:nvGraphicFramePr>
          <p:cNvPr id="55" name=""/>
          <p:cNvGraphicFramePr/>
          <p:nvPr/>
        </p:nvGraphicFramePr>
        <p:xfrm>
          <a:off x="684360" y="5081760"/>
          <a:ext cx="7416720" cy="13716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поступает неправильно. Надо молчать, пока учитель не разрешит говори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вежливая. Она отвечает на вопросы соседа по пар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права, ведь ей очень нужно поговорить с дру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очка смелая. Она не боится делать то, что ей хоче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влекать информацию, представленную в разных формах (текст, таблица, схем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ерерабатывать полученную информацию: сравнивать, группиров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Делать выводы на основе обобщения умозаключ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  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«Метр» (математика; 2 класс) 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ые компетентности: информационная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1000"/>
            <a:ext cx="892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</a:rPr>
              <a:t>Задачная формулиров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 Нужно найти информацию, которая поможет ответить на вопрос: чему равно расстояние от деревни Плюшкино до посёлка Сладкоежкин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ть значком текст, в котором ХВАТАЕТ данных для ответа на поставленный вопрос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деревней Плюшкино и посёлком Сладкоежкино находится деревня Подушкино. Известно, что расстояние от Сладкоежкино до деревни Подушкино – 3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, полученным из музейного архива, от деревни Плюшкино до деревни Подушкино – 14 вёрст, а от деревни Подушкино до посёлка Сладкоежкино – 28 вёрст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Calibri"/>
              </a:rPr>
              <a:t>(Продолжение см. дале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924360" y="2293920"/>
            <a:ext cx="444816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  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«Метр» (математика; 2 класс) 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ые компетентности: информационная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197000"/>
            <a:ext cx="892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22268"/>
                </a:solidFill>
                <a:latin typeface="Times New Roman"/>
              </a:rPr>
              <a:t>Задачная формулировка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Нужно выразить расстояние от деревни Плюшкино до посёлка Сладкоежкино в километрах. Отметь значком книгу, которая наверняка содержит информацию, необходимую для решения задач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Занимательные задачи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борник «Таблицы старинных мер и весов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фографический словар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Отметь значком информацию, которая поможет выразить в километрах расстояние от деревни Плюшкино дпо деревни Сладкоежкино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которые старинные русские меры длины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 верста = 500 сажен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 миля = 7 вёрст – примерно семь с половиной километр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 аршин = 4 четверти = 28 дюймов = 16 вершко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Лебедева</cp:lastModifiedBy>
  <dcterms:modified xsi:type="dcterms:W3CDTF">2012-12-19T11:13:30Z</dcterms:modified>
  <cp:revision>52</cp:revision>
  <dc:subject/>
  <dc:title>Слайд 1</dc:title>
</cp:coreProperties>
</file>