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5E60-181F-4FF8-8238-05FC49D84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1901-D404-4A04-B2C8-AC3F764B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1A9A-67C4-4625-9796-876204817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C25C-C8D0-477E-A0C7-E0CF3CEDF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61E4-270C-41D8-92D3-6041C59C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496C-CB21-4946-95CE-DE37099B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B28C-AF3E-4632-B4C2-43919AFF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3FDC-88D8-4272-A459-EE44929F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FF3A-BA19-4143-A65A-82C3A3B6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EE86-8B9F-44F2-9A7D-08598794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D9F6-21A1-4AFA-BB8B-64E07EB0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2A96-8B73-4658-82F1-347A7B0C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859c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C46A-0A18-4424-BD1F-186424C3F6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71720"/>
            <a:ext cx="7772400" cy="25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начение первичного и вторичного дефектов в развитии ребенка, имеющего общее психическое недоразвитие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удачные пути компенсации приводят иногда к возникновению дурных привычек. Но возникший таким образом вред усугубляется тем, что, как отмечал еще К. Д. Ушинский, одна какая-либо привычка, раз появившись, прокладывает путь другой, аналогично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спитание положительных привычек способствует общему положительному направлению компенсации ребенка-олигофрена, а стихийное формирование дурных привычек побуждает его вступить на путь отрицательной, ложной компенс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жет ли болезнь быть причиной создания определенного склада характер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сочетаются влияние воспитания и влияние болезни на характер ребен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арактер (наряду с высшими формами памяти и мышлением) относится к вторичным образованиям в развитии психики ребенка-деби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.С. Выгот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859c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Привычка-вторая натура. Идиотия -почти во всех своих наиболее отталкивающих симптомах - является не созданием природы, а преимущественно результатом привычек; привычка к нервному тику, привычка к инертности, к невниманию, к крику, к неопрятности, к онанизму, привычка к повторению одних и тех же впечатлений и актов, к уклонению от нормальных функций - вот что составляет облик идиота».  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. Сеген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 органы без исключения, и особенно головной мозг, можно укрепить и развить упражнением. Оставаясь в бездействии, все органы, и опять-таки больше всех головной мозг, лишаются способности реагировать, теряют жизненность, атрофирую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ктическое зад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берите одного из учеников вашего класса, группы, анализируя его поведение, выделите вторичный дефект и компенсац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м образом информация о дефектах развития детей, их компенсации может помочь вам в работ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7375e"/>
                </a:solidFill>
                <a:latin typeface="Calibri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Использованная литератур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С.Я. Рубинштейн. Психология умственно отсталого школьника. :М., "ПРОСВЕЩЕНИЕ».: 1986 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Подготовила презентацию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Довженко Галина Александр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Педагог-психолог КОУ Омской облас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«Нововаршавская специальн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(коррекционная) общеобразовательна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школа- интернат VIII вид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В силу перенесенного поражения мозга умственно отсталому ребенку значительно труднее, чем здоровому, приспособиться к условиям окружающей его среды, труднее занять среди товарищей, сверстников, в школе и семье какую-либо устойчивую жизненную позицию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859c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ервичный дефек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лавными и ведущими неблагоприятными факторами оказываются слабая любознательность (ориентировка) и замедленная, затрудненная обучаемость ребенка, т. е. его плохая восприимчивость к новому. Это внутренние биологические ("ядерные") признаки умственной отсталости. Из-за этого ребенок выпадает из детского коллектива, минует два крупных этапа психического развития (овладение предметными действиями и ролевой игрой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торичный дефек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торично у него происходит недоразвитие всех высших психических функций (мышления, памяти,           характера и т. д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859c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Чем дальше отстоит симптом от первопричины, тем он более поддается воспитательному и лечебному воздействию».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.С. Выгот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доразвитие высших психических функций и высших характерологических образований, являющееся вторичным осложнением при олигофрении и психопатии, на деле оказывается менее устойчивым, более поддающимся воздействию, более устранимым, чем недоразвитие низших или элементарных процессов, непосредственно обусловленное самим дефекто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жет ли болезнь быть причиной создания определенного склада характер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сочетаются влияние воспитания и влияние болезни на характер ребен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илу перенесенного поражения мозга умственно отсталому ребенку значительно труднее, чем здоровому, приспособиться к условиям окружающей его среды. Чтобы добиться необходимой адаптации, он непрерывно вынужден пускать в ход компенсаторные механизм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859c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мпенсация является основой привыче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андр</cp:lastModifiedBy>
  <dcterms:modified xsi:type="dcterms:W3CDTF">2012-11-28T08:46:18Z</dcterms:modified>
  <cp:revision>13</cp:revision>
  <dc:subject/>
  <dc:title>Значение первичного и вторичного дефектов в развитии ребенка, имеющего общее психическое недоразвитие. </dc:title>
</cp:coreProperties>
</file>