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3763-345B-49EA-83D5-B8DB8736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BB2D-6A77-4FE9-83ED-165089D5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38CF-85A8-4817-B6D9-59B2B79B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1CAA-83B5-4C69-BC01-BCB38DE1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FE29-0DA0-4342-9B00-737CD23C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DEEE-E11E-4153-84FE-9EE80D87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6C62-AA53-437B-8D84-9A63365C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75B2-0740-4BAC-913F-EF3C57F1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11DB-3E86-4398-958A-4442DC8E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E4CD-A3BE-4867-A972-99406837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1B2-AAB8-4D3B-8E61-DFF4F6C7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FF45-1DE7-499C-97E2-341AEA94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859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0429-B1A6-47CE-84A1-E791A7B8BE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25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начение первичного и вторичного дефектов в развитии ребенка, имеющего общее психическое недоразвити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удачные пути компенсации приводят иногда к возникновению дурных привычек. Но возникший таким образом вред усугубляется тем, что, как отмечал еще К. Д. Ушинский, одна какая-либо привычка, раз появившись, прокладывает путь другой, аналогичн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ание положительных привычек способствует общему положительному направлению компенсации ребенка-олигофрена, а стихийное формирование дурных привычек побуждает его вступить на путь отрицательной, ложной компенс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т ли болезнь быть причиной создания определенного склада характе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четаются влияние воспитания и влияние болезни на характер ребен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 (наряду с высшими формами памяти и мышлением) относится к вторичным образованиям в развитии психики ребенка-деби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.С. Выгот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859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ривычка-вторая натура. Идиотия -почти во всех своих наиболее отталкивающих симптомах - является не созданием природы, а преимущественно результатом привычек; привычка к нервному тику, привычка к инертности, к невниманию, к крику, к неопрятности, к онанизму, привычка к повторению одних и тех же впечатлений и актов, к уклонению от нормальных функций - вот что составляет облик идиота».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. Сеген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органы без исключения, и особенно головной мозг, можно укрепить и развить упражнением. Оставаясь в бездействии, все органы, и опять-таки больше всех головной мозг, лишаются способности реагировать, теряют жизненность, атрофирую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ктическое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ерите одного из учеников вашего класса, группы, анализируя его поведение, выделите вторичный дефект и компенс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м образом информация о дефектах развития детей, их компенсации может помочь вам в рабо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7375e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Использованная литерату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С.Я. Рубинштейн. Психология умственно отсталого школьника. :М., "ПРОСВЕЩЕНИЕ».: 1986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одготовила презентаци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Довженко Галина Александ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Педагог-психолог КОУ Омской обла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«Нововаршавская специаль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(коррекционная) общеобразовательна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школа- интернат VIII вид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В силу перенесенного поражения мозга умственно отсталому ребенку значительно труднее, чем здоровому, приспособиться к условиям окружающей его среды, труднее занять среди товарищей, сверстников, в школе и семье какую-либо устойчивую жизненную позицию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859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ервичный дефе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лавными и ведущими неблагоприятными факторами оказываются слабая любознательность (ориентировка) и замедленная, затрудненная обучаемость ребенка, т. е. его плохая восприимчивость к новому. Это внутренние биологические ("ядерные") признаки умственной отсталости. Из-за этого ребенок выпадает из детского коллектива, минует два крупных этапа психического развития (овладение предметными действиями и ролевой игрой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торичный дефе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торично у него происходит недоразвитие всех высших психических функций (мышления, памяти,           характера и т. д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859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Чем дальше отстоит симптом от первопричины, тем он более поддается воспитательному и лечебному воздействию».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.С. Выгот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доразвитие высших психических функций и высших характерологических образований, являющееся вторичным осложнением при олигофрении и психопатии, на деле оказывается менее устойчивым, более поддающимся воздействию, более устранимым, чем недоразвитие низших или элементарных процессов, непосредственно обусловленное самим дефект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т ли болезнь быть причиной создания определенного склада характе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четаются влияние воспитания и влияние болезни на характер ребен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илу перенесенного поражения мозга умственно отсталому ребенку значительно труднее, чем здоровому, приспособиться к условиям окружающей его среды. Чтобы добиться необходимой адаптации, он непрерывно вынужден пускать в ход компенсаторные механиз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859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мпенсация является основой привыч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12-11-28T08:46:18Z</dcterms:modified>
  <cp:revision>13</cp:revision>
  <dc:subject/>
  <dc:title>Значение первичного и вторичного дефектов в развитии ребенка, имеющего общее психическое недоразвитие. </dc:title>
</cp:coreProperties>
</file>