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A9CF-45AD-402B-8F29-115B2ECBD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7543-0CBD-43A9-99FB-FBBBC1DCC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18E3-8520-4D54-A29B-30366933C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3E8D-023F-4E2D-95AF-D3C39DB38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2F7C-9B5E-4193-9708-FBC607F5F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AD34-F29D-4D18-94B2-875AB5B3B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FC8B-F102-4A0B-99D9-08E0F988A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A951-08C7-4C61-8864-C17A6A330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01C6-C07F-4608-9780-621BF32F1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D2B4-5D22-47F0-86DC-822BCC74F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3ECF-1D8D-478D-B361-A410CA4EC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AEA3-2714-48E5-A54B-95B7BEF3D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AC4F0-5940-48DC-9067-C9C2C3679AC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</a:rPr>
              <a:t>Метапредметные результат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56800" y="1999800"/>
            <a:ext cx="5327640" cy="7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Times New Roman"/>
              </a:rPr>
              <a:t>Компетентностно-ориентированные зада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928800" y="3143160"/>
            <a:ext cx="53276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Times New Roman"/>
              </a:rPr>
              <a:t>Предмет:начальные класс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Times New Roman"/>
              </a:rPr>
              <a:t>Учитель:Джалилова С.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01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Times New Roman"/>
              </a:rPr>
              <a:t>Регулятивны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Планировать деятельность в соответствии с поставленной задаче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Выдвигать верс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Оценивать степень успешности достижения цел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60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Times New Roman"/>
              </a:rPr>
              <a:t>Характеристика задания: </a:t>
            </a:r>
            <a:br>
              <a:rPr sz="2400"/>
            </a:b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Тема: </a:t>
            </a:r>
            <a:br>
              <a:rPr sz="2400"/>
            </a:b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Ключевая компетентность: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28584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екст задания: К каким изменениям  приведут в организме человека данные действия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станови соответствие в таблиц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А)Одеваться в соответствии               1)Ухудшается осанка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с погодой и видом деятельности;        2)сохраняется здоровье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Б)постоянно лежать на диване;          3)разрушаются зубы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В)прослушивать нежную мелодию;    4)сохраняется слух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Г)резкая смена горячей и холодной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пищи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428840" y="3030480"/>
          <a:ext cx="4429080" cy="906480"/>
        </p:xfrm>
        <a:graphic>
          <a:graphicData uri="http://schemas.openxmlformats.org/drawingml/2006/table">
            <a:tbl>
              <a:tblPr/>
              <a:tblGrid>
                <a:gridCol w="1106280"/>
                <a:gridCol w="1108080"/>
                <a:gridCol w="1106640"/>
                <a:gridCol w="1108080"/>
              </a:tblGrid>
              <a:tr h="540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8T19:05:21Z</dcterms:created>
  <dc:creator>Елена</dc:creator>
  <dc:description/>
  <dc:language>en-US</dc:language>
  <cp:lastModifiedBy>user</cp:lastModifiedBy>
  <dcterms:modified xsi:type="dcterms:W3CDTF">2012-12-26T06:38:38Z</dcterms:modified>
  <cp:revision>34</cp:revision>
  <dc:subject/>
  <dc:title>Слайд 1</dc:title>
</cp:coreProperties>
</file>