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D2E4-C6EC-478E-8867-B858C34E4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8F26-54CF-471A-B7E2-D8210DC8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0BCF-4A09-477D-A2F6-4430E1E90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1D13-7AB2-423E-B384-0620C919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BC18-282F-42A1-B2E0-0452AAEE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6560-E8FB-450D-A5E7-153FCEF4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F01B-5FD4-4D47-A41E-A35A8A2A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B418-FAFC-4EBC-88F3-AA2D3533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3DB2-787C-4384-B945-3493A25B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8651-5763-4A29-B247-006E9802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C848-F2F1-4FAC-A449-75D9A623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C80C-CDA5-4667-A25B-88A34F06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048D-3055-489B-8CFB-AFA1BFEB27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Метапредметные результа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56800" y="1999800"/>
            <a:ext cx="532764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Компетентностно-ориентированные зад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928800" y="3143160"/>
            <a:ext cx="53276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Предмет:начальные класс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Учитель:Джалилова С.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Регулятив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ланировать деятельность в соответствии с поставленной задач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Выдвигать верс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Оценивать степень успешности достижения це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Характеристика задания: 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Тема: 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Ключевая компетентность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858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кст задания: К каким изменениям  приведут в организме человека данные действи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станови соответствие в таблиц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А)Одеваться в соответствии               1)Ухудшается осанка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 погодой и видом деятельности;        2)сохраняется здоровье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Б)постоянно лежать на диване;          3)разрушаются зуб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)прослушивать нежную мелодию;    4)сохраняется слу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Г)резкая смена горячей и холодно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ищ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428840" y="3030480"/>
          <a:ext cx="4429080" cy="906480"/>
        </p:xfrm>
        <a:graphic>
          <a:graphicData uri="http://schemas.openxmlformats.org/drawingml/2006/table">
            <a:tbl>
              <a:tblPr/>
              <a:tblGrid>
                <a:gridCol w="1106280"/>
                <a:gridCol w="1108080"/>
                <a:gridCol w="1106640"/>
                <a:gridCol w="1108080"/>
              </a:tblGrid>
              <a:tr h="54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user</cp:lastModifiedBy>
  <dcterms:modified xsi:type="dcterms:W3CDTF">2012-12-26T06:38:38Z</dcterms:modified>
  <cp:revision>34</cp:revision>
  <dc:subject/>
  <dc:title>Слайд 1</dc:title>
</cp:coreProperties>
</file>