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75E-D393-4ECA-945F-17396479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44F-F450-4D2C-88D9-50059816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BE0-DFA5-4F13-8EA9-360D8DC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B3B-6EF4-49C2-A737-F6475753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341-D3BE-48B1-97D6-794B43C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92E-E168-4B89-96EC-9315A2E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CEC-FE83-430C-8E53-EB01BC16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370-A2A7-450F-95A4-1DEDB8C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3D4-C19E-4AC6-8C6F-55338079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10C-20C1-4899-8C4C-A38F179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164-9997-4286-820C-232E976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350-E8E8-4FF2-8A04-F86604F3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BB5-0391-4E3C-A52D-3BCB1C0CAB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532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 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 Щегляева М.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ная формулировка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евнования команд помогает за короткий период времени нарисовать достоверный «портрет» животного, готовое изображение не стирается, т.к. класс совместно определяет чья лягушка выглядит правдоподобней. Конкурс идет между 3 командами .Впоследствии учитель предлагает сравнивать нарисованных земноводных с реальными представителями отрядов, объясняет причины их схожести или различ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на столах листы с вопросами текста 3 вариант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упроще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средней сло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высокий уровень сло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том этапе каждая команда получает по заданию, которое следует выполнить за определённое количество времен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на предложенной схеме ученики должны прокомментировать развитие лягушки, назвать его основные этап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назвать основные этапы развития земновод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что вы знаете о происхождении земновод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ы задаются в устном порядке командам по очереди, причем учитель сам выбирает отвечающе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вое задание: кто эт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оле лежат конверты, в которых спрятаны карточки с различным изображением земноводных. Ваша задача заключается в том, чтобы разложить карточки на столе и когда учитель называет какое-либо земноводное поднимать соответствующую карточ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участия в этом конкурсе ребята каждой группы группируются возле одного стола и выбирают того, кто будет поднимать карточки. Остальные могут подсказывать ему. На выполнение задания отводится 5 мин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ы, которые можно задать команд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й отряд земноводных является наиболее древни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чего хвостатым земноводным служит хвос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идов хвостатых земноводных вы знает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кое время года у земноводных начинается период размнож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ются первые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чего лягушке устраивают в теплые, весенние вечера квакающие «концерты»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риант высокий уровень слож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каких живых существ предположительно произошли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ются древние пресноводные кистеперые рыбы ,которых считают предками земновод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лет назад появились первые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идов насчитывает класс земновод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4b50"/>
                </a:solidFill>
                <a:latin typeface="Times New Roman"/>
              </a:rPr>
              <a:t>Коммуник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ь: коммуникативная, регуля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ект: обобщить и закрепить знания о годовом цикле жизни и происхождении земноводных, развить логическое и образное мышление, творческие способности, формировать умение выявлять причинно-следственные связи, навыки устного общения, воспитывать экологическую культуру, чувство коллективизма и умение работать в груп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19700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блица и наглядные пособия «Многообразия земноводных» , фотографии земноводных, листы с тестами, заданиями, вопросами. Названия девиза команд посвященные теме урока. Деление учащихся в зависимости от уровня знаний и подготовки ребя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марина</cp:lastModifiedBy>
  <dcterms:modified xsi:type="dcterms:W3CDTF">2012-12-26T16:51:36Z</dcterms:modified>
  <cp:revision>33</cp:revision>
  <dc:subject/>
  <dc:title>Слайд 1</dc:title>
</cp:coreProperties>
</file>