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D2D-323D-477F-92BB-770BCDE5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557-B0D2-4659-833C-97F3CE86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781-DC82-4E48-9984-AB43B0E2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3CA0-FDAD-4725-B30B-EFDDC82F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9A8-64CF-453E-8507-F66D2CF9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443-F4FE-4BB9-9DB8-49E2530A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ADED-7761-4C3A-9512-CA4E54A2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759-A5AC-4F13-B5BA-EB08A396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ABF-FF08-4899-9596-AA2504D5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C42-038B-4B6F-AB83-3D29B2D3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6B63-0921-44B9-A2C1-CB09C4E9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A91-A576-472A-81A5-2AEF59BA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A98D-2439-438A-B546-EC1D9DCC96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Метапредметные результ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6800" y="1999800"/>
            <a:ext cx="53276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Компетентностно-ориентированные зад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928800" y="3143160"/>
            <a:ext cx="53276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2160" indent="-722160">
              <a:spcBef>
                <a:spcPts val="799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редмет: Би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22160" indent="-722160">
              <a:spcBef>
                <a:spcPts val="799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Учитель: Щегляева М. 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22160" indent="-722160">
              <a:spcBef>
                <a:spcPts val="799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Характеристика задания: 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ема: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лючевая компетентность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ная формулировка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ревнования команд помогает за короткий период времени нарисовать достоверный «портрет» животного, готовое изображение не стирается, т.к. класс совместно определяет чья лягушка выглядит правдоподобней. Конкурс идет между 3 командами .Впоследствии учитель предлагает сравнивать нарисованных земноводных с реальными представителями отрядов, объясняет причины их схожести или различ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на столах листы с вопросами текста 3 вариант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) упрощен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) средней слож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) высокий уровень слож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этом этапе каждая команда получает по заданию, которое следует выполнить за определённое количество времени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) на предложенной схеме ученики должны прокомментировать развитие лягушки, назвать его основные этап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) назвать основные этапы развития земноводны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) что вы знаете о происхождении земновод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просы задаются в устном порядке командам по очереди, причем учитель сам выбирает отвечающег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-153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вое задание: кто это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столе лежат конверты, в которых спрятаны карточки с различным изображением земноводных. Ваша задача заключается в том, чтобы разложить карточки на столе и когда учитель называет какое-либо земноводное поднимать соответствующую карточ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участия в этом конкурсе ребята каждой группы группируются возле одного стола и выбирают того, кто будет поднимать карточки. Остальные могут подсказывать ему. На выполнение задания отводится 5 мину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просы, которые можно задать команд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й отряд земноводных является наиболее древним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чего хвостатым земноводным служит хвос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олько видов хвостатых земноводных вы знает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какое время года у земноводных начинается период размножен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называются первые земноводны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чего лягушке устраивают в теплые, весенние вечера квакающие «концерты»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риант высокий уровень сложност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 каких живых существ предположительно произошли земноводны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называются древние пресноводные кистеперые рыбы ,которых считают предками земноводных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олько лет назад появились первые земноводны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олько видов насчитывает класс земноводных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4b50"/>
                </a:solidFill>
                <a:latin typeface="Times New Roman"/>
              </a:rPr>
              <a:t>Коммуника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етентность: коммуникативная, регулятив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спект: обобщить и закрепить знания о годовом цикле жизни и происхождении земноводных, развить логическое и образное мышление, творческие способности, формировать умение выявлять причинно-следственные связи, навыки устного общения, воспитывать экологическую культуру, чувство коллективизма и умение работать в групп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Информацио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197000"/>
            <a:ext cx="8472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аблица и наглядные пособия «Многообразия земноводных» , фотографии земноводных, листы с тестами, заданиями, вопросами. Названия девиза команд посвященные теме урока. Деление учащихся в зависимости от уровня знаний и подготовки ребят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марина</cp:lastModifiedBy>
  <dcterms:modified xsi:type="dcterms:W3CDTF">2012-12-26T16:51:36Z</dcterms:modified>
  <cp:revision>33</cp:revision>
  <dc:subject/>
  <dc:title>Слайд 1</dc:title>
</cp:coreProperties>
</file>