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DC5-285F-4D03-AD28-FB6E63C1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D5A-BC2C-4A6F-B8FE-571C908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92C-BE64-4B09-9CE3-6B7C60FB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6C9-AA93-4B12-88BD-162F6C8B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AC7-9774-4C2F-9C67-0CCCABE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6BC-6DAC-409D-AFF8-D02F07F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E08-DF58-4A5D-A0DC-2D3FDA6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5E7-2F01-4C5B-98A8-A4FEDDF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024-4B71-403E-B6AE-6DF0B853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887-9C84-46DB-8021-D9387CB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BAE-41B1-4A75-827F-659A697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A60-6617-443D-9554-7C643310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5F4-78B7-47BD-8ECF-F8451F0E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Электронное строение атомов бора и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ов на внешнем энергетическом уровне атома с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ных уровней у атома б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более выраженными металлическими свойствами обладает: магний или стро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более выраженными неметаллическими свойствами обладает: углерод или ф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Электронное строение атомов азота и алюм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ов на внешнем энергетическом уровне атома хл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ных уровней у атома л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менее выраженными неметаллическими свойствами обладает: азот или мышья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менее выраженными металлическими свойствами обладает: натрий или алюми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Типы химических свя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413000"/>
          <a:ext cx="8713800" cy="4081320"/>
        </p:xfrm>
        <a:graphic>
          <a:graphicData uri="http://schemas.openxmlformats.org/drawingml/2006/table">
            <a:tbl>
              <a:tblPr/>
              <a:tblGrid>
                <a:gridCol w="1089000"/>
                <a:gridCol w="1090800"/>
                <a:gridCol w="1087560"/>
                <a:gridCol w="1090440"/>
                <a:gridCol w="1089000"/>
                <a:gridCol w="1089000"/>
                <a:gridCol w="1089000"/>
                <a:gridCol w="1089000"/>
              </a:tblGrid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имическая связ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вязываемые ато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 элем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сс в электронной оболочк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разующиеся частиц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исталлическая решет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 веще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о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 металла и атом неметалл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положительный и электро отрицатель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еход валентных электр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ожительные и отрицательные ион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о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леобраз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Cl CaO NaO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вален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ы неметаллов (реже-атомы металлов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отрицательный реже электроположитель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разование общих электронных пар, заполнение молекулярных орбитал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еку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екуляр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тучий или нелетуч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лмазоподоб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лмаз Si S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ы металл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полож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дача валентных электр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ожительные ионы и электронный газ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ы и спла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овалентн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образуется за счёт общих электронных пар, возникающих в оболочках связываемых атом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Она может быть образована атомами одного итого же элемента и тогда она неполярная; например, такая ковалентная связь существует в молекулах одноэлементных газов H2, O2, N2, Cl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может быть образована атомами разных элементов, сходных по химическому характеру, и тогда она полярная; например, такая ковалентная связь существует в молекулах H2O, NF3, CO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образуется между атомами элементов, обладающих электроотрицательным характер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отрицательность - это способность атомов химического элемента оттягивать к себе общие электронные пары, участвующие в образовании химической связ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яд электроотрицательносте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схема"/>
          <p:cNvPicPr/>
          <p:nvPr/>
        </p:nvPicPr>
        <p:blipFill>
          <a:blip r:embed="rId2"/>
          <a:stretch/>
        </p:blipFill>
        <p:spPr>
          <a:xfrm>
            <a:off x="1692360" y="5516640"/>
            <a:ext cx="5904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Ион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исто ионной связью называется химически связанное состояние атомов, при котором устойчивое электронное окружение достигается путём полного перехода общей электронной плотности к атому более электроотрицательного элемент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оны - это электрически заряженные частицы, образующиеся из нейтральных атомов или молекул путем отдачи или присоединени электр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 отдаче электронов образуется положительно заряженный ион-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и присоединении-отрицательный-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ани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хема образования ионной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4248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ХЕМА ОБРАЗОВАНИЯ МЕТАЛЛИЧЕСКОЙ СВЯЗ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Металлическая связь имеет сходство как с ионной (образуется за счёт взаимодействия между заряженными частицами: электронами и ионами), так и с ковалентной ( происходит обобществление электронов, но в отличии от ковалентной связи, где электроны локализованы около определенных атомов, электроны в металлах обобществляются для всего кристалл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Свободные электроны иногда называют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электронным газом.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1555920"/>
            <a:ext cx="46083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00:28Z</dcterms:created>
  <dc:creator>Вадим</dc:creator>
  <dc:description/>
  <dc:language>en-US</dc:language>
  <cp:lastModifiedBy>Вадим</cp:lastModifiedBy>
  <dcterms:modified xsi:type="dcterms:W3CDTF">2011-03-17T19:24:54Z</dcterms:modified>
  <cp:revision>3</cp:revision>
  <dc:subject/>
  <dc:title>Типы химических связей</dc:title>
</cp:coreProperties>
</file>