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1D0-C86C-4E57-BAA2-EBC0A5A5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121-6019-4133-8245-B7DB7F6B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FE9-6EC0-4CD5-A69A-971664FE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276-C3BC-439A-97EB-A6282B15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EA1-9A8C-4CEA-8366-4BBE6FF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4EB-AB99-4C9D-85BB-2E7272B8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9AC-EF3D-48C6-80BF-0A2D418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B92-35F1-4758-B9DC-90F8862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BD7-9E09-4FE4-88AC-12CA2E0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8BE-B744-418D-8E3B-4991A6F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032-4C78-4B15-8DE3-23C217C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ECE-C705-463F-A135-18042A9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E67-0D44-4583-A8EB-EC5FD413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Электронное строение атомов бора и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ов на внешнем энергетическом уровне атома с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ных уровней у атома б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более выраженными металлическими свойствами обладает: магний или стро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более выраженными неметаллическими свойствами обладает: углерод или ф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Электронное строение атомов азота и алюм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ов на внешнем энергетическом уровне атома хл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Укажите число электронных уровней у атома л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менее выраженными неметаллическими свойствами обладает: азот или мышья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Наименее выраженными металлическими свойствами обладает: натрий или алюми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Типы химических свя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413000"/>
          <a:ext cx="8713800" cy="4081320"/>
        </p:xfrm>
        <a:graphic>
          <a:graphicData uri="http://schemas.openxmlformats.org/drawingml/2006/table">
            <a:tbl>
              <a:tblPr/>
              <a:tblGrid>
                <a:gridCol w="1089000"/>
                <a:gridCol w="1090800"/>
                <a:gridCol w="1087560"/>
                <a:gridCol w="1090440"/>
                <a:gridCol w="1089000"/>
                <a:gridCol w="1089000"/>
                <a:gridCol w="1089000"/>
                <a:gridCol w="1089000"/>
              </a:tblGrid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имическая связ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вязываемые ато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 элем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сс в электронной оболочк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разующиеся частиц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исталлическая решет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 веще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им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о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 металла и атом неметалл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положительный и электро отрицатель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еход валентных электр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ожительные и отрицательные ион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о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леобраз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aCl CaO NaO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вален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ы неметаллов (реже-атомы металлов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отрицательный реже электроположитель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разование общих электронных пар, заполнение молекулярных орбитал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еку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лекуляр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тучий или нелетуч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O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C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лмазоподоб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лмаз Si S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</a:t>
                      </a: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омы металл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Электрополож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тдача валентных электрон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ожительные ионы и электронный газ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аллы и спла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Ковалентн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образуется за счёт общих электронных пар, возникающих в оболочках связываемых атом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Она может быть образована атомами одного итого же элемента и тогда она неполярная; например, такая ковалентная связь существует в молекулах одноэлементных газов H2, O2, N2, Cl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может быть образована атомами разных элементов, сходных по химическому характеру, и тогда она полярная; например, такая ковалентная связь существует в молекулах H2O, NF3, CO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Ковалентная связь образуется между атомами элементов, обладающих электроотрицательным характер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отрицательность - это способность атомов химического элемента оттягивать к себе общие электронные пары, участвующие в образовании химической связ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яд электроотрицательносте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схема"/>
          <p:cNvPicPr/>
          <p:nvPr/>
        </p:nvPicPr>
        <p:blipFill>
          <a:blip r:embed="rId2"/>
          <a:stretch/>
        </p:blipFill>
        <p:spPr>
          <a:xfrm>
            <a:off x="1692360" y="5516640"/>
            <a:ext cx="5904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Ион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исто ионной связью называется химически связанное состояние атомов, при котором устойчивое электронное окружение достигается путём полного перехода общей электронной плотности к атому более электроотрицательного элемент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оны - это электрически заряженные частицы, образующиеся из нейтральных атомов или молекул путем отдачи или присоединени электр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 отдаче электронов образуется положительно заряженный ион-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и присоединении-отрицательный-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ани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Схема образования ионной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4248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Металлическ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ХЕМА ОБРАЗОВАНИЯ МЕТАЛЛИЧЕСКОЙ СВЯЗ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Металлическая связь имеет сходство как с ионной (образуется за счёт взаимодействия между заряженными частицами: электронами и ионами), так и с ковалентной ( происходит обобществление электронов, но в отличии от ковалентной связи, где электроны локализованы около определенных атомов, электроны в металлах обобществляются для всего кристалл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Свободные электроны иногда называют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электронным газом.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1555920"/>
            <a:ext cx="46083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00:28Z</dcterms:created>
  <dc:creator>Вадим</dc:creator>
  <dc:description/>
  <dc:language>en-US</dc:language>
  <cp:lastModifiedBy>Вадим</cp:lastModifiedBy>
  <dcterms:modified xsi:type="dcterms:W3CDTF">2011-03-17T19:24:54Z</dcterms:modified>
  <cp:revision>3</cp:revision>
  <dc:subject/>
  <dc:title>Типы химических связей</dc:title>
</cp:coreProperties>
</file>