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3.png" ContentType="image/png"/>
  <Override PartName="/ppt/media/image28.wmf" ContentType="image/x-wmf"/>
  <Override PartName="/ppt/media/image30.wmf" ContentType="image/x-wmf"/>
  <Override PartName="/ppt/media/image23.wmf" ContentType="image/x-wmf"/>
  <Override PartName="/ppt/media/image11.jpeg" ContentType="image/jpeg"/>
  <Override PartName="/ppt/media/image9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.png" ContentType="image/png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jpeg" ContentType="image/jpeg"/>
  <Override PartName="/ppt/media/image16.wmf" ContentType="image/x-wmf"/>
  <Override PartName="/ppt/media/image2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15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C70-EAF8-4D1E-905F-69F10C58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747-CFC5-42F0-A1DA-57FDFA78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FE35-6944-4B59-8568-4333FDBB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1E0-D0E4-4C52-BBD3-7CEF6C9B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676F-F598-4C36-B79B-79A09717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B9D3-DD18-4ECC-95DA-623BEF35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99B4-61E3-4CF5-95FC-4C714183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0683-F914-4A36-A135-8E0B1B49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8AF3-C2C6-425C-8E4E-0D49089B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0EC9-4082-4679-8069-D71E0517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66EB-4526-42F4-A57B-8DEC02EB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52C-6C1E-4C3E-A625-25443580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DF4B-8E09-4BBD-9E74-83EC0725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7A52-33E8-4785-BC3B-8A5B5C1B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C176-1DF6-452E-BE89-3E2D53E7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BD41-0299-4190-982D-FE50F3F0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E27B-B96F-4793-9530-E1E2A70E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8F98-56C6-44C5-AB3C-6D71A8C6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1CF4-69F1-42C4-B57B-E947851B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FE8-1014-4802-B92D-20E01E8A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5A5-2B3F-4B36-A20A-530A1B84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80A-C6A0-4853-99C7-C0394419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E03A-0C6C-4514-B861-333FB046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F56-E95F-4DEE-9DF8-6B5BDE67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631C-C40E-40BC-8EDE-28EC73FC7F6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8731-49EB-4E7D-B88A-F57ABCCA023B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737208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000" spc="-1" strike="noStrike">
                <a:solidFill>
                  <a:srgbClr val="f7d47d"/>
                </a:solidFill>
                <a:latin typeface="Constantia"/>
              </a:rPr>
              <a:t>Вера Михайловна Мочалова</a:t>
            </a:r>
            <a:r>
              <a:rPr b="0" lang="ru-RU" sz="1800" spc="-1" strike="noStrike">
                <a:solidFill>
                  <a:srgbClr val="f7d47d"/>
                </a:solidFill>
                <a:latin typeface="Constantia"/>
              </a:rPr>
              <a:t>, </a:t>
            </a:r>
            <a:br>
              <a:rPr sz="1800"/>
            </a:br>
            <a:r>
              <a:rPr b="0" lang="ru-RU" sz="1800" spc="-1" strike="noStrike">
                <a:solidFill>
                  <a:srgbClr val="f7d47d"/>
                </a:solidFill>
                <a:latin typeface="Constantia"/>
              </a:rPr>
              <a:t>воспитатель муниципального дошкольного </a:t>
            </a:r>
            <a:br>
              <a:rPr sz="1800"/>
            </a:br>
            <a:r>
              <a:rPr b="0" lang="ru-RU" sz="1800" spc="-1" strike="noStrike">
                <a:solidFill>
                  <a:srgbClr val="f7d47d"/>
                </a:solidFill>
                <a:latin typeface="Constantia"/>
              </a:rPr>
              <a:t>образовательного учреждения </a:t>
            </a:r>
            <a:br>
              <a:rPr sz="1800"/>
            </a:br>
            <a:r>
              <a:rPr b="0" lang="ru-RU" sz="1800" spc="-1" strike="noStrike">
                <a:solidFill>
                  <a:srgbClr val="f7d47d"/>
                </a:solidFill>
                <a:latin typeface="Constantia"/>
              </a:rPr>
              <a:t>детский сад общеразвивающего вида № 1 пгт Даровской</a:t>
            </a:r>
            <a:br>
              <a:rPr sz="1800"/>
            </a:br>
            <a:r>
              <a:rPr b="0" i="1" lang="ru-RU" sz="1600" spc="-1" strike="noStrike">
                <a:solidFill>
                  <a:srgbClr val="f7d47d"/>
                </a:solidFill>
                <a:latin typeface="Constantia"/>
              </a:rPr>
              <a:t>(педагогический стаж – 25 лет</a:t>
            </a:r>
            <a:br>
              <a:rPr sz="1600"/>
            </a:br>
            <a:r>
              <a:rPr b="0" i="1" lang="ru-RU" sz="1600" spc="-1" strike="noStrike">
                <a:solidFill>
                  <a:srgbClr val="f7d47d"/>
                </a:solidFill>
                <a:latin typeface="Constantia"/>
              </a:rPr>
              <a:t>первая квалификационная категория)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Picture 4" descr="Изображение 002"/>
          <p:cNvPicPr/>
          <p:nvPr/>
        </p:nvPicPr>
        <p:blipFill>
          <a:blip r:embed="rId1"/>
          <a:srcRect l="11785" t="0" r="0" b="8045"/>
          <a:stretch/>
        </p:blipFill>
        <p:spPr>
          <a:xfrm>
            <a:off x="1619280" y="2492280"/>
            <a:ext cx="4564080" cy="4135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63520" y="475920"/>
            <a:ext cx="7386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Оптимизм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Образность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Забавность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Дидактизм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Эти особенности сказок и позволяют использовать их при решении педагогических задач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Diagram 18"/>
          <p:cNvGrpSpPr/>
          <p:nvPr/>
        </p:nvGrpSpPr>
        <p:grpSpPr>
          <a:xfrm>
            <a:off x="1105920" y="558720"/>
            <a:ext cx="5816160" cy="5666400"/>
            <a:chOff x="1105920" y="558720"/>
            <a:chExt cx="5816160" cy="5666400"/>
          </a:xfrm>
        </p:grpSpPr>
        <p:sp>
          <p:nvSpPr>
            <p:cNvPr id="218" name="_s1028"/>
            <p:cNvSpPr/>
            <p:nvPr/>
          </p:nvSpPr>
          <p:spPr>
            <a:xfrm flipH="1" flipV="1">
              <a:off x="2853000" y="2580480"/>
              <a:ext cx="58500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1029"/>
            <p:cNvSpPr/>
            <p:nvPr/>
          </p:nvSpPr>
          <p:spPr>
            <a:xfrm>
              <a:off x="1535760" y="1386720"/>
              <a:ext cx="1479240" cy="1468800"/>
            </a:xfrm>
            <a:prstGeom prst="ellipse">
              <a:avLst/>
            </a:prstGeom>
            <a:noFill/>
            <a:ln w="28440">
              <a:solidFill>
                <a:srgbClr val="d5b7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.Воспитание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нравственности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1030"/>
            <p:cNvSpPr/>
            <p:nvPr/>
          </p:nvSpPr>
          <p:spPr>
            <a:xfrm flipH="1">
              <a:off x="2567160" y="3661920"/>
              <a:ext cx="72936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1031"/>
            <p:cNvSpPr/>
            <p:nvPr/>
          </p:nvSpPr>
          <p:spPr>
            <a:xfrm>
              <a:off x="1105920" y="3256560"/>
              <a:ext cx="1478520" cy="1468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7.Сказка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развивает руки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2" name="_s1032"/>
            <p:cNvSpPr/>
            <p:nvPr/>
          </p:nvSpPr>
          <p:spPr>
            <a:xfrm flipH="1">
              <a:off x="3369240" y="4157280"/>
              <a:ext cx="323640" cy="66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3" name="_s1033"/>
            <p:cNvSpPr/>
            <p:nvPr/>
          </p:nvSpPr>
          <p:spPr>
            <a:xfrm>
              <a:off x="2309760" y="4756320"/>
              <a:ext cx="1479240" cy="1468800"/>
            </a:xfrm>
            <a:prstGeom prst="ellipse">
              <a:avLst/>
            </a:prstGeom>
            <a:noFill/>
            <a:ln w="28440">
              <a:solidFill>
                <a:srgbClr val="dc89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.Сказка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и экология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" name="_s1034"/>
            <p:cNvSpPr/>
            <p:nvPr/>
          </p:nvSpPr>
          <p:spPr>
            <a:xfrm>
              <a:off x="4331880" y="4157280"/>
              <a:ext cx="323640" cy="66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" name="_s1035"/>
            <p:cNvSpPr/>
            <p:nvPr/>
          </p:nvSpPr>
          <p:spPr>
            <a:xfrm>
              <a:off x="4241160" y="4756320"/>
              <a:ext cx="1479240" cy="1468800"/>
            </a:xfrm>
            <a:prstGeom prst="ellipse">
              <a:avLst/>
            </a:prstGeom>
            <a:noFill/>
            <a:ln w="28440">
              <a:solidFill>
                <a:srgbClr val="79a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Сказка и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математика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6" name="_s1036"/>
            <p:cNvSpPr/>
            <p:nvPr/>
          </p:nvSpPr>
          <p:spPr>
            <a:xfrm>
              <a:off x="4731120" y="3661920"/>
              <a:ext cx="7268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7" name="_s1037"/>
            <p:cNvSpPr/>
            <p:nvPr/>
          </p:nvSpPr>
          <p:spPr>
            <a:xfrm>
              <a:off x="5442840" y="3256560"/>
              <a:ext cx="1479240" cy="1468800"/>
            </a:xfrm>
            <a:prstGeom prst="ellipse">
              <a:avLst/>
            </a:prstGeom>
            <a:noFill/>
            <a:ln w="28440">
              <a:solidFill>
                <a:srgbClr val="d5b7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.Развитие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мышления и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воображения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8" name="_s1038"/>
            <p:cNvSpPr/>
            <p:nvPr/>
          </p:nvSpPr>
          <p:spPr>
            <a:xfrm flipV="1">
              <a:off x="4589640" y="2580480"/>
              <a:ext cx="58248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9" name="_s1039"/>
            <p:cNvSpPr/>
            <p:nvPr/>
          </p:nvSpPr>
          <p:spPr>
            <a:xfrm>
              <a:off x="5013000" y="1388880"/>
              <a:ext cx="1478520" cy="1469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.Сказка и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физическое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воспитание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0" name="_s1040"/>
            <p:cNvSpPr/>
            <p:nvPr/>
          </p:nvSpPr>
          <p:spPr>
            <a:xfrm flipV="1">
              <a:off x="4012920" y="2025360"/>
              <a:ext cx="0" cy="74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1" name="_s1041"/>
            <p:cNvSpPr/>
            <p:nvPr/>
          </p:nvSpPr>
          <p:spPr>
            <a:xfrm>
              <a:off x="3274560" y="558720"/>
              <a:ext cx="1478520" cy="1468800"/>
            </a:xfrm>
            <a:prstGeom prst="ellipse">
              <a:avLst/>
            </a:prstGeom>
            <a:noFill/>
            <a:ln w="28440">
              <a:solidFill>
                <a:srgbClr val="dc89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Воспитание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добрых чувств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2" name="_s1042"/>
            <p:cNvSpPr/>
            <p:nvPr/>
          </p:nvSpPr>
          <p:spPr>
            <a:xfrm>
              <a:off x="3274560" y="2767680"/>
              <a:ext cx="1478520" cy="1468800"/>
            </a:xfrm>
            <a:prstGeom prst="ellipse">
              <a:avLst/>
            </a:prstGeom>
            <a:noFill/>
            <a:ln w="28440">
              <a:solidFill>
                <a:srgbClr val="f0b8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РНС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transition spd="slow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098ш7нгек"/>
          <p:cNvPicPr/>
          <p:nvPr/>
        </p:nvPicPr>
        <p:blipFill>
          <a:blip r:embed="rId1"/>
          <a:stretch/>
        </p:blipFill>
        <p:spPr>
          <a:xfrm>
            <a:off x="324000" y="723960"/>
            <a:ext cx="7127640" cy="5513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зщшгнеа"/>
          <p:cNvPicPr/>
          <p:nvPr/>
        </p:nvPicPr>
        <p:blipFill>
          <a:blip r:embed="rId1"/>
          <a:stretch/>
        </p:blipFill>
        <p:spPr>
          <a:xfrm>
            <a:off x="611280" y="476280"/>
            <a:ext cx="6769080" cy="576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з0щ8гшне"/>
          <p:cNvPicPr/>
          <p:nvPr/>
        </p:nvPicPr>
        <p:blipFill>
          <a:blip r:embed="rId1"/>
          <a:stretch/>
        </p:blipFill>
        <p:spPr>
          <a:xfrm>
            <a:off x="539640" y="907920"/>
            <a:ext cx="6624720" cy="4969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з8шг7не5ка"/>
          <p:cNvPicPr/>
          <p:nvPr/>
        </p:nvPicPr>
        <p:blipFill>
          <a:blip r:embed="rId1"/>
          <a:stretch/>
        </p:blipFill>
        <p:spPr>
          <a:xfrm>
            <a:off x="1476360" y="692280"/>
            <a:ext cx="4751280" cy="5905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зщ8шг7некав"/>
          <p:cNvPicPr/>
          <p:nvPr/>
        </p:nvPicPr>
        <p:blipFill>
          <a:blip r:embed="rId1"/>
          <a:stretch/>
        </p:blipFill>
        <p:spPr>
          <a:xfrm>
            <a:off x="1042920" y="981000"/>
            <a:ext cx="5761080" cy="525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щшгнекапр"/>
          <p:cNvPicPr/>
          <p:nvPr/>
        </p:nvPicPr>
        <p:blipFill>
          <a:blip r:embed="rId1"/>
          <a:stretch/>
        </p:blipFill>
        <p:spPr>
          <a:xfrm>
            <a:off x="1187280" y="979560"/>
            <a:ext cx="5977080" cy="5257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зщ8гш7нек"/>
          <p:cNvPicPr/>
          <p:nvPr/>
        </p:nvPicPr>
        <p:blipFill>
          <a:blip r:embed="rId1"/>
          <a:stretch/>
        </p:blipFill>
        <p:spPr>
          <a:xfrm>
            <a:off x="971640" y="1341360"/>
            <a:ext cx="5761080" cy="4535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дети тутуее"/>
          <p:cNvPicPr/>
          <p:nvPr/>
        </p:nvPicPr>
        <p:blipFill>
          <a:blip r:embed="rId1"/>
          <a:stretch/>
        </p:blipFill>
        <p:spPr>
          <a:xfrm>
            <a:off x="1042920" y="1052640"/>
            <a:ext cx="5834160" cy="489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369800"/>
            <a:ext cx="765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4000" spc="-1" strike="noStrike">
                <a:solidFill>
                  <a:srgbClr val="f7d47d"/>
                </a:solidFill>
                <a:latin typeface="Constantia"/>
              </a:rPr>
              <a:t>Развитие </a:t>
            </a:r>
            <a:br>
              <a:rPr sz="4000"/>
            </a:br>
            <a:r>
              <a:rPr b="1" i="1" lang="ru-RU" sz="4000" spc="-1" strike="noStrike">
                <a:solidFill>
                  <a:srgbClr val="f7d47d"/>
                </a:solidFill>
                <a:latin typeface="Constantia"/>
              </a:rPr>
              <a:t>познавательного интереса </a:t>
            </a:r>
            <a:br>
              <a:rPr sz="4000"/>
            </a:br>
            <a:r>
              <a:rPr b="1" i="1" lang="ru-RU" sz="4000" spc="-1" strike="noStrike">
                <a:solidFill>
                  <a:srgbClr val="f7d47d"/>
                </a:solidFill>
                <a:latin typeface="Constantia"/>
              </a:rPr>
              <a:t>к русской народной сказке </a:t>
            </a:r>
            <a:br>
              <a:rPr sz="4000"/>
            </a:br>
            <a:r>
              <a:rPr b="1" i="1" lang="ru-RU" sz="4000" spc="-1" strike="noStrike">
                <a:solidFill>
                  <a:srgbClr val="f7d47d"/>
                </a:solidFill>
                <a:latin typeface="Constantia"/>
              </a:rPr>
              <a:t>у детей в процессе заняти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714320" y="4572000"/>
            <a:ext cx="564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щш7г6нкевап"/>
          <p:cNvPicPr/>
          <p:nvPr/>
        </p:nvPicPr>
        <p:blipFill>
          <a:blip r:embed="rId1"/>
          <a:stretch/>
        </p:blipFill>
        <p:spPr>
          <a:xfrm>
            <a:off x="1042920" y="1197000"/>
            <a:ext cx="5400720" cy="468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Cambria"/>
              </a:rPr>
              <a:t>Диагностика детей </a:t>
            </a:r>
            <a:br>
              <a:rPr sz="4000"/>
            </a:br>
            <a:r>
              <a:rPr b="0" i="1" lang="ru-RU" sz="4000" spc="-1" strike="noStrike">
                <a:solidFill>
                  <a:srgbClr val="f7d47d"/>
                </a:solidFill>
                <a:latin typeface="Cambria"/>
              </a:rPr>
              <a:t>по программе Л.Б.Фесюковой «Воспитание сказкой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601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писочный состав детей – 25 человек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Object 5"/>
          <p:cNvGraphicFramePr/>
          <p:nvPr/>
        </p:nvGraphicFramePr>
        <p:xfrm>
          <a:off x="-396720" y="2708280"/>
          <a:ext cx="3779640" cy="21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2708280"/>
                    <a:ext cx="377964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3059280" y="2852640"/>
          <a:ext cx="4692600" cy="20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2852640"/>
                    <a:ext cx="469260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6"/>
          <p:cNvSpPr/>
          <p:nvPr/>
        </p:nvSpPr>
        <p:spPr>
          <a:xfrm>
            <a:off x="324000" y="275760"/>
            <a:ext cx="734364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  <a:ea typeface="Calibri"/>
              </a:rPr>
              <a:t>Рассказать, что видели, куда ходили, что случилос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  <a:ea typeface="Calibri"/>
              </a:rPr>
              <a:t>         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ачало год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онец года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  <a:ea typeface="Calibri"/>
              </a:rPr>
              <a:t>                                                         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5"/>
          <p:cNvGraphicFramePr/>
          <p:nvPr/>
        </p:nvGraphicFramePr>
        <p:xfrm>
          <a:off x="-324000" y="2421000"/>
          <a:ext cx="4113360" cy="18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2421000"/>
                    <a:ext cx="411336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4"/>
          <p:cNvGraphicFramePr/>
          <p:nvPr/>
        </p:nvGraphicFramePr>
        <p:xfrm>
          <a:off x="3851280" y="2421000"/>
          <a:ext cx="3860640" cy="19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2421000"/>
                    <a:ext cx="3860640" cy="19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6"/>
          <p:cNvSpPr/>
          <p:nvPr/>
        </p:nvSpPr>
        <p:spPr>
          <a:xfrm>
            <a:off x="0" y="303480"/>
            <a:ext cx="81010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2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Использовать настольный театр, инсценировать отрывки из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русских народных сказо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Начало года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Конец год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Object 5"/>
          <p:cNvGraphicFramePr/>
          <p:nvPr/>
        </p:nvGraphicFramePr>
        <p:xfrm>
          <a:off x="0" y="2924280"/>
          <a:ext cx="349236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24280"/>
                    <a:ext cx="349236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"/>
          <p:cNvGraphicFramePr/>
          <p:nvPr/>
        </p:nvGraphicFramePr>
        <p:xfrm>
          <a:off x="3708360" y="2924280"/>
          <a:ext cx="4102200" cy="18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2924280"/>
                    <a:ext cx="41022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6"/>
          <p:cNvSpPr/>
          <p:nvPr/>
        </p:nvSpPr>
        <p:spPr>
          <a:xfrm>
            <a:off x="179280" y="618480"/>
            <a:ext cx="7632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3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  <a:ea typeface="Calibri"/>
              </a:rPr>
              <a:t>Знать и пересказыват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русские народные сказк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Начало года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Конец год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Object 5"/>
          <p:cNvGraphicFramePr/>
          <p:nvPr/>
        </p:nvGraphicFramePr>
        <p:xfrm>
          <a:off x="0" y="3284640"/>
          <a:ext cx="3382920" cy="180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84640"/>
                    <a:ext cx="3382920" cy="18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4"/>
          <p:cNvGraphicFramePr/>
          <p:nvPr/>
        </p:nvGraphicFramePr>
        <p:xfrm>
          <a:off x="3780000" y="3284640"/>
          <a:ext cx="3879720" cy="18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284640"/>
                    <a:ext cx="38797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6"/>
          <p:cNvSpPr/>
          <p:nvPr/>
        </p:nvSpPr>
        <p:spPr>
          <a:xfrm>
            <a:off x="112680" y="1016640"/>
            <a:ext cx="779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4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  <a:ea typeface="Calibri"/>
              </a:rPr>
              <a:t>Фантазировать, воображать, сочинять свои сказ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Начало года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              Конец года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Object 5"/>
          <p:cNvGraphicFramePr/>
          <p:nvPr/>
        </p:nvGraphicFramePr>
        <p:xfrm>
          <a:off x="179280" y="3284640"/>
          <a:ext cx="3382920" cy="180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284640"/>
                    <a:ext cx="3382920" cy="18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4"/>
          <p:cNvGraphicFramePr/>
          <p:nvPr/>
        </p:nvGraphicFramePr>
        <p:xfrm>
          <a:off x="4211640" y="3357720"/>
          <a:ext cx="3598920" cy="180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3357720"/>
                    <a:ext cx="3598920" cy="18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6"/>
          <p:cNvSpPr/>
          <p:nvPr/>
        </p:nvSpPr>
        <p:spPr>
          <a:xfrm>
            <a:off x="-299520" y="330840"/>
            <a:ext cx="8193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5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  <a:ea typeface="Calibri"/>
              </a:rPr>
              <a:t>Воспитание добрых чувств к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русской народной сказк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Начало года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         Конец год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3711960" y="32918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  <a:ea typeface="Calibri"/>
              </a:rPr>
              <a:t>   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3711960" y="5021640"/>
            <a:ext cx="30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  <a:ea typeface="Calibri"/>
              </a:rPr>
              <a:t> 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Object 9"/>
          <p:cNvGraphicFramePr/>
          <p:nvPr/>
        </p:nvGraphicFramePr>
        <p:xfrm>
          <a:off x="684360" y="836640"/>
          <a:ext cx="263844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836640"/>
                    <a:ext cx="263844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8"/>
          <p:cNvGraphicFramePr/>
          <p:nvPr/>
        </p:nvGraphicFramePr>
        <p:xfrm>
          <a:off x="4211640" y="836640"/>
          <a:ext cx="2638440" cy="14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836640"/>
                    <a:ext cx="263844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7"/>
          <p:cNvGraphicFramePr/>
          <p:nvPr/>
        </p:nvGraphicFramePr>
        <p:xfrm>
          <a:off x="755640" y="2637000"/>
          <a:ext cx="2486160" cy="138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2637000"/>
                    <a:ext cx="248616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6"/>
          <p:cNvGraphicFramePr/>
          <p:nvPr/>
        </p:nvGraphicFramePr>
        <p:xfrm>
          <a:off x="3851280" y="2637000"/>
          <a:ext cx="3114720" cy="14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51280" y="2637000"/>
                    <a:ext cx="3114720" cy="14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5"/>
          <p:cNvGraphicFramePr/>
          <p:nvPr/>
        </p:nvGraphicFramePr>
        <p:xfrm>
          <a:off x="755640" y="4653000"/>
          <a:ext cx="2486160" cy="138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0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4653000"/>
                    <a:ext cx="248616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4"/>
          <p:cNvGraphicFramePr/>
          <p:nvPr/>
        </p:nvGraphicFramePr>
        <p:xfrm>
          <a:off x="3851280" y="4653000"/>
          <a:ext cx="3114720" cy="140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2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51280" y="4653000"/>
                    <a:ext cx="31147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10"/>
          <p:cNvSpPr/>
          <p:nvPr/>
        </p:nvSpPr>
        <p:spPr>
          <a:xfrm>
            <a:off x="3132000" y="67680"/>
            <a:ext cx="190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Сводная таблиц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  <a:ea typeface="Calibri"/>
              </a:rPr>
              <a:t> 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  <a:ea typeface="Calibri"/>
              </a:rPr>
              <a:t>2007-2008 г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3419640" y="1657800"/>
            <a:ext cx="1423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  <a:ea typeface="Calibri"/>
              </a:rPr>
              <a:t>                                       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  <a:ea typeface="Calibri"/>
              </a:rPr>
              <a:t>2008-2009 г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  <a:ea typeface="Calibri"/>
              </a:rPr>
              <a:t>           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3348000" y="3740040"/>
            <a:ext cx="172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  <a:ea typeface="Calibri"/>
              </a:rPr>
              <a:t>                                      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  <a:ea typeface="Calibri"/>
              </a:rPr>
              <a:t>2009-2010 г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f1311"/>
                </a:solidFill>
                <a:latin typeface="Arial"/>
                <a:ea typeface="Calibri"/>
              </a:rPr>
              <a:t>   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"/>
          <p:cNvSpPr/>
          <p:nvPr/>
        </p:nvSpPr>
        <p:spPr>
          <a:xfrm>
            <a:off x="684360" y="3191040"/>
            <a:ext cx="676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7d47d"/>
                </a:solidFill>
                <a:latin typeface="Cambria"/>
              </a:rPr>
              <a:t>СКАЗКИ ГУЛЯЮТ ПО СВЕТУ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Сказки гуляют по свету,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Ночь запрягают в карет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Сказки живут на полянках,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Бродят на зорьке в туманах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А принц Белоснежку полюбит,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А жадность Кощея погубит…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Пусть зло не предельно хитро,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Но всё ж побеждает Добро!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Мир, озарив чудесами,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Сказки летят над лесами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На подоконник садятся,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В окна, как в речки, глядятся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А Золушку выручит фея,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Не станет Горыныча-змея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Пусть зло не предельно хитро,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Но всё ж побеждает Добро!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Сказки со мною повсюду,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Их никогда н забуд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Стоит сомкнуть мне ресницы,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Вмиг Сувка-Бурка приснится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А месяц засветится ясный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В глазах Василисы Прекрасной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Пусть зло на проделки хитро,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Но всё ж побеждает добро!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итератур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324000" y="2375640"/>
            <a:ext cx="700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 Воспитание сказкой» Л.Б. Фесюков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Целительная сила сказок» З. Брокет Г. Шрейбер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От трех до семи» Л.Б. Фесиков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Русские народные сказки» О.Н. Капиц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Русские народные сказки» А.Н. Афанасье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Русская народная сказка» В.П. Аникин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Рассказать тебе сказку» В.А. Порудомински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Дошкольное воспитание» №1, 2005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Ребенок в детском саду» №4, 2006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7d47d"/>
                </a:solidFill>
                <a:latin typeface="Constantia"/>
              </a:rPr>
              <a:t>Проблема: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Подвижные дет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Недостаток внимания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Недостаточно развито логическое мышление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Неусидчивые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СПАСИБО ЗА ВНИМАНИЕ 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7d47d"/>
                </a:solidFill>
                <a:latin typeface="Constantia"/>
              </a:rPr>
              <a:t>Цель: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Развивать у детей познавательный интерес к русским народным сказкам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Constantia"/>
              </a:rPr>
              <a:t>Задач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оспитывать всем тем прекрасным качествам, которые должны быть присущи каждому человеку на земле (вежливость и отзывчивость, доброта и честность, смелость и порядочность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Учить слушать и запоминать сказ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Различать добрых и злых сказочных герое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7d47d"/>
                </a:solidFill>
                <a:latin typeface="Constantia"/>
              </a:rPr>
              <a:t>Русские народные сказ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onstantia"/>
              </a:rPr>
              <a:t>о животных</a:t>
            </a:r>
            <a:r>
              <a:rPr b="0" i="1" lang="ru-RU" sz="32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0" i="1" lang="ru-RU" sz="3200" spc="-1" strike="noStrike">
                <a:solidFill>
                  <a:srgbClr val="ffff00"/>
                </a:solidFill>
                <a:latin typeface="Constantia"/>
              </a:rPr>
              <a:t>волшебные    бытовы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 flipH="1">
            <a:off x="1258560" y="1484280"/>
            <a:ext cx="1081080" cy="2879640"/>
          </a:xfrm>
          <a:prstGeom prst="line">
            <a:avLst/>
          </a:prstGeom>
          <a:ln w="28440">
            <a:solidFill>
              <a:srgbClr val="d5b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3780000" y="1557360"/>
            <a:ext cx="0" cy="2879640"/>
          </a:xfrm>
          <a:prstGeom prst="line">
            <a:avLst/>
          </a:prstGeom>
          <a:ln w="28440">
            <a:solidFill>
              <a:srgbClr val="d5b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Line 25"/>
          <p:cNvSpPr/>
          <p:nvPr/>
        </p:nvSpPr>
        <p:spPr>
          <a:xfrm>
            <a:off x="5219640" y="1557360"/>
            <a:ext cx="1513080" cy="2879640"/>
          </a:xfrm>
          <a:prstGeom prst="line">
            <a:avLst/>
          </a:prstGeom>
          <a:ln w="28440">
            <a:solidFill>
              <a:srgbClr val="d5b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7d47d"/>
                </a:solidFill>
                <a:uFillTx/>
                <a:latin typeface="Constantia"/>
              </a:rPr>
              <a:t>Сказки о животных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пецифика этих сказок проявляется в особенностях фантастического вымысл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«Иван – Царевич и серый волк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«Зимовье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«Маша и медведь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«Мужик и медведь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«Коза – дереза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«Волк и семеро козлят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«Кот, петух, лиса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«Лиса и волк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«Лиса и заяц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«Лиса и дрозд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«Лиса и тетерев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«Лиса и журавль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«Лиса – исповедница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«Теремок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«Кот – серый лоб, козел да баран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«Лисичка со скалочкой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«Курочка Ряба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«Бобовое зернышко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«Колобок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295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«Репка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7d47d"/>
                </a:solidFill>
                <a:uFillTx/>
                <a:latin typeface="Constantia"/>
              </a:rPr>
              <a:t>Волшебные сказ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бразец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ционального русского искусства ,уходит глубочайшими корнями в психику, восприятие, культуру и язык народ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Белая уточка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По щучьему велению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Семь Семионов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Сестрица Аленушка и братец Иванушка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Сивка – Бурка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Летучий корабль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Марья Моревна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Василиса Премудрая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Кузьма Скоробогатый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Иван – Царевич и серый волк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Гуси- лебеди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Волшебное колечко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Хаврошечка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Финист- Ясный Сокол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Лягушка- царевна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7d47d"/>
                </a:solidFill>
                <a:uFillTx/>
                <a:latin typeface="Constantia"/>
              </a:rPr>
              <a:t>Бытовые сказ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артина обыденной жизни. Занимательные, необычайные бытовые происшеств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оп и работник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Барин и мужик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Про братьев Фому и Ерему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Ворожея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7:58:51Z</dcterms:created>
  <dc:creator>Елена Анатольенва Поздина</dc:creator>
  <dc:description/>
  <dc:language>en-US</dc:language>
  <cp:lastModifiedBy>Дима</cp:lastModifiedBy>
  <dcterms:modified xsi:type="dcterms:W3CDTF">2012-11-27T16:02:25Z</dcterms:modified>
  <cp:revision>11</cp:revision>
  <dc:subject/>
  <dc:title> Вера Михайловна Мочалова,  воспитатель муниципального дошкольного  образовательного учреждения  детский сад общеразвивающего вида № 1 пгт Даровской  (педагогический стаж – 25 лет первая квалификационная категория)</dc:title>
</cp:coreProperties>
</file>