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413-11C5-4EE6-A605-15101133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845-1533-46E7-B001-FB49462E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8C1-3CC9-42D5-B739-2CE2A2A8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E5C-4393-43A5-970E-97AC7E59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B215-667B-4BBD-8D28-8F4FF126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2258-8608-4F90-B832-4314A3A5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35FD-313B-452E-A252-6D99BF3F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1DC2-A3FD-4C23-A57C-0A162B26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916A-1971-493E-B1E9-19573D92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B67F-E915-4565-8ABA-91D4FABE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742D-2CDC-4E1A-8AF1-E0B627FF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A74-6059-4C20-A6FE-2C9C7267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E20F-6B47-471B-978E-28131C36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7AA4-949A-48B1-B68B-F6F4FA84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4FB7-3A08-42D0-9F94-8D613F9F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747F-A48A-4F44-836E-1400FBB0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356D-C380-4335-B53B-8A1C0AD1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F080-5A84-44DC-B416-F57D6567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42B-F75C-4E1E-A7A1-5D4BE9F4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D23-2E9C-47C2-A900-24F11CB0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063-CFB7-4019-9D79-1A284DA8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82B-45DE-4CF8-BD31-088CBB5A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10C-80E0-4933-9AAB-124009CE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77C-B8FA-455D-9E40-8FF8107C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DFFC-7BA3-44B8-B1F9-1AF4600DEE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FD42-52B6-4A2A-AF66-D334FCA7914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6600"/>
                </a:solidFill>
                <a:latin typeface="Times New Roman"/>
              </a:rPr>
              <a:t>Прочитайте пары слов: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61960" y="1523880"/>
            <a:ext cx="6019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— уголь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 — ель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 — мел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— брат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348680" y="3580920"/>
            <a:ext cx="164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2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Times New Roman"/>
              </a:rPr>
              <a:t>Спрячь мягкий знак в середину слова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428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ь</a:t>
            </a:r>
            <a:r>
              <a:rPr b="1" lang="ru-RU" sz="4800" spc="-1" strike="noStrike">
                <a:solidFill>
                  <a:srgbClr val="727de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ь</a:t>
            </a:r>
            <a:r>
              <a:rPr b="1" lang="ru-RU" sz="4800" spc="-1" strike="noStrike">
                <a:solidFill>
                  <a:srgbClr val="727de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ь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ь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24280" y="1676520"/>
            <a:ext cx="3810240" cy="4876560"/>
          </a:xfrm>
          <a:prstGeom prst="rect">
            <a:avLst/>
          </a:prstGeom>
          <a:noFill/>
          <a:ln cap="sq" w="12600">
            <a:solidFill>
              <a:srgbClr val="727d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е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е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го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звер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окун</a:t>
            </a:r>
            <a:r>
              <a:rPr b="1" lang="ru-RU" sz="4800" spc="-1" strike="noStrike">
                <a:solidFill>
                  <a:srgbClr val="339933"/>
                </a:solidFill>
                <a:latin typeface="Times New Roman"/>
              </a:rPr>
              <a:t>ь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5438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121" descr=""/>
          <p:cNvPicPr/>
          <p:nvPr/>
        </p:nvPicPr>
        <p:blipFill>
          <a:blip r:embed="rId1"/>
          <a:stretch/>
        </p:blipFill>
        <p:spPr>
          <a:xfrm>
            <a:off x="2362320" y="-457200"/>
            <a:ext cx="5648040" cy="83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</cp:lastModifiedBy>
  <dcterms:modified xsi:type="dcterms:W3CDTF">2012-02-16T18:59:05Z</dcterms:modified>
  <cp:revision>1</cp:revision>
  <dc:subject/>
  <dc:title>PowerPoint Presentation</dc:title>
</cp:coreProperties>
</file>