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C4A-5699-4DA1-BF1F-0F0A0306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284-FEDE-42A7-ADFD-F0E307F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0F9-5D76-4701-80F0-3C226430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9F4-3C81-40F2-83F7-F7288E60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668-076F-4F07-BCC1-347C1B20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14AB-8B57-4D03-A227-F19F8495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056-2ECF-4D58-AAB6-0A64B7EE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B601-2498-48BD-A55A-A57CAAF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1FC7-4CF4-4D7E-9F13-37E77B41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A0B-2194-4EC2-B96E-94AAF814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4957-5018-4154-A8A5-C36C8CB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D6F-B0AE-4932-A5D5-79523DA2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2F90-B9BF-4DEB-9AE2-AD8C139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522A-8C44-40C6-93FC-C9E6C931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0FA6-CC93-4A0D-9650-B9314AA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598-ADAC-45BA-A2D5-4B63BBCF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3C16-CEDB-4F67-9793-E48B2110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9E0-AFE4-40DE-B8CB-BB6D7E7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A3C-A09E-40C1-82C2-9B29B83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B36-4A87-4BC7-B620-BE6005D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FC0-318B-40A9-8015-E9413161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2FF-7FB3-473A-9009-ADBBABF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5C6-FF34-467E-B0A0-EC10FC0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D81-998B-4448-B747-0A018D16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2F18-AFF6-4FDE-8D00-79AA145676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E227-D038-4EC3-8C04-58273367A90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00"/>
                </a:solidFill>
                <a:latin typeface="Times New Roman"/>
              </a:rPr>
              <a:t>Прочитайте пары слов: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61960" y="1523880"/>
            <a:ext cx="6019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— угол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 — ел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 — мел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— брат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48680" y="3580920"/>
            <a:ext cx="164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Спрячь мягкий знак в середину слов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28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727de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727de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810240" cy="4876560"/>
          </a:xfrm>
          <a:prstGeom prst="rect">
            <a:avLst/>
          </a:prstGeom>
          <a:noFill/>
          <a:ln cap="sq" w="12600">
            <a:solidFill>
              <a:srgbClr val="727d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го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звер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ку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21" descr=""/>
          <p:cNvPicPr/>
          <p:nvPr/>
        </p:nvPicPr>
        <p:blipFill>
          <a:blip r:embed="rId1"/>
          <a:stretch/>
        </p:blipFill>
        <p:spPr>
          <a:xfrm>
            <a:off x="2362320" y="-457200"/>
            <a:ext cx="564804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</cp:lastModifiedBy>
  <dcterms:modified xsi:type="dcterms:W3CDTF">2012-02-16T18:59:05Z</dcterms:modified>
  <cp:revision>1</cp:revision>
  <dc:subject/>
  <dc:title>PowerPoint Presentation</dc:title>
</cp:coreProperties>
</file>