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media/image8.png" ContentType="image/png"/>
  <Override PartName="/ppt/media/image9.wmf" ContentType="image/x-wmf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67C9-AE74-4E88-BD6C-0902A84B33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490F-570E-4FE3-90BD-2C3E4E5F97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7B49-4FCC-48AC-9D83-21D778971A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4BA33-1FA4-4388-BD21-6D561699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5CE51-4B18-4D99-9188-F2186832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3380A-D4B6-4D1F-B1B2-264CE97E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256E5-1F1D-4F14-95AB-BB81D217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13F0-F86F-4AA7-A815-AA1B8172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6817-0698-4868-941A-78A0F551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6F81-7E94-43AF-936A-706909C7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8F4F-7AD2-4F6D-A7CC-0ADF068A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7477-C9B1-490C-AFD0-B7B0523E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5556-5CAB-4C04-BD28-D5C066D0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1979-58E8-4E04-A499-A02305A1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D2D52-D788-4BC8-9202-65888922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240A-8E01-4D06-980B-F0A2A3FE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535C-A54D-4A2B-9B84-F0E1F061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E7EE-435C-4A83-B556-2675F618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9FB7-80EF-41A8-8CDD-592F5965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E30C-0FD5-4845-A760-EBDA9640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78404-DFDB-44EF-A011-C04289B0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CFBB6-76CC-4ABB-9580-1AAFA16C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166C0-E57F-4D65-9767-41B0868A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6B20D-20A9-4099-91A8-12F3F825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9B1E4-4DD2-485E-9D9E-7FB1A92D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FD64F-7519-4E48-81EE-F9C56DEB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21A14-E56A-40B4-BD16-275E8894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B31B-CB98-4DC9-8000-A50A41D7FB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F73A-2D42-4472-A554-DC75207CC1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16000" y="1125360"/>
            <a:ext cx="5846760" cy="274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атематика</a:t>
            </a:r>
            <a:br>
              <a:rPr sz="36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 класс</a:t>
            </a:r>
            <a:br>
              <a:rPr sz="18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рок-открытие</a:t>
            </a:r>
            <a:br>
              <a:rPr sz="3600"/>
            </a:br>
            <a:r>
              <a:rPr b="0" i="1" lang="en-US" sz="4100" spc="-1" strike="noStrike">
                <a:solidFill>
                  <a:srgbClr val="ffffff"/>
                </a:solidFill>
                <a:latin typeface="Arial"/>
              </a:rPr>
              <a:t>Площадь прямоугольника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8000" y="4267080"/>
            <a:ext cx="867564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80"/>
                </a:solidFill>
                <a:latin typeface="Arial"/>
              </a:rPr>
              <a:t>Викторук Ольга Евгень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МОУ СОШ с. Домна Читинского района Забайкальского кра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8080"/>
                </a:solidFill>
                <a:latin typeface="Arial"/>
              </a:rPr>
              <a:t>Банк маленьких открытий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76360" y="1699920"/>
            <a:ext cx="66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 =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lang="ru-RU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 –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лощад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 – дли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 -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шири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 =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lang="ru-RU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 –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лощад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 – дли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Рисунок 3" descr="cdolls118.gif"/>
          <p:cNvPicPr/>
          <p:nvPr/>
        </p:nvPicPr>
        <p:blipFill>
          <a:blip r:embed="rId1"/>
          <a:stretch/>
        </p:blipFill>
        <p:spPr>
          <a:xfrm>
            <a:off x="5940360" y="2997360"/>
            <a:ext cx="2962440" cy="17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1187280" y="479520"/>
            <a:ext cx="72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80"/>
                </a:solidFill>
                <a:latin typeface="Arial"/>
              </a:rPr>
              <a:t>Сегодня на урок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80"/>
                </a:solidFill>
                <a:latin typeface="Arial"/>
              </a:rPr>
              <a:t>Вы искали и творил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80"/>
                </a:solidFill>
                <a:latin typeface="Arial"/>
              </a:rPr>
              <a:t>Знания новые открыл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80"/>
                </a:solidFill>
                <a:latin typeface="Arial"/>
              </a:rPr>
              <a:t>Научились их применять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80"/>
                </a:solidFill>
                <a:latin typeface="Arial"/>
              </a:rPr>
              <a:t>Теперь задания легко Вам выполнять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олодцы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пасибо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3" descr="n09"/>
          <p:cNvPicPr/>
          <p:nvPr/>
        </p:nvPicPr>
        <p:blipFill>
          <a:blip r:embed="rId1"/>
          <a:stretch/>
        </p:blipFill>
        <p:spPr>
          <a:xfrm>
            <a:off x="395280" y="4508640"/>
            <a:ext cx="1871640" cy="16873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3" descr="a3.gif"/>
          <p:cNvPicPr/>
          <p:nvPr/>
        </p:nvPicPr>
        <p:blipFill>
          <a:blip r:embed="rId2"/>
          <a:stretch/>
        </p:blipFill>
        <p:spPr>
          <a:xfrm>
            <a:off x="6300720" y="4292640"/>
            <a:ext cx="266544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339640" y="1125000"/>
            <a:ext cx="6002280" cy="44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Мы – умны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Мы – дружны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Мы – внимательны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Мы – старательны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Мы – отлично учимся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Все у нас получится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AMERI006"/>
          <p:cNvPicPr/>
          <p:nvPr/>
        </p:nvPicPr>
        <p:blipFill>
          <a:blip r:embed="rId1"/>
          <a:stretch/>
        </p:blipFill>
        <p:spPr>
          <a:xfrm flipH="1">
            <a:off x="-360" y="3789360"/>
            <a:ext cx="2598840" cy="2806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AMERI007"/>
          <p:cNvPicPr/>
          <p:nvPr/>
        </p:nvPicPr>
        <p:blipFill>
          <a:blip r:embed="rId2"/>
          <a:stretch/>
        </p:blipFill>
        <p:spPr>
          <a:xfrm>
            <a:off x="6526080" y="0"/>
            <a:ext cx="261792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 rot="6719400">
            <a:off x="2172240" y="1095840"/>
            <a:ext cx="900000" cy="12254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1692360" y="2133720"/>
            <a:ext cx="1511280" cy="647640"/>
          </a:xfrm>
          <a:prstGeom prst="parallelogram">
            <a:avLst>
              <a:gd name="adj" fmla="val 58338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835280" y="3141720"/>
            <a:ext cx="1224000" cy="71892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 flipV="1">
            <a:off x="1979640" y="4220640"/>
            <a:ext cx="799920" cy="6858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1908000" y="4869000"/>
            <a:ext cx="14292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2700360" y="4149720"/>
            <a:ext cx="14292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 rot="2704200">
            <a:off x="1843920" y="5004360"/>
            <a:ext cx="1152360" cy="1170000"/>
          </a:xfrm>
          <a:prstGeom prst="diamond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932360" y="857160"/>
            <a:ext cx="36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еуголь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рез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ногоуголь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ямоуголь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тырехуголь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вадр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 flipV="1">
            <a:off x="3564000" y="1268280"/>
            <a:ext cx="2087640" cy="14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1"/>
          <p:cNvSpPr/>
          <p:nvPr/>
        </p:nvSpPr>
        <p:spPr>
          <a:xfrm>
            <a:off x="3492360" y="1557360"/>
            <a:ext cx="2016360" cy="122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3203640" y="2276640"/>
            <a:ext cx="2232000" cy="57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3132000" y="2421000"/>
            <a:ext cx="2160720" cy="20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 flipV="1">
            <a:off x="3132000" y="2924280"/>
            <a:ext cx="2303640" cy="433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3132000" y="3573360"/>
            <a:ext cx="2303640" cy="142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6"/>
          <p:cNvSpPr/>
          <p:nvPr/>
        </p:nvSpPr>
        <p:spPr>
          <a:xfrm>
            <a:off x="3132000" y="3716280"/>
            <a:ext cx="2087640" cy="792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7"/>
          <p:cNvSpPr/>
          <p:nvPr/>
        </p:nvSpPr>
        <p:spPr>
          <a:xfrm flipV="1">
            <a:off x="2916360" y="2060640"/>
            <a:ext cx="3168360" cy="22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8"/>
          <p:cNvSpPr/>
          <p:nvPr/>
        </p:nvSpPr>
        <p:spPr>
          <a:xfrm flipV="1">
            <a:off x="2843280" y="2997000"/>
            <a:ext cx="2665440" cy="23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9"/>
          <p:cNvSpPr/>
          <p:nvPr/>
        </p:nvSpPr>
        <p:spPr>
          <a:xfrm flipV="1">
            <a:off x="2843280" y="3860280"/>
            <a:ext cx="2592360" cy="172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 flipV="1">
            <a:off x="2916360" y="4581360"/>
            <a:ext cx="2447640" cy="115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 flipV="1">
            <a:off x="2916360" y="5445000"/>
            <a:ext cx="3168360" cy="4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60436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8080"/>
                </a:solidFill>
                <a:latin typeface="Arial"/>
              </a:rPr>
              <a:t>Эталон для взаимопроверки и взаимоконтрол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771280" y="6922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: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 = (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+ b) ·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: 3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 = a + b + a + 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 = a · 2 + b ·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27240" y="912600"/>
            <a:ext cx="26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Выра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с перемен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6663240" y="1051920"/>
            <a:ext cx="19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Форму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5" descr="BBERASER"/>
          <p:cNvPicPr/>
          <p:nvPr/>
        </p:nvPicPr>
        <p:blipFill>
          <a:blip r:embed="rId1"/>
          <a:stretch/>
        </p:blipFill>
        <p:spPr>
          <a:xfrm>
            <a:off x="6230880" y="4405320"/>
            <a:ext cx="2913120" cy="24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25 0.02683 L -0.21753 0.16301 E">
                                      <p:cBhvr>
                                        <p:cTn id="3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361 0.02359 L -0.22309 0.06544 E">
                                      <p:cBhvr>
                                        <p:cTn id="37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586 0.02219 L -0.20972 0.06404 E">
                                      <p:cBhvr>
                                        <p:cTn id="41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802 0.0067 L -0.22187 -0.10844 E">
                                      <p:cBhvr>
                                        <p:cTn id="45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406 0.0148 L 0.30816 0.04624 E">
                                      <p:cBhvr>
                                        <p:cTn id="5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77 -0.00046 L 0.28924 -0.11584 E">
                                      <p:cBhvr>
                                        <p:cTn id="58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843 0.00833 L 0.3059 -0.08601 E">
                                      <p:cBhvr>
                                        <p:cTn id="62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Oval 2"/>
          <p:cNvSpPr/>
          <p:nvPr/>
        </p:nvSpPr>
        <p:spPr>
          <a:xfrm>
            <a:off x="611280" y="2852640"/>
            <a:ext cx="1296720" cy="12240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3"/>
          <p:cNvSpPr/>
          <p:nvPr/>
        </p:nvSpPr>
        <p:spPr>
          <a:xfrm flipV="1">
            <a:off x="2124000" y="2924280"/>
            <a:ext cx="1943280" cy="1296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4067280" y="2781360"/>
            <a:ext cx="1441440" cy="136692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924360" y="27075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7020000" y="2708280"/>
            <a:ext cx="1655640" cy="1441440"/>
          </a:xfrm>
          <a:prstGeom prst="hexagon">
            <a:avLst>
              <a:gd name="adj" fmla="val 28715"/>
              <a:gd name="vf" fmla="val 115470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997080" y="851400"/>
            <a:ext cx="166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80"/>
                </a:solidFill>
                <a:latin typeface="Arial"/>
              </a:rPr>
              <a:t>Р - 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25680" y="3213000"/>
            <a:ext cx="2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1476360" y="5229360"/>
          <a:ext cx="6767640" cy="973080"/>
        </p:xfrm>
        <a:graphic>
          <a:graphicData uri="http://schemas.openxmlformats.org/drawingml/2006/table">
            <a:tbl>
              <a:tblPr/>
              <a:tblGrid>
                <a:gridCol w="1030320"/>
                <a:gridCol w="1027080"/>
                <a:gridCol w="1030320"/>
                <a:gridCol w="1027080"/>
                <a:gridCol w="1030320"/>
                <a:gridCol w="1027080"/>
                <a:gridCol w="595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124000" y="404640"/>
          <a:ext cx="4753080" cy="4699080"/>
        </p:xfrm>
        <a:graphic>
          <a:graphicData uri="http://schemas.openxmlformats.org/drawingml/2006/table">
            <a:tbl>
              <a:tblPr/>
              <a:tblGrid>
                <a:gridCol w="781200"/>
                <a:gridCol w="2940120"/>
                <a:gridCol w="10317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· 4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+2+3+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+3+8+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+4+ 4+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+1) · 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· 2 + 5 ·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2+1+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4+2) · 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66"/>
          <p:cNvSpPr/>
          <p:nvPr/>
        </p:nvSpPr>
        <p:spPr>
          <a:xfrm>
            <a:off x="250920" y="55159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лю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67"/>
          <p:cNvSpPr/>
          <p:nvPr/>
        </p:nvSpPr>
        <p:spPr>
          <a:xfrm>
            <a:off x="1763640" y="56602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68"/>
          <p:cNvSpPr/>
          <p:nvPr/>
        </p:nvSpPr>
        <p:spPr>
          <a:xfrm>
            <a:off x="2844720" y="566028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69"/>
          <p:cNvSpPr/>
          <p:nvPr/>
        </p:nvSpPr>
        <p:spPr>
          <a:xfrm>
            <a:off x="3851280" y="566028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70"/>
          <p:cNvSpPr/>
          <p:nvPr/>
        </p:nvSpPr>
        <p:spPr>
          <a:xfrm>
            <a:off x="4859280" y="56602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71"/>
          <p:cNvSpPr/>
          <p:nvPr/>
        </p:nvSpPr>
        <p:spPr>
          <a:xfrm>
            <a:off x="5869080" y="5660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2"/>
          <p:cNvSpPr/>
          <p:nvPr/>
        </p:nvSpPr>
        <p:spPr>
          <a:xfrm>
            <a:off x="6877080" y="5660280"/>
            <a:ext cx="48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73"/>
          <p:cNvSpPr/>
          <p:nvPr/>
        </p:nvSpPr>
        <p:spPr>
          <a:xfrm>
            <a:off x="7667640" y="5660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74" descr="bd07223_"/>
          <p:cNvPicPr/>
          <p:nvPr/>
        </p:nvPicPr>
        <p:blipFill>
          <a:blip r:embed="rId1"/>
          <a:stretch/>
        </p:blipFill>
        <p:spPr>
          <a:xfrm>
            <a:off x="7020000" y="1389240"/>
            <a:ext cx="1944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22560" y="457200"/>
            <a:ext cx="476424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Площадь -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1440" y="50835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расная площа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PILE1"/>
          <p:cNvPicPr/>
          <p:nvPr/>
        </p:nvPicPr>
        <p:blipFill>
          <a:blip r:embed="rId2"/>
          <a:stretch/>
        </p:blipFill>
        <p:spPr>
          <a:xfrm>
            <a:off x="2124000" y="189000"/>
            <a:ext cx="2487600" cy="20462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 rot="1907400">
            <a:off x="1908000" y="1339920"/>
            <a:ext cx="212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ловар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жегова С.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i-main-pic" descr="Картинка 2 из 68879"/>
          <p:cNvPicPr/>
          <p:nvPr/>
        </p:nvPicPr>
        <p:blipFill>
          <a:blip r:embed="rId3"/>
          <a:stretch/>
        </p:blipFill>
        <p:spPr>
          <a:xfrm>
            <a:off x="3348000" y="2852640"/>
            <a:ext cx="2508120" cy="20304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8"/>
          <p:cNvSpPr/>
          <p:nvPr/>
        </p:nvSpPr>
        <p:spPr>
          <a:xfrm>
            <a:off x="3277800" y="5083560"/>
            <a:ext cx="26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илая площа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6086160" y="508356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лощадь фиг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6732720" y="2852640"/>
            <a:ext cx="1800000" cy="1800360"/>
          </a:xfrm>
          <a:custGeom>
            <a:avLst/>
            <a:gdLst>
              <a:gd name="textAreaLeft" fmla="*/ 374760 w 1800000"/>
              <a:gd name="textAreaRight" fmla="*/ 1425240 w 1800000"/>
              <a:gd name="textAreaTop" fmla="*/ 375120 h 1800360"/>
              <a:gd name="textAreaBottom" fmla="*/ 1425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93800" y="764640"/>
            <a:ext cx="69264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Тема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урока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: 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4000" spc="-1" strike="noStrike">
                <a:solidFill>
                  <a:srgbClr val="008080"/>
                </a:solidFill>
                <a:latin typeface="Arial"/>
              </a:rPr>
              <a:t>«Площадь </a:t>
            </a:r>
            <a:br>
              <a:rPr sz="4000"/>
            </a:br>
            <a:r>
              <a:rPr b="1" lang="en-US" sz="4000" spc="-1" strike="noStrike">
                <a:solidFill>
                  <a:srgbClr val="008080"/>
                </a:solidFill>
                <a:latin typeface="Arial"/>
              </a:rPr>
              <a:t>                прямоугольник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174400" y="2327040"/>
            <a:ext cx="6512040" cy="37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Задачи урок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познакомимся с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сформируем умения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развиваем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воспитываем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STUDENT1"/>
          <p:cNvPicPr/>
          <p:nvPr/>
        </p:nvPicPr>
        <p:blipFill>
          <a:blip r:embed="rId1"/>
          <a:stretch/>
        </p:blipFill>
        <p:spPr>
          <a:xfrm flipH="1">
            <a:off x="6300360" y="3860640"/>
            <a:ext cx="2592360" cy="272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200"/>
                            </p:stCondLst>
                            <p:childTnLst>
                              <p:par>
                                <p:cTn id="1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250"/>
                            </p:stCondLst>
                            <p:childTnLst>
                              <p:par>
                                <p:cTn id="1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400"/>
                            </p:stCondLst>
                            <p:childTnLst>
                              <p:par>
                                <p:cTn id="1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700"/>
                            </p:stCondLst>
                            <p:childTnLst>
                              <p:par>
                                <p:cTn id="2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650"/>
                            </p:stCondLst>
                            <p:childTnLst>
                              <p:par>
                                <p:cTn id="20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7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 rot="20796000">
            <a:off x="2050920" y="1844280"/>
            <a:ext cx="4032360" cy="230364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 rot="20796000">
            <a:off x="3781800" y="422064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дли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 rot="20788200">
            <a:off x="6372360" y="1844280"/>
            <a:ext cx="193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шири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5"/>
          <p:cNvSpPr/>
          <p:nvPr/>
        </p:nvSpPr>
        <p:spPr>
          <a:xfrm flipV="1">
            <a:off x="2340000" y="3644640"/>
            <a:ext cx="3960720" cy="936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6"/>
          <p:cNvSpPr/>
          <p:nvPr/>
        </p:nvSpPr>
        <p:spPr>
          <a:xfrm flipV="1">
            <a:off x="1835280" y="1412640"/>
            <a:ext cx="3960720" cy="936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7"/>
          <p:cNvSpPr/>
          <p:nvPr/>
        </p:nvSpPr>
        <p:spPr>
          <a:xfrm>
            <a:off x="1835280" y="2349360"/>
            <a:ext cx="504720" cy="215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>
            <a:off x="5796000" y="1484280"/>
            <a:ext cx="504720" cy="2158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9" descr="pe01821_"/>
          <p:cNvPicPr/>
          <p:nvPr/>
        </p:nvPicPr>
        <p:blipFill>
          <a:blip r:embed="rId1"/>
          <a:stretch/>
        </p:blipFill>
        <p:spPr>
          <a:xfrm flipH="1">
            <a:off x="-360" y="4332240"/>
            <a:ext cx="2398680" cy="252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04:10:21Z</dcterms:created>
  <dc:creator>Хромова Татьяна Николаевна</dc:creator>
  <dc:description/>
  <dc:language>en-US</dc:language>
  <cp:lastModifiedBy>Пользователь</cp:lastModifiedBy>
  <dcterms:modified xsi:type="dcterms:W3CDTF">2012-10-07T13:56:47Z</dcterms:modified>
  <cp:revision>6</cp:revision>
  <dc:subject/>
  <dc:title>Математика 2 класс Урок-открытие Площадь прямоугольника </dc:title>
</cp:coreProperties>
</file>