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png" ContentType="image/png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65AD-CA38-4668-88E6-1B0C293554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5C9-D91E-4582-9380-016A4893E2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492B-027D-4A83-9F6C-06C152333B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2196-D49E-4C90-BA14-A809585F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A413-BA57-48C8-AE05-FE684CBB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0B82-FB71-4287-9493-D5299F7F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2BA8-781E-4A06-A924-B790D06F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020-4D1C-4290-B643-BF2AF372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526-B38A-4BC6-879A-899DBE7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178E-0D0B-476B-937E-66A34BDC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953-78A6-4023-9F83-770D7D5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0968-0F9B-470F-862C-7636ABB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CEE-4941-4F93-8B80-010412C6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7D91-5359-4378-971B-AF36D44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220E-EF05-4B85-8F7C-602B540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A69A-72BC-46E6-AB1F-5B75EC8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956-4079-4D8B-9DB4-3F613C4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4B1D-AA6E-428A-A378-3DF87EE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951E-01B7-4C9C-90C2-48EB2150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9FE8-B1C5-49C8-9225-64BF1B35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C008-448C-4DD1-8761-94099B53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3953-C128-4888-9432-4715F000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712A-EE06-410F-B701-FBEE991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2410-D530-4C55-8C97-0D25C92D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97B2-D3E6-4150-92B5-1546B58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B6A7-96D1-4DD4-A38D-DCFBEC5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4132-1B98-410E-924D-C1F26C6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F2E1-A6C4-41EE-A3B6-517B2CF42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C9E-A176-49B6-A29C-B434E747D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584676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36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 класс</a:t>
            </a:r>
            <a:br>
              <a:rPr sz="1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-открытие</a:t>
            </a:r>
            <a:br>
              <a:rPr sz="3600"/>
            </a:br>
            <a:r>
              <a:rPr b="0" i="1" lang="en-US" sz="4100" spc="-1" strike="noStrike">
                <a:solidFill>
                  <a:srgbClr val="ffffff"/>
                </a:solidFill>
                <a:latin typeface="Arial"/>
              </a:rPr>
              <a:t>Площадь прямоугольник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000" y="4267080"/>
            <a:ext cx="867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Викторук Ольга Евген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У СОШ с. Домна Читинского района Забайкальского кр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8080"/>
                </a:solidFill>
                <a:latin typeface="Arial"/>
              </a:rPr>
              <a:t>Банк маленьких открыт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66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шир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3" descr="cdolls118.gif"/>
          <p:cNvPicPr/>
          <p:nvPr/>
        </p:nvPicPr>
        <p:blipFill>
          <a:blip r:embed="rId1"/>
          <a:stretch/>
        </p:blipFill>
        <p:spPr>
          <a:xfrm>
            <a:off x="5940360" y="299736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187280" y="47952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Сегодня на уро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Вы искали и твор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Знания новые откр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Научились их применя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Теперь задания легко Вам выполнят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n09"/>
          <p:cNvPicPr/>
          <p:nvPr/>
        </p:nvPicPr>
        <p:blipFill>
          <a:blip r:embed="rId1"/>
          <a:stretch/>
        </p:blipFill>
        <p:spPr>
          <a:xfrm>
            <a:off x="395280" y="4508640"/>
            <a:ext cx="1871640" cy="1687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" descr="a3.gif"/>
          <p:cNvPicPr/>
          <p:nvPr/>
        </p:nvPicPr>
        <p:blipFill>
          <a:blip r:embed="rId2"/>
          <a:stretch/>
        </p:blipFill>
        <p:spPr>
          <a:xfrm>
            <a:off x="6300720" y="4292640"/>
            <a:ext cx="26654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39640" y="1125000"/>
            <a:ext cx="60022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ум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друж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вним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стар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отлично учим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 у нас получит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AMERI006"/>
          <p:cNvPicPr/>
          <p:nvPr/>
        </p:nvPicPr>
        <p:blipFill>
          <a:blip r:embed="rId1"/>
          <a:stretch/>
        </p:blipFill>
        <p:spPr>
          <a:xfrm flipH="1">
            <a:off x="-360" y="3789360"/>
            <a:ext cx="2598840" cy="280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AMERI007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 rot="6719400">
            <a:off x="2172240" y="1095840"/>
            <a:ext cx="900000" cy="1225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692360" y="2133720"/>
            <a:ext cx="1511280" cy="647640"/>
          </a:xfrm>
          <a:prstGeom prst="parallelogram">
            <a:avLst>
              <a:gd name="adj" fmla="val 5833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835280" y="3141720"/>
            <a:ext cx="12240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1979640" y="4220640"/>
            <a:ext cx="79992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1908000" y="4869000"/>
            <a:ext cx="14292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2700360" y="4149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 rot="2704200">
            <a:off x="1843920" y="5004360"/>
            <a:ext cx="1152360" cy="117000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932360" y="857160"/>
            <a:ext cx="36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е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х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3564000" y="1268280"/>
            <a:ext cx="208764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3492360" y="1557360"/>
            <a:ext cx="201636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3203640" y="2276640"/>
            <a:ext cx="2232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132000" y="2421000"/>
            <a:ext cx="2160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3132000" y="2924280"/>
            <a:ext cx="230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3132000" y="3573360"/>
            <a:ext cx="230364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3132000" y="3716280"/>
            <a:ext cx="2087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2916360" y="2060640"/>
            <a:ext cx="316836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V="1">
            <a:off x="2843280" y="2997000"/>
            <a:ext cx="266544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V="1">
            <a:off x="2843280" y="3860280"/>
            <a:ext cx="2592360" cy="172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2916360" y="4581360"/>
            <a:ext cx="2447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2916360" y="5445000"/>
            <a:ext cx="3168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Эталон для взаимопроверки и взаимоконтро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771280" y="6922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b)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 3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+ b + a +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· 2 + b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7240" y="91260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с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663240" y="10519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Форм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BBERASER"/>
          <p:cNvPicPr/>
          <p:nvPr/>
        </p:nvPicPr>
        <p:blipFill>
          <a:blip r:embed="rId1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02683 L -0.21753 0.16301 E">
                                      <p:cBhvr>
                                        <p:cTn id="3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2359 L -0.22309 0.06544 E">
                                      <p:cBhvr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2219 L -0.20972 0.06404 E">
                                      <p:cBhvr>
                                        <p:cTn id="4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67 L -0.22187 -0.10844 E">
                                      <p:cBhvr>
                                        <p:cTn id="4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148 L 0.30816 0.04624 E">
                                      <p:cBhvr>
                                        <p:cTn id="5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77 -0.00046 L 0.28924 -0.11584 E">
                                      <p:cBhvr>
                                        <p:cTn id="5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43 0.00833 L 0.3059 -0.08601 E">
                                      <p:cBhvr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2"/>
          <p:cNvSpPr/>
          <p:nvPr/>
        </p:nvSpPr>
        <p:spPr>
          <a:xfrm>
            <a:off x="611280" y="2852640"/>
            <a:ext cx="1296720" cy="1224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 flipV="1">
            <a:off x="2124000" y="2924280"/>
            <a:ext cx="1943280" cy="129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067280" y="2781360"/>
            <a:ext cx="1441440" cy="13669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24360" y="2707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7020000" y="2708280"/>
            <a:ext cx="1655640" cy="1441440"/>
          </a:xfrm>
          <a:prstGeom prst="hexagon">
            <a:avLst>
              <a:gd name="adj" fmla="val 28715"/>
              <a:gd name="vf" fmla="val 11547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97080" y="8514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Р -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5680" y="321300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476360" y="5229360"/>
          <a:ext cx="6767640" cy="973080"/>
        </p:xfrm>
        <a:graphic>
          <a:graphicData uri="http://schemas.openxmlformats.org/drawingml/2006/table">
            <a:tbl>
              <a:tblPr/>
              <a:tblGrid>
                <a:gridCol w="1030320"/>
                <a:gridCol w="1027080"/>
                <a:gridCol w="1030320"/>
                <a:gridCol w="1027080"/>
                <a:gridCol w="1030320"/>
                <a:gridCol w="1027080"/>
                <a:gridCol w="59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124000" y="404640"/>
          <a:ext cx="4753080" cy="4699080"/>
        </p:xfrm>
        <a:graphic>
          <a:graphicData uri="http://schemas.openxmlformats.org/drawingml/2006/table">
            <a:tbl>
              <a:tblPr/>
              <a:tblGrid>
                <a:gridCol w="781200"/>
                <a:gridCol w="2940120"/>
                <a:gridCol w="103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· 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2+3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+3+8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+4+ 4+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+1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· 2 + 5 ·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2+1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+2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66"/>
          <p:cNvSpPr/>
          <p:nvPr/>
        </p:nvSpPr>
        <p:spPr>
          <a:xfrm>
            <a:off x="250920" y="5515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1763640" y="566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2844720" y="56602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3851280" y="566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4859280" y="566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5869080" y="566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6877080" y="566028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73"/>
          <p:cNvSpPr/>
          <p:nvPr/>
        </p:nvSpPr>
        <p:spPr>
          <a:xfrm>
            <a:off x="7667640" y="56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4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22560" y="457200"/>
            <a:ext cx="47642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Площадь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440" y="50835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PILE1"/>
          <p:cNvPicPr/>
          <p:nvPr/>
        </p:nvPicPr>
        <p:blipFill>
          <a:blip r:embed="rId2"/>
          <a:stretch/>
        </p:blipFill>
        <p:spPr>
          <a:xfrm>
            <a:off x="2124000" y="189000"/>
            <a:ext cx="2487600" cy="2046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 rot="1907400">
            <a:off x="1908000" y="133992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жегова С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i-main-pic" descr="Картинка 2 из 68879"/>
          <p:cNvPicPr/>
          <p:nvPr/>
        </p:nvPicPr>
        <p:blipFill>
          <a:blip r:embed="rId3"/>
          <a:stretch/>
        </p:blipFill>
        <p:spPr>
          <a:xfrm>
            <a:off x="3348000" y="2852640"/>
            <a:ext cx="2508120" cy="2030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3277800" y="508356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л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6086160" y="50835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732720" y="2852640"/>
            <a:ext cx="1800000" cy="1800360"/>
          </a:xfrm>
          <a:custGeom>
            <a:avLst/>
            <a:gdLst>
              <a:gd name="textAreaLeft" fmla="*/ 374760 w 1800000"/>
              <a:gd name="textAreaRight" fmla="*/ 1425240 w 1800000"/>
              <a:gd name="textAreaTop" fmla="*/ 375120 h 1800360"/>
              <a:gd name="textAreaBottom" fmla="*/ 1425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93800" y="764640"/>
            <a:ext cx="6926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урок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«Площадь </a:t>
            </a:r>
            <a:br>
              <a:rPr sz="4000"/>
            </a:b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        прямоуголь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74400" y="2327040"/>
            <a:ext cx="6512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познакомимся с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сформируем уме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разви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воспиты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STUDENT1"/>
          <p:cNvPicPr/>
          <p:nvPr/>
        </p:nvPicPr>
        <p:blipFill>
          <a:blip r:embed="rId1"/>
          <a:stretch/>
        </p:blipFill>
        <p:spPr>
          <a:xfrm flipH="1">
            <a:off x="6300360" y="3860640"/>
            <a:ext cx="2592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2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7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6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7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 rot="20796000">
            <a:off x="2050920" y="1844280"/>
            <a:ext cx="4032360" cy="2303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 rot="20796000">
            <a:off x="3781800" y="422064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 rot="20788200">
            <a:off x="6372360" y="184428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ш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2340000" y="3644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V="1">
            <a:off x="1835280" y="1412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35280" y="2349360"/>
            <a:ext cx="504720" cy="215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5796000" y="1484280"/>
            <a:ext cx="504720" cy="21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pe01821_"/>
          <p:cNvPicPr/>
          <p:nvPr/>
        </p:nvPicPr>
        <p:blipFill>
          <a:blip r:embed="rId1"/>
          <a:stretch/>
        </p:blipFill>
        <p:spPr>
          <a:xfrm flipH="1">
            <a:off x="-360" y="4332240"/>
            <a:ext cx="23986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10:21Z</dcterms:created>
  <dc:creator>Хромова Татьяна Николаевна</dc:creator>
  <dc:description/>
  <dc:language>en-US</dc:language>
  <cp:lastModifiedBy>Пользователь</cp:lastModifiedBy>
  <dcterms:modified xsi:type="dcterms:W3CDTF">2012-10-07T13:56:47Z</dcterms:modified>
  <cp:revision>6</cp:revision>
  <dc:subject/>
  <dc:title>Математика 2 класс Урок-открытие Площадь прямоугольника </dc:title>
</cp:coreProperties>
</file>