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F7A-F82F-46CD-922D-D0639676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894-8E85-4A13-B7A6-88DF192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FAD-C4BC-4BD8-BE20-1AAE4483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F19-C130-4F51-925C-1C75324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33E-D32A-4D47-9C38-0EAA1BC9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C20-2C7C-4BBB-8625-F478D29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DA6-E2F2-4486-891F-C0472A7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5ED-1C59-4C72-A7FE-24DA648A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199-1BCA-45AD-AE60-43C4687F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F48-B641-40DD-B319-D3672AC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D60-F7C9-42C8-BC42-E399F7F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170-235E-48DC-8B8D-A63ACA1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351C-FEEB-4266-9125-7CED54826F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Tahoma"/>
              </a:rPr>
              <a:t>Презентация к уро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1 клас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по програм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«Перспективная начальная школ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«Обучение грамот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Тема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«Звуки Ж-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Разработала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Гиевская Е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г.Омск 2012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2" descr="E:\Documents and Settings\Admin\Local Settings\Temporary Internet Files\Content.IE5\TDIVGL6V\MC900437990[1].wmf"/>
          <p:cNvPicPr/>
          <p:nvPr/>
        </p:nvPicPr>
        <p:blipFill>
          <a:blip r:embed="rId1"/>
          <a:stretch/>
        </p:blipFill>
        <p:spPr>
          <a:xfrm>
            <a:off x="428760" y="4786200"/>
            <a:ext cx="18158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Звуки    </a:t>
            </a: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Ж    Ш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Левая круглая скобка 6"/>
          <p:cNvSpPr/>
          <p:nvPr/>
        </p:nvSpPr>
        <p:spPr>
          <a:xfrm>
            <a:off x="4500720" y="71424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Правая круглая скобка 7"/>
          <p:cNvSpPr/>
          <p:nvPr/>
        </p:nvSpPr>
        <p:spPr>
          <a:xfrm>
            <a:off x="5214960" y="714240"/>
            <a:ext cx="285840" cy="85572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855720"/>
              <a:gd name="textAreaBottom" fmla="*/ 8438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1"/>
                  <a:pt x="21600" y="601"/>
                </a:cubicBezTo>
                <a:lnTo>
                  <a:pt x="21600" y="20999"/>
                </a:lnTo>
                <a:cubicBezTo>
                  <a:pt x="21600" y="2130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Левая круглая скобка 8"/>
          <p:cNvSpPr/>
          <p:nvPr/>
        </p:nvSpPr>
        <p:spPr>
          <a:xfrm>
            <a:off x="6072120" y="71424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авая круглая скобка 9"/>
          <p:cNvSpPr/>
          <p:nvPr/>
        </p:nvSpPr>
        <p:spPr>
          <a:xfrm>
            <a:off x="6643800" y="714240"/>
            <a:ext cx="357120" cy="85572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855720"/>
              <a:gd name="textAreaBottom" fmla="*/ 8409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6"/>
                  <a:pt x="21600" y="751"/>
                </a:cubicBezTo>
                <a:lnTo>
                  <a:pt x="21600" y="20849"/>
                </a:lnTo>
                <a:cubicBezTo>
                  <a:pt x="21600" y="2122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АР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Ж   </a:t>
            </a: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- звон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Ш  </a:t>
            </a: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- глух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Левая круглая скобка 11"/>
          <p:cNvSpPr/>
          <p:nvPr/>
        </p:nvSpPr>
        <p:spPr>
          <a:xfrm>
            <a:off x="2500200" y="3000240"/>
            <a:ext cx="357480" cy="716040"/>
          </a:xfrm>
          <a:custGeom>
            <a:avLst/>
            <a:gdLst>
              <a:gd name="textAreaLeft" fmla="*/ 105120 w 357480"/>
              <a:gd name="textAreaRight" fmla="*/ 357840 w 357480"/>
              <a:gd name="textAreaTop" fmla="*/ 14760 h 716040"/>
              <a:gd name="textAreaBottom" fmla="*/ 70128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0"/>
                  <a:pt x="0" y="899"/>
                </a:cubicBezTo>
                <a:lnTo>
                  <a:pt x="0" y="20701"/>
                </a:lnTo>
                <a:cubicBezTo>
                  <a:pt x="0" y="2115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авая круглая скобка 12"/>
          <p:cNvSpPr/>
          <p:nvPr/>
        </p:nvSpPr>
        <p:spPr>
          <a:xfrm>
            <a:off x="3071880" y="3000240"/>
            <a:ext cx="285840" cy="71460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714600"/>
              <a:gd name="textAreaBottom" fmla="*/ 7027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0"/>
                  <a:pt x="21600" y="720"/>
                </a:cubicBezTo>
                <a:lnTo>
                  <a:pt x="21600" y="20880"/>
                </a:lnTo>
                <a:cubicBezTo>
                  <a:pt x="21600" y="2124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Левая круглая скобка 15"/>
          <p:cNvSpPr/>
          <p:nvPr/>
        </p:nvSpPr>
        <p:spPr>
          <a:xfrm>
            <a:off x="2714760" y="4572000"/>
            <a:ext cx="285480" cy="71604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716040"/>
              <a:gd name="textAreaBottom" fmla="*/ 70416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60"/>
                  <a:pt x="0" y="719"/>
                </a:cubicBezTo>
                <a:lnTo>
                  <a:pt x="0" y="20881"/>
                </a:lnTo>
                <a:cubicBezTo>
                  <a:pt x="0" y="2124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авая круглая скобка 16"/>
          <p:cNvSpPr/>
          <p:nvPr/>
        </p:nvSpPr>
        <p:spPr>
          <a:xfrm>
            <a:off x="3357720" y="4572000"/>
            <a:ext cx="285480" cy="714240"/>
          </a:xfrm>
          <a:custGeom>
            <a:avLst/>
            <a:gdLst>
              <a:gd name="textAreaLeft" fmla="*/ 0 w 285480"/>
              <a:gd name="textAreaRight" fmla="*/ 200160 w 285480"/>
              <a:gd name="textAreaTop" fmla="*/ 11880 h 714240"/>
              <a:gd name="textAreaBottom" fmla="*/ 702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0"/>
                  <a:pt x="21600" y="720"/>
                </a:cubicBezTo>
                <a:lnTo>
                  <a:pt x="21600" y="20880"/>
                </a:lnTo>
                <a:cubicBezTo>
                  <a:pt x="21600" y="2124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E:\Documents and Settings\Admin\Local Settings\Temporary Internet Files\Content.IE5\OLE7SPER\MC900442036[1].wmf"/>
          <p:cNvPicPr/>
          <p:nvPr/>
        </p:nvPicPr>
        <p:blipFill>
          <a:blip r:embed="rId1"/>
          <a:stretch/>
        </p:blipFill>
        <p:spPr>
          <a:xfrm>
            <a:off x="7072200" y="4786200"/>
            <a:ext cx="185760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сегда твёрд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арные :   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Ж  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звон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Ш  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глух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14240" y="214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Итог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Звуки    </a:t>
            </a: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Ж    Ш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Левая круглая скобка 7"/>
          <p:cNvSpPr/>
          <p:nvPr/>
        </p:nvSpPr>
        <p:spPr>
          <a:xfrm>
            <a:off x="4500720" y="135720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авая круглая скобка 8"/>
          <p:cNvSpPr/>
          <p:nvPr/>
        </p:nvSpPr>
        <p:spPr>
          <a:xfrm>
            <a:off x="5214960" y="1357200"/>
            <a:ext cx="285840" cy="85572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855720"/>
              <a:gd name="textAreaBottom" fmla="*/ 8438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1"/>
                  <a:pt x="21600" y="601"/>
                </a:cubicBezTo>
                <a:lnTo>
                  <a:pt x="21600" y="20999"/>
                </a:lnTo>
                <a:cubicBezTo>
                  <a:pt x="21600" y="2130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Левая круглая скобка 9"/>
          <p:cNvSpPr/>
          <p:nvPr/>
        </p:nvSpPr>
        <p:spPr>
          <a:xfrm>
            <a:off x="6072120" y="1357200"/>
            <a:ext cx="357120" cy="85752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520"/>
              <a:gd name="textAreaBottom" fmla="*/ 84276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авая круглая скобка 10"/>
          <p:cNvSpPr/>
          <p:nvPr/>
        </p:nvSpPr>
        <p:spPr>
          <a:xfrm>
            <a:off x="6643800" y="1357200"/>
            <a:ext cx="357120" cy="85572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855720"/>
              <a:gd name="textAreaBottom" fmla="*/ 8409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6"/>
                  <a:pt x="21600" y="751"/>
                </a:cubicBezTo>
                <a:lnTo>
                  <a:pt x="21600" y="20849"/>
                </a:lnTo>
                <a:cubicBezTo>
                  <a:pt x="21600" y="2122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Левая круглая скобка 11"/>
          <p:cNvSpPr/>
          <p:nvPr/>
        </p:nvSpPr>
        <p:spPr>
          <a:xfrm>
            <a:off x="3286080" y="4357800"/>
            <a:ext cx="285840" cy="50004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500040"/>
              <a:gd name="textAreaBottom" fmla="*/ 48816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14"/>
                  <a:pt x="0" y="1027"/>
                </a:cubicBezTo>
                <a:lnTo>
                  <a:pt x="0" y="20573"/>
                </a:lnTo>
                <a:cubicBezTo>
                  <a:pt x="0" y="21087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авая круглая скобка 12"/>
          <p:cNvSpPr/>
          <p:nvPr/>
        </p:nvSpPr>
        <p:spPr>
          <a:xfrm>
            <a:off x="3714840" y="4357800"/>
            <a:ext cx="285840" cy="50004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500040"/>
              <a:gd name="textAreaBottom" fmla="*/ 48816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5"/>
                  <a:pt x="21600" y="1029"/>
                </a:cubicBezTo>
                <a:lnTo>
                  <a:pt x="21600" y="20571"/>
                </a:lnTo>
                <a:cubicBezTo>
                  <a:pt x="21600" y="2108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Левая круглая скобка 13"/>
          <p:cNvSpPr/>
          <p:nvPr/>
        </p:nvSpPr>
        <p:spPr>
          <a:xfrm>
            <a:off x="3286080" y="5500800"/>
            <a:ext cx="285840" cy="57312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573120"/>
              <a:gd name="textAreaBottom" fmla="*/ 561240 h 57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0"/>
                  <a:pt x="0" y="899"/>
                </a:cubicBezTo>
                <a:lnTo>
                  <a:pt x="0" y="20701"/>
                </a:lnTo>
                <a:cubicBezTo>
                  <a:pt x="0" y="21151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авая круглая скобка 14"/>
          <p:cNvSpPr/>
          <p:nvPr/>
        </p:nvSpPr>
        <p:spPr>
          <a:xfrm>
            <a:off x="3714840" y="5500800"/>
            <a:ext cx="285840" cy="57132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571320"/>
              <a:gd name="textAreaBottom" fmla="*/ 55944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0"/>
                  <a:pt x="21600" y="900"/>
                </a:cubicBezTo>
                <a:lnTo>
                  <a:pt x="21600" y="20700"/>
                </a:lnTo>
                <a:cubicBezTo>
                  <a:pt x="21600" y="2115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E:\Documents and Settings\Admin\Local Settings\Temporary Internet Files\Content.IE5\OLE7SPER\MC900442036[1].wmf"/>
          <p:cNvPicPr/>
          <p:nvPr/>
        </p:nvPicPr>
        <p:blipFill>
          <a:blip r:embed="rId1"/>
          <a:stretch/>
        </p:blipFill>
        <p:spPr>
          <a:xfrm>
            <a:off x="7072200" y="4786200"/>
            <a:ext cx="185760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6000" spc="-1" strike="noStrike">
                <a:solidFill>
                  <a:srgbClr val="080808"/>
                </a:solidFill>
                <a:latin typeface="Tahoma"/>
              </a:rPr>
              <a:t>Спасибо за работу!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8" descr="E:\Documents and Settings\Admin\Local Settings\Temporary Internet Files\Content.IE5\O9EZWPAR\MC900442026[1].wmf"/>
          <p:cNvPicPr/>
          <p:nvPr/>
        </p:nvPicPr>
        <p:blipFill>
          <a:blip r:embed="rId1"/>
          <a:stretch/>
        </p:blipFill>
        <p:spPr>
          <a:xfrm>
            <a:off x="5286240" y="3214800"/>
            <a:ext cx="29289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ставьте нужную букву</a:t>
            </a:r>
            <a:br>
              <a:rPr sz="1000"/>
            </a:br>
            <a:br>
              <a:rPr sz="3200"/>
            </a:b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БА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Ё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ГРУ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</a:t>
            </a:r>
            <a:br>
              <a:rPr sz="8000"/>
            </a:b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11500" spc="-1" strike="noStrike" baseline="-10000">
                <a:solidFill>
                  <a:srgbClr val="080808"/>
                </a:solidFill>
                <a:latin typeface="Tahoma"/>
              </a:rPr>
              <a:t>*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ЛЯП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" name="Picture 4" descr="E:\Documents and Settings\Admin\Local Settings\Temporary Internet Files\Content.IE5\O9EZWPAR\MC900434389[1].wmf"/>
          <p:cNvPicPr/>
          <p:nvPr/>
        </p:nvPicPr>
        <p:blipFill>
          <a:blip r:embed="rId1"/>
          <a:stretch/>
        </p:blipFill>
        <p:spPr>
          <a:xfrm>
            <a:off x="7572240" y="4572000"/>
            <a:ext cx="120672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БА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Ё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1" lang="ru-RU" sz="9600" spc="-1" strike="noStrike" baseline="-10000">
                <a:solidFill>
                  <a:srgbClr val="080808"/>
                </a:solidFill>
                <a:latin typeface="Tahoma"/>
              </a:rPr>
              <a:t> </a:t>
            </a:r>
            <a:br>
              <a:rPr sz="8000"/>
            </a:b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ГРУ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А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Ш</a:t>
            </a:r>
            <a:r>
              <a:rPr b="1" lang="ru-RU" sz="8000" spc="-1" strike="noStrike">
                <a:solidFill>
                  <a:srgbClr val="080808"/>
                </a:solidFill>
                <a:latin typeface="Tahoma"/>
              </a:rPr>
              <a:t>ЛЯП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" name="Picture 3" descr="E:\Documents and Settings\Admin\Local Settings\Temporary Internet Files\Content.IE5\O9EZWPAR\MC900433817[1].png"/>
          <p:cNvPicPr/>
          <p:nvPr/>
        </p:nvPicPr>
        <p:blipFill>
          <a:blip r:embed="rId1"/>
          <a:stretch/>
        </p:blipFill>
        <p:spPr>
          <a:xfrm>
            <a:off x="7215120" y="4857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Тема уро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Зву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Ж</a:t>
            </a: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0070c0"/>
                </a:solidFill>
                <a:latin typeface="Tahoma"/>
              </a:rPr>
              <a:t>Ш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Левая круглая скобка 5"/>
          <p:cNvSpPr/>
          <p:nvPr/>
        </p:nvSpPr>
        <p:spPr>
          <a:xfrm>
            <a:off x="3429000" y="3714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авая круглая скобка 6"/>
          <p:cNvSpPr/>
          <p:nvPr/>
        </p:nvSpPr>
        <p:spPr>
          <a:xfrm>
            <a:off x="4143240" y="3714840"/>
            <a:ext cx="228600" cy="785880"/>
          </a:xfrm>
          <a:custGeom>
            <a:avLst/>
            <a:gdLst>
              <a:gd name="textAreaLeft" fmla="*/ 0 w 228600"/>
              <a:gd name="textAreaRight" fmla="*/ 160560 w 228600"/>
              <a:gd name="textAreaTop" fmla="*/ 9360 h 785880"/>
              <a:gd name="textAreaBottom" fmla="*/ 776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2"/>
                  <a:pt x="21600" y="524"/>
                </a:cubicBezTo>
                <a:lnTo>
                  <a:pt x="21600" y="21076"/>
                </a:lnTo>
                <a:cubicBezTo>
                  <a:pt x="21600" y="2133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Левая круглая скобка 7"/>
          <p:cNvSpPr/>
          <p:nvPr/>
        </p:nvSpPr>
        <p:spPr>
          <a:xfrm>
            <a:off x="4786200" y="3714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авая круглая скобка 8"/>
          <p:cNvSpPr/>
          <p:nvPr/>
        </p:nvSpPr>
        <p:spPr>
          <a:xfrm>
            <a:off x="5357880" y="3714840"/>
            <a:ext cx="299880" cy="785880"/>
          </a:xfrm>
          <a:custGeom>
            <a:avLst/>
            <a:gdLst>
              <a:gd name="textAreaLeft" fmla="*/ 0 w 299880"/>
              <a:gd name="textAreaRight" fmla="*/ 210240 w 299880"/>
              <a:gd name="textAreaTop" fmla="*/ 12240 h 785880"/>
              <a:gd name="textAreaBottom" fmla="*/ 7736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44"/>
                  <a:pt x="21600" y="688"/>
                </a:cubicBezTo>
                <a:lnTo>
                  <a:pt x="21600" y="20912"/>
                </a:lnTo>
                <a:cubicBezTo>
                  <a:pt x="21600" y="21256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2" descr="E:\Documents and Settings\Admin\Local Settings\Temporary Internet Files\Content.IE5\TDIVGL6V\MC900437797[1].wmf"/>
          <p:cNvPicPr/>
          <p:nvPr/>
        </p:nvPicPr>
        <p:blipFill>
          <a:blip r:embed="rId1"/>
          <a:stretch/>
        </p:blipFill>
        <p:spPr>
          <a:xfrm>
            <a:off x="7000920" y="478620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Цель уро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Знать особенности звуко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Ж</a:t>
            </a:r>
            <a:r>
              <a:rPr b="1" lang="ru-RU" sz="4400" spc="-1" strike="noStrike">
                <a:solidFill>
                  <a:srgbClr val="080808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</a:rPr>
              <a:t>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Левая круглая скобка 5"/>
          <p:cNvSpPr/>
          <p:nvPr/>
        </p:nvSpPr>
        <p:spPr>
          <a:xfrm>
            <a:off x="3357720" y="3714840"/>
            <a:ext cx="285480" cy="78588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авая круглая скобка 6"/>
          <p:cNvSpPr/>
          <p:nvPr/>
        </p:nvSpPr>
        <p:spPr>
          <a:xfrm>
            <a:off x="4143240" y="3714840"/>
            <a:ext cx="228600" cy="785880"/>
          </a:xfrm>
          <a:custGeom>
            <a:avLst/>
            <a:gdLst>
              <a:gd name="textAreaLeft" fmla="*/ 0 w 228600"/>
              <a:gd name="textAreaRight" fmla="*/ 160560 w 228600"/>
              <a:gd name="textAreaTop" fmla="*/ 9360 h 785880"/>
              <a:gd name="textAreaBottom" fmla="*/ 776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2"/>
                  <a:pt x="21600" y="524"/>
                </a:cubicBezTo>
                <a:lnTo>
                  <a:pt x="21600" y="21076"/>
                </a:lnTo>
                <a:cubicBezTo>
                  <a:pt x="21600" y="2133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Левая круглая скобка 10"/>
          <p:cNvSpPr/>
          <p:nvPr/>
        </p:nvSpPr>
        <p:spPr>
          <a:xfrm>
            <a:off x="4786200" y="3714840"/>
            <a:ext cx="285840" cy="78588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785880"/>
              <a:gd name="textAreaBottom" fmla="*/ 77400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27"/>
                  <a:pt x="0" y="654"/>
                </a:cubicBezTo>
                <a:lnTo>
                  <a:pt x="0" y="20946"/>
                </a:lnTo>
                <a:cubicBezTo>
                  <a:pt x="0" y="21273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Правая круглая скобка 11"/>
          <p:cNvSpPr/>
          <p:nvPr/>
        </p:nvSpPr>
        <p:spPr>
          <a:xfrm>
            <a:off x="5572080" y="3714840"/>
            <a:ext cx="228600" cy="785880"/>
          </a:xfrm>
          <a:custGeom>
            <a:avLst/>
            <a:gdLst>
              <a:gd name="textAreaLeft" fmla="*/ 0 w 228600"/>
              <a:gd name="textAreaRight" fmla="*/ 160560 w 228600"/>
              <a:gd name="textAreaTop" fmla="*/ 9360 h 785880"/>
              <a:gd name="textAreaBottom" fmla="*/ 776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2"/>
                  <a:pt x="21600" y="524"/>
                </a:cubicBezTo>
                <a:lnTo>
                  <a:pt x="21600" y="21076"/>
                </a:lnTo>
                <a:cubicBezTo>
                  <a:pt x="21600" y="2133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E:\Documents and Settings\Admin\Local Settings\Temporary Internet Files\Content.IE5\OLE7SPER\MC900434391[1].wmf"/>
          <p:cNvPicPr/>
          <p:nvPr/>
        </p:nvPicPr>
        <p:blipFill>
          <a:blip r:embed="rId1"/>
          <a:stretch/>
        </p:blipFill>
        <p:spPr>
          <a:xfrm>
            <a:off x="6929280" y="4643280"/>
            <a:ext cx="188604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План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28520"/>
            <a:ext cx="91440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Научиться читать с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полнять звуко-буквенный анализ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Научиться читать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Научиться читать тек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E:\Documents and Settings\Admin\Local Settings\Temporary Internet Files\Content.IE5\01EFG567\MC900440428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37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Прочитай слог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80808"/>
                </a:solidFill>
                <a:latin typeface="Tahoma"/>
              </a:rPr>
              <a:t>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8080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E:\Documents and Settings\Admin\Local Settings\Temporary Internet Files\Content.IE5\TDIVGL6V\MC900440450[1].wmf"/>
          <p:cNvPicPr/>
          <p:nvPr/>
        </p:nvPicPr>
        <p:blipFill>
          <a:blip r:embed="rId1"/>
          <a:stretch/>
        </p:blipFill>
        <p:spPr>
          <a:xfrm>
            <a:off x="3929040" y="5143680"/>
            <a:ext cx="1828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00720" y="2214720"/>
          <a:ext cx="857160" cy="78552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23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Звуки</a:t>
            </a:r>
            <a:br>
              <a:rPr sz="5400"/>
            </a:br>
            <a:br>
              <a:rPr sz="5400"/>
            </a:br>
            <a:r>
              <a:rPr b="1" lang="ru-RU" sz="6600" spc="-1" strike="noStrike">
                <a:solidFill>
                  <a:srgbClr val="0070c0"/>
                </a:solidFill>
                <a:latin typeface="Tahoma"/>
              </a:rPr>
              <a:t>Ж    Ш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3143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всегда твёрды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Левая круглая скобка 9"/>
          <p:cNvSpPr/>
          <p:nvPr/>
        </p:nvSpPr>
        <p:spPr>
          <a:xfrm>
            <a:off x="3071880" y="2714760"/>
            <a:ext cx="357120" cy="85716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160"/>
              <a:gd name="textAreaBottom" fmla="*/ 84240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Правая круглая скобка 10"/>
          <p:cNvSpPr/>
          <p:nvPr/>
        </p:nvSpPr>
        <p:spPr>
          <a:xfrm>
            <a:off x="3786120" y="2714760"/>
            <a:ext cx="285840" cy="855360"/>
          </a:xfrm>
          <a:custGeom>
            <a:avLst/>
            <a:gdLst>
              <a:gd name="textAreaLeft" fmla="*/ 0 w 285840"/>
              <a:gd name="textAreaRight" fmla="*/ 200520 w 285840"/>
              <a:gd name="textAreaTop" fmla="*/ 11880 h 855360"/>
              <a:gd name="textAreaBottom" fmla="*/ 843480 h 85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1"/>
                  <a:pt x="21600" y="601"/>
                </a:cubicBezTo>
                <a:lnTo>
                  <a:pt x="21600" y="20999"/>
                </a:lnTo>
                <a:cubicBezTo>
                  <a:pt x="21600" y="2130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Левая круглая скобка 11"/>
          <p:cNvSpPr/>
          <p:nvPr/>
        </p:nvSpPr>
        <p:spPr>
          <a:xfrm>
            <a:off x="4857840" y="2714760"/>
            <a:ext cx="357120" cy="85716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857160"/>
              <a:gd name="textAreaBottom" fmla="*/ 84240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5"/>
                  <a:pt x="0" y="750"/>
                </a:cubicBezTo>
                <a:lnTo>
                  <a:pt x="0" y="20850"/>
                </a:lnTo>
                <a:cubicBezTo>
                  <a:pt x="0" y="21225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Правая круглая скобка 12"/>
          <p:cNvSpPr/>
          <p:nvPr/>
        </p:nvSpPr>
        <p:spPr>
          <a:xfrm>
            <a:off x="5643720" y="2714760"/>
            <a:ext cx="357120" cy="85536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855360"/>
              <a:gd name="textAreaBottom" fmla="*/ 840600 h 85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6"/>
                  <a:pt x="21600" y="751"/>
                </a:cubicBezTo>
                <a:lnTo>
                  <a:pt x="21600" y="20849"/>
                </a:lnTo>
                <a:cubicBezTo>
                  <a:pt x="21600" y="21225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6" descr="E:\Documents and Settings\Admin\Local Settings\Temporary Internet Files\Content.IE5\O9EZWPAR\MC900437557[1].wmf"/>
          <p:cNvPicPr/>
          <p:nvPr/>
        </p:nvPicPr>
        <p:blipFill>
          <a:blip r:embed="rId1"/>
          <a:stretch/>
        </p:blipFill>
        <p:spPr>
          <a:xfrm>
            <a:off x="7000920" y="357120"/>
            <a:ext cx="1879560" cy="17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808"/>
                </a:solidFill>
                <a:latin typeface="Tahoma"/>
              </a:rPr>
              <a:t>Прочитайте слог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ш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E:\Documents and Settings\Admin\Local Settings\Temporary Internet Files\Content.IE5\TDIVGL6V\MC900440450[1].wmf"/>
          <p:cNvPicPr/>
          <p:nvPr/>
        </p:nvPicPr>
        <p:blipFill>
          <a:blip r:embed="rId1"/>
          <a:stretch/>
        </p:blipFill>
        <p:spPr>
          <a:xfrm>
            <a:off x="3929040" y="5143680"/>
            <a:ext cx="1828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5:59:35Z</dcterms:created>
  <dc:creator>мама</dc:creator>
  <dc:description/>
  <dc:language>en-US</dc:language>
  <cp:lastModifiedBy>Пудовкин</cp:lastModifiedBy>
  <dcterms:modified xsi:type="dcterms:W3CDTF">2012-12-23T16:33:21Z</dcterms:modified>
  <cp:revision>10</cp:revision>
  <dc:subject/>
  <dc:title>*аба ё* гру*а *ляпа</dc:title>
</cp:coreProperties>
</file>