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4DABA-443F-41F4-9525-A4EFEF780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E6F47-6B39-4674-B9E7-7A9E1A244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A687D-5200-49C8-9DCB-D85303032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BAF1C-8748-4AA1-B99D-CB6B6F3B2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1DEC3-B460-4D68-AE8F-3CDA786CF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8BA12-803C-41D0-A053-912C90808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C2837-49A4-43E2-8D34-127026E6C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C600A-061B-438F-94C5-3C60BE7F2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7B1C1-BDDC-480F-8ED0-C50274CA9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41558-2827-4876-B91D-CECA2E7EB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AB661-E596-4112-9BBB-C42E30632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822D3-112E-40E8-9E44-33FB12690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39B18-2AF3-47A0-B27B-43FFD007302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Правописание согласных и гласных в приставках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ставки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-, вы-, до-, за-, к-, над-, о-. Об-, от-, пере-, по-, под-, с-, у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сегда пишутся одинаково. </a:t>
            </a: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Например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ить –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исать,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рисовать –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носить,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итать –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е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Если приставка заканчивается, а корень начинается на эту же букву, то в слове пишется удвоенная согласная: по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д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ерж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Если приставка заканчивается на согласный, а корень слова начинается двумя согласными, то между ними часто вставляется буква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О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обозначить, предоставить, отодвину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сегда одинаково пишутся приставки иноязычного происхождения: а- (апробировать), без- (дезинформация), архи- ( архиопасный), анти- (антинаучный), дис- ( диспропорция), ин- (инсценировка), контр- ( контрразведка). Ре- ( регресс), суб- ( субтропический), экс- (экспортный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приставках раз-рас, роз-рос- под ударением пишется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О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без ударения –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: разыскать - розыск, разыграть- розыгрыш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ставка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пр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пишется, если слово указывает на давность чего-нибудь, то есть имеет временное значение: прародина, прадедушка, правнук, прабабушка. В остальных случаях пишется приставка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про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,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пример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: проскользнуть, проткнуть, прогреметь, прослуш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7T15:38:16Z</dcterms:created>
  <dc:creator>Admin</dc:creator>
  <dc:description/>
  <dc:language>en-US</dc:language>
  <cp:lastModifiedBy>Admin</cp:lastModifiedBy>
  <dcterms:modified xsi:type="dcterms:W3CDTF">2012-11-27T15:39:59Z</dcterms:modified>
  <cp:revision>3</cp:revision>
  <dc:subject/>
  <dc:title>Правописание согласных и гласных в приставках.</dc:title>
</cp:coreProperties>
</file>