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406-DCA6-48AD-9CD7-76220AD8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205-5E32-434A-80F7-68F4230A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B07-C09E-4717-9A86-1C178F84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24E-3104-45B6-B0FD-B7CB73F4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257-CABA-4ED0-87CF-5B91A57F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CEB-D9D4-4FE4-A903-BAD20027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7E7-93D5-490C-ACE2-0852144D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479-E110-4621-AF39-71D9DDE9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6DC-A681-4A2B-9019-4E02163F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335-6878-4361-9723-8CF14B1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2BE-6228-4267-AA71-B1EB5D0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2E9-3F61-42EC-B0C8-1F64749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687-54BD-4628-841A-665ACA0B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иколай Михайлович Рубц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36-19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3768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6092640"/>
            <a:ext cx="8362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амятник Рубцову в Воло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-172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68000" y="5950080"/>
            <a:ext cx="7272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Коля Рубцов с воспитателями детско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ребятами и воспитателем (Рубцов второй спра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11640" y="0"/>
            <a:ext cx="2663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жба на фл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28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1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5589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нчен литературный институт им. Горького. Вручение дипл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17808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пустил четыре сборника стихов: «Лирика», «Звезда полей», «Душа хранит», «Сосен ш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8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1:47:17Z</dcterms:created>
  <dc:creator>1234</dc:creator>
  <dc:description/>
  <dc:language>en-US</dc:language>
  <cp:lastModifiedBy>1234</cp:lastModifiedBy>
  <dcterms:modified xsi:type="dcterms:W3CDTF">2008-02-01T13:02:07Z</dcterms:modified>
  <cp:revision>4</cp:revision>
  <dc:subject/>
  <dc:title>Слайд 1</dc:title>
</cp:coreProperties>
</file>