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png" ContentType="image/png"/>
  <Override PartName="/ppt/media/image2.wmf" ContentType="image/x-wmf"/>
  <Override PartName="/ppt/media/image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2" end="4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74A-6EEC-43DC-9B1C-49F4513E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601-3032-48EB-B4D9-4D9DF917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F8B-60AC-4DBB-B3B2-5AC797E6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5C1-CD86-44CD-AAE6-28B0A361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132F-1781-40D0-9311-58A91564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E906-405F-4F25-93AD-0F3BF372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44CB-1861-47A6-A6C4-B25572E2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3B8E-B166-4C13-85B8-C297957D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A267-8923-4F44-9C23-C080BD3A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712A-E5C5-4831-A693-CE4F793B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AD11-FBBF-4FBF-B5D4-FE30F51F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FFF-4550-4420-82B9-F4D33B2F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ED13-4FEE-46F4-88E7-D70ADBD6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28E9-8D8D-44BB-AC8D-8393A757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DF5D-9B85-4A72-A009-C98C3C94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4897-A28C-478D-B704-2F869363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FB51-3174-4B86-9891-8F6D1CFA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397-45DC-4C28-84E6-D72CE035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C92-3B05-4F4C-B1AA-4AD1F663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EB4-C5C1-42EF-AB4E-67AC7C51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350-C2CF-4C9B-B302-433573EC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507-2DF9-4C3C-83E1-DE9A942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19D-63A0-4856-9A80-34F14A3C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25E-A89A-4151-8A33-EAD85B5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64a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6364a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183"/>
                </a:gs>
                <a:gs pos="100000">
                  <a:srgbClr val="6364a1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6ab"/>
                </a:gs>
                <a:gs pos="100000">
                  <a:srgbClr val="6364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7576ab"/>
                </a:gs>
                <a:gs pos="100000">
                  <a:srgbClr val="6364a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183"/>
                </a:gs>
                <a:gs pos="100000">
                  <a:srgbClr val="6364a1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6ab"/>
                </a:gs>
                <a:gs pos="100000">
                  <a:srgbClr val="6364a1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38F7-306D-479B-AA4A-CFA9EAE4E172}" type="slidenum"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86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b86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b86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6364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64a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183"/>
                </a:gs>
                <a:gs pos="100000">
                  <a:srgbClr val="6364a1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183"/>
                </a:gs>
                <a:gs pos="100000">
                  <a:srgbClr val="6364a1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6ab"/>
                </a:gs>
                <a:gs pos="100000">
                  <a:srgbClr val="6364a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6ab"/>
                </a:gs>
                <a:gs pos="100000">
                  <a:srgbClr val="6364a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AAC9-C124-4989-BA1C-3A401B8A459C}" type="slidenum"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b86d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b86d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9683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ffff"/>
                </a:solidFill>
                <a:uFillTx/>
                <a:latin typeface="Ariac"/>
              </a:rPr>
              <a:t>F5 – </a:t>
            </a:r>
            <a:r>
              <a:rPr b="0" lang="ru-RU" sz="8000" spc="-1" strike="noStrike" u="sng">
                <a:solidFill>
                  <a:srgbClr val="ffffff"/>
                </a:solidFill>
                <a:uFillTx/>
                <a:latin typeface="Ariac"/>
              </a:rPr>
              <a:t>для просмотра</a:t>
            </a:r>
            <a:endParaRPr b="1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2276640"/>
            <a:ext cx="29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352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9ccff"/>
                </a:solidFill>
                <a:uFillTx/>
                <a:latin typeface="Georgia"/>
              </a:rPr>
              <a:t>Виды колебаний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Затухающие колебания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– это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олебания, амплитуда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оторых, под действием сил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трения или сопротивления,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со временем уменьшается,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и через некоторый промежуток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времени становится равной 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т.е. тело останавливается в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точке равновесия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6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6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1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Незатухающие колебания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– это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 колебания, амплитуда которых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 со временем не изменяется,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 силы трения, сопротивления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 отсутствуют. 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Виды колебаний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370836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График незатухающих колебаний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4149360"/>
            <a:ext cx="392724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График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затухающих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колебаний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780000" y="49320"/>
          <a:ext cx="7456320" cy="68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9320"/>
                    <a:ext cx="7456320" cy="68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Виды колебаний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8385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Виды</a:t>
            </a:r>
            <a:r>
              <a:rPr b="1" i="1" lang="en-US" sz="48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колебаний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71640" y="1989000"/>
            <a:ext cx="8006040" cy="4189680"/>
            <a:chOff x="971640" y="1989000"/>
            <a:chExt cx="8006040" cy="4189680"/>
          </a:xfrm>
        </p:grpSpPr>
        <p:cxnSp>
          <p:nvCxnSpPr>
            <p:cNvPr id="141" name="_s79878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632560" y="3004920"/>
              <a:ext cx="838440" cy="215640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99ccff"/>
              </a:solidFill>
              <a:miter/>
            </a:ln>
          </p:spPr>
        </p:cxnSp>
        <p:cxnSp>
          <p:nvCxnSpPr>
            <p:cNvPr id="144" name="_s79879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3477600" y="3005640"/>
              <a:ext cx="838440" cy="215568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99ccff"/>
              </a:solidFill>
              <a:miter/>
            </a:ln>
          </p:spPr>
        </p:cxnSp>
        <p:sp>
          <p:nvSpPr>
            <p:cNvPr id="143" name="_s79880"/>
            <p:cNvSpPr/>
            <p:nvPr/>
          </p:nvSpPr>
          <p:spPr>
            <a:xfrm>
              <a:off x="3126600" y="1989000"/>
              <a:ext cx="3695040" cy="167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 u="sng">
                  <a:solidFill>
                    <a:srgbClr val="99ccff"/>
                  </a:solidFill>
                  <a:uFillTx/>
                  <a:latin typeface="Georgia"/>
                </a:rPr>
                <a:t>Колебания</a:t>
              </a:r>
              <a:endParaRPr b="0" lang="en-US" sz="4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5" name="_s79881"/>
            <p:cNvSpPr/>
            <p:nvPr/>
          </p:nvSpPr>
          <p:spPr>
            <a:xfrm>
              <a:off x="971640" y="4502880"/>
              <a:ext cx="3695040" cy="167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9ccff"/>
                  </a:solidFill>
                  <a:latin typeface="Georgia"/>
                </a:rPr>
                <a:t>Свободные</a:t>
              </a:r>
              <a:r>
                <a:rPr b="1" i="1" lang="en-US" sz="4000" spc="-1" strike="noStrike">
                  <a:solidFill>
                    <a:srgbClr val="99ccff"/>
                  </a:solidFill>
                  <a:latin typeface="Georgia"/>
                </a:rPr>
                <a:t> 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2" name="_s79882"/>
            <p:cNvSpPr/>
            <p:nvPr/>
          </p:nvSpPr>
          <p:spPr>
            <a:xfrm>
              <a:off x="5282640" y="4502880"/>
              <a:ext cx="3695040" cy="167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9ccff"/>
                  </a:solidFill>
                  <a:latin typeface="Georgia"/>
                </a:rPr>
                <a:t>Вынужденные</a:t>
              </a:r>
              <a:endParaRPr b="0" lang="en-US" sz="36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1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02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Виды колебаний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352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Georgia"/>
              </a:rPr>
              <a:t>Свободные колебания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колебания, происходящие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под действием внутренних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сил в колебательной системе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за счёт первоначального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запаса энергии.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Georgia"/>
              </a:rPr>
              <a:t>Вынужденные колебания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колебания, происходящие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под воздействием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внешних сил, периодически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изменяющихся с течением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времени.   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7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2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7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4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7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2" dur="1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7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Нитяной и пружинный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                    маятники    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30040" y="1303200"/>
          <a:ext cx="8858520" cy="56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303200"/>
                    <a:ext cx="8858520" cy="56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603360"/>
            <a:ext cx="6156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1) Формула 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периода колебания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пружинного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маятника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30560" y="1197000"/>
          <a:ext cx="938196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197000"/>
                    <a:ext cx="938196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5865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2) Формула 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периода колебания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математического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маятника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72520" y="1937160"/>
            <a:ext cx="5027400" cy="2466000"/>
            <a:chOff x="2072520" y="1937160"/>
            <a:chExt cx="5027400" cy="2466000"/>
          </a:xfrm>
        </p:grpSpPr>
        <p:sp>
          <p:nvSpPr>
            <p:cNvPr id="157" name=""/>
            <p:cNvSpPr/>
            <p:nvPr/>
          </p:nvSpPr>
          <p:spPr>
            <a:xfrm>
              <a:off x="2263320" y="3211920"/>
              <a:ext cx="4836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ffffff"/>
                  </a:solidFill>
                  <a:latin typeface="Georgia"/>
                  <a:ea typeface="Times New Roman"/>
                </a:rPr>
                <a:t>T=2π      g  </a:t>
              </a:r>
              <a:endParaRPr b="0" lang="en-US" sz="7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48360" y="2421000"/>
              <a:ext cx="685800" cy="1828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32360" y="3573360"/>
              <a:ext cx="216000" cy="64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3573360"/>
              <a:ext cx="289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96000" y="2421000"/>
              <a:ext cx="1028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24360" y="3500280"/>
              <a:ext cx="1143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72520" y="1937160"/>
              <a:ext cx="4783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ffffff"/>
                  </a:solidFill>
                  <a:latin typeface="Georgia"/>
                  <a:ea typeface="Times New Roman"/>
                </a:rPr>
                <a:t>                 </a:t>
              </a:r>
              <a:r>
                <a:rPr b="1" i="1" lang="en-US" sz="7200" spc="-1" strike="noStrike">
                  <a:solidFill>
                    <a:srgbClr val="ffffff"/>
                  </a:solidFill>
                  <a:latin typeface="Georgia"/>
                  <a:ea typeface="Times New Roman"/>
                </a:rPr>
                <a:t>l </a:t>
              </a:r>
              <a:endParaRPr b="0" lang="en-US" sz="7200" spc="-1" strike="noStrike">
                <a:solidFill>
                  <a:srgbClr val="99cc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1122600">
            <a:off x="250200" y="2565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1" i="1" lang="en-US" sz="5400" spc="-1" strike="noStrike">
                <a:solidFill>
                  <a:srgbClr val="ffffff"/>
                </a:solidFill>
                <a:latin typeface="Georgia"/>
              </a:rPr>
              <a:t>Резонанс</a:t>
            </a:r>
            <a:endParaRPr b="0" lang="en-US" sz="5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84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eorgia"/>
              </a:rPr>
              <a:t>            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Резонанс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– это резкое возрастание       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амплитуды вынужденных    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колебаний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Резонанс возникает только в том случае, когда частота собственных колебаний совпадает с частотой вынуждающей силы.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780000" y="3108240"/>
          <a:ext cx="7297560" cy="46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108240"/>
                    <a:ext cx="729756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2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32000" y="-12960"/>
            <a:ext cx="27352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620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резентация по физик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ем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Механические колебания и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волны»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5734080"/>
            <a:ext cx="3633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анкт- Петербург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2010</a:t>
            </a:r>
            <a:br>
              <a:rPr sz="2400"/>
            </a:b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429000"/>
            <a:ext cx="4753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ыполнила:</a:t>
            </a:r>
            <a:br>
              <a:rPr sz="20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ученица 9 а класса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Пейович Диана</a:t>
            </a:r>
            <a:br>
              <a:rPr sz="28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уководитель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физик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решкова Татьян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вановна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rot="1122600">
            <a:off x="250200" y="2707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Механические волны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92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99ccff"/>
                </a:solidFill>
                <a:uFillTx/>
                <a:latin typeface="Georgia"/>
              </a:rPr>
              <a:t>Механические волны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1700280"/>
            <a:ext cx="914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Механические волны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– процесс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распространения механических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колебаний в различных средах –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в твёрдых, жидких и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газообразных телах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9236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Виды механических</a:t>
            </a:r>
            <a:br>
              <a:rPr sz="4400"/>
            </a:br>
            <a:r>
              <a:rPr b="1" i="1" lang="en-US" sz="4400" spc="-1" strike="noStrike">
                <a:solidFill>
                  <a:srgbClr val="99ccff"/>
                </a:solidFill>
                <a:latin typeface="Georgia"/>
              </a:rPr>
              <a:t>             </a:t>
            </a: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волн 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042920" y="2060640"/>
            <a:ext cx="7801560" cy="4394160"/>
            <a:chOff x="1042920" y="2060640"/>
            <a:chExt cx="7801560" cy="4394160"/>
          </a:xfrm>
        </p:grpSpPr>
        <p:cxnSp>
          <p:nvCxnSpPr>
            <p:cNvPr id="174" name="_s148487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5553720" y="3206160"/>
              <a:ext cx="879480" cy="2101680"/>
            </a:xfrm>
            <a:prstGeom prst="bentConnector3">
              <a:avLst>
                <a:gd name="adj1" fmla="val 13595"/>
              </a:avLst>
            </a:prstGeom>
            <a:ln w="28440">
              <a:solidFill>
                <a:srgbClr val="99ccff"/>
              </a:solidFill>
              <a:miter/>
            </a:ln>
          </p:spPr>
        </p:cxnSp>
        <p:cxnSp>
          <p:nvCxnSpPr>
            <p:cNvPr id="177" name="_s148488"/>
            <p:cNvCxnSpPr>
              <a:stCxn id="178" idx="0"/>
              <a:endCxn id="176" idx="2"/>
            </p:cNvCxnSpPr>
            <p:nvPr/>
          </p:nvCxnSpPr>
          <p:spPr>
            <a:xfrm flipH="1" flipV="1" rot="5400000">
              <a:off x="3453480" y="3206880"/>
              <a:ext cx="879480" cy="2100600"/>
            </a:xfrm>
            <a:prstGeom prst="bentConnector3">
              <a:avLst>
                <a:gd name="adj1" fmla="val 13595"/>
              </a:avLst>
            </a:prstGeom>
            <a:ln w="28440">
              <a:solidFill>
                <a:srgbClr val="99ccff"/>
              </a:solidFill>
              <a:miter/>
            </a:ln>
          </p:spPr>
        </p:cxnSp>
        <p:sp>
          <p:nvSpPr>
            <p:cNvPr id="176" name="_s148489"/>
            <p:cNvSpPr/>
            <p:nvPr/>
          </p:nvSpPr>
          <p:spPr>
            <a:xfrm>
              <a:off x="3142800" y="2060640"/>
              <a:ext cx="3600720" cy="175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600" spc="-1" strike="noStrike" u="sng">
                  <a:solidFill>
                    <a:srgbClr val="99ccff"/>
                  </a:solidFill>
                  <a:uFillTx/>
                  <a:latin typeface="Georgia"/>
                </a:rPr>
                <a:t>Волны</a:t>
              </a:r>
              <a:endParaRPr b="0" lang="en-US" sz="4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78" name="_s148490"/>
            <p:cNvSpPr/>
            <p:nvPr/>
          </p:nvSpPr>
          <p:spPr>
            <a:xfrm>
              <a:off x="1042920" y="4697280"/>
              <a:ext cx="3600720" cy="175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99ccff"/>
                  </a:solidFill>
                  <a:latin typeface="Georgia"/>
                </a:rPr>
                <a:t>Поперечные</a:t>
              </a:r>
              <a:r>
                <a:rPr b="1" i="1" lang="en-US" sz="3900" spc="-1" strike="noStrike">
                  <a:solidFill>
                    <a:srgbClr val="99ccff"/>
                  </a:solidFill>
                  <a:latin typeface="Georgia"/>
                </a:rPr>
                <a:t> </a:t>
              </a:r>
              <a:endParaRPr b="0" lang="en-US" sz="39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75" name="_s148491"/>
            <p:cNvSpPr/>
            <p:nvPr/>
          </p:nvSpPr>
          <p:spPr>
            <a:xfrm>
              <a:off x="5243760" y="4697280"/>
              <a:ext cx="3600720" cy="175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99ccff"/>
                  </a:solidFill>
                  <a:latin typeface="Georgia"/>
                </a:rPr>
                <a:t>Продольные</a:t>
              </a:r>
              <a:endParaRPr b="0" lang="en-US" sz="35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800" y="144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99ccff"/>
                </a:solidFill>
                <a:uFillTx/>
                <a:latin typeface="Georgia"/>
              </a:rPr>
              <a:t>Виды механических волн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65000"/>
            <a:ext cx="9144000" cy="63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Поперечная волна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– волна, при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распространении которой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частицы среды колеблются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поперёк направления её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распространения. (Она может 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распространяться только   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в твёрдых телах.)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Продольная волна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– волна, при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распространении которой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частицы среды колеблются вдоль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направления её распространения.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(Она может   распространяться в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газах, в жидкостях и твёрдых телах.)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9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6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4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9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1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7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2" dur="10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8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8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1" dur="1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3" dur="1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10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Georgia"/>
              </a:rPr>
              <a:t>Скорость и длина волны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Georgia"/>
              </a:rPr>
              <a:t>Скорость волны</a:t>
            </a:r>
            <a:r>
              <a:rPr b="1" i="1" lang="ru-RU" sz="2500" spc="-1" strike="noStrike">
                <a:solidFill>
                  <a:srgbClr val="ffffff"/>
                </a:solidFill>
                <a:latin typeface="Georgia"/>
              </a:rPr>
              <a:t> (</a:t>
            </a:r>
            <a:r>
              <a:rPr b="1" i="1" lang="en-US" sz="2500" spc="-1" strike="noStrike">
                <a:solidFill>
                  <a:srgbClr val="ffffff"/>
                </a:solidFill>
                <a:latin typeface="Georgia"/>
              </a:rPr>
              <a:t>v)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это скорость распространения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колебаний в упругой среде. Скорость волны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равняется произведению длины волны на её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частоту.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Georgia"/>
              </a:rPr>
              <a:t>Длина волны</a:t>
            </a:r>
            <a:r>
              <a:rPr b="1" i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25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1" i="1" lang="ru-RU" sz="25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25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25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расстояние, на которое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распространяется волна за время, равное одному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периоду. Длина волны равняется произведению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скорости волны на её период.  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14480" y="1125360"/>
          <a:ext cx="5819760" cy="36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4480" y="1125360"/>
                    <a:ext cx="58197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841400" y="4724280"/>
          <a:ext cx="6034320" cy="342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1400" y="4724280"/>
                    <a:ext cx="603432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771640" y="3357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λ</a:t>
            </a: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3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8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4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9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3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0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0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0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2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7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0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2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7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0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3394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99ccff"/>
                </a:solidFill>
                <a:uFillTx/>
                <a:latin typeface="Georgia"/>
              </a:rPr>
              <a:t>Скорость и длина волны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-252360" y="836640"/>
          <a:ext cx="986292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836640"/>
                    <a:ext cx="98629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1122600">
            <a:off x="250200" y="2707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Звуковые волны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0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6767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                   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ccff"/>
                </a:solidFill>
                <a:uFillTx/>
                <a:latin typeface="Georgia"/>
              </a:rPr>
              <a:t>Звуковые волны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Звуковые волны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– упругие волны,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способные вызывать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слуховые ощущения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Органы слуха человека способны воспринимать звуки с частотой в пределах примерно от 16 Гц до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20000 Гц. Продольные волны в среде с частотой изменения давления менее 16 Гц называют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ИНФРАЗВУКОМ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, с частотой более 20000 Гц –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УЛЬТРАЗВУКОМ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Инфра- и ультразвуковые волны не воспринимаются человеческим ухом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1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1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0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5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7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0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2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8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3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7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9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4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7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9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299880" y="765000"/>
          <a:ext cx="9037800" cy="51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765000"/>
                    <a:ext cx="903780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в газах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&lt;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в жидкостях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&lt;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в твёрдых телах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Воздух 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Вода обычная -        Железо -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331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1497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5850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Водяной пар -       Ртуть -                       Медь -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494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1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451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4700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835280" y="620640"/>
            <a:ext cx="83851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           </a:t>
            </a:r>
            <a:r>
              <a:rPr b="1" i="1" lang="en-US" sz="3200" spc="-1" strike="noStrike" u="sng">
                <a:solidFill>
                  <a:srgbClr val="99ccff"/>
                </a:solidFill>
                <a:uFillTx/>
                <a:latin typeface="Georgia"/>
              </a:rPr>
              <a:t>Скорость </a:t>
            </a:r>
            <a:br>
              <a:rPr sz="3200"/>
            </a:b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     </a:t>
            </a:r>
            <a:r>
              <a:rPr b="1" i="1" lang="en-US" sz="3200" spc="-1" strike="noStrike" u="sng">
                <a:solidFill>
                  <a:srgbClr val="99ccff"/>
                </a:solidFill>
                <a:uFillTx/>
                <a:latin typeface="Georgia"/>
              </a:rPr>
              <a:t>распространения</a:t>
            </a:r>
            <a:br>
              <a:rPr sz="3200"/>
            </a:b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                 </a:t>
            </a:r>
            <a:r>
              <a:rPr b="1" i="1" lang="en-US" sz="3200" spc="-1" strike="noStrike" u="sng">
                <a:solidFill>
                  <a:srgbClr val="99ccff"/>
                </a:solidFill>
                <a:uFillTx/>
                <a:latin typeface="Georgia"/>
              </a:rPr>
              <a:t>звука</a:t>
            </a:r>
            <a:br>
              <a:rPr sz="3200"/>
            </a:b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     </a:t>
            </a:r>
            <a:r>
              <a:rPr b="1" i="1" lang="en-US" sz="3200" spc="-1" strike="noStrike" u="sng">
                <a:solidFill>
                  <a:srgbClr val="99ccff"/>
                </a:solidFill>
                <a:uFillTx/>
                <a:latin typeface="Georgia"/>
              </a:rPr>
              <a:t>в различных средах:</a:t>
            </a:r>
            <a:r>
              <a:rPr b="1" i="1" lang="en-US" sz="4000" spc="-1" strike="noStrike" u="sng">
                <a:solidFill>
                  <a:srgbClr val="99ccff"/>
                </a:solidFill>
                <a:uFillTx/>
                <a:latin typeface="Georgia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3500280"/>
            <a:ext cx="2952720" cy="720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500280"/>
            <a:ext cx="1763640" cy="720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8920" y="3500280"/>
            <a:ext cx="3745080" cy="720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0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850"/>
                            </p:stCondLst>
                            <p:childTnLst>
                              <p:par>
                                <p:cTn id="14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4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8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4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Механические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колебания и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                   волны</a:t>
            </a: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Georgia"/>
              </a:rPr>
              <a:t>          </a:t>
            </a: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Громкость звука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Громкость звука определяется его амплитудой. Звуковые волны с большой амплитудой изменения звукового давления воспринимаются человеческим ухом как громкие звуки, с малой – как тихие, т.е., чем больше амплитуда колебаний в звуковой волне, тем звук громче.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38512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График зависимости </a:t>
            </a:r>
            <a:br>
              <a:rPr sz="2800"/>
            </a:b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                          громкости звука</a:t>
            </a:r>
            <a:br>
              <a:rPr sz="2800"/>
            </a:b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                 от амплитуды колебаний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11280" y="1258920"/>
          <a:ext cx="9126360" cy="55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58920"/>
                    <a:ext cx="9126360" cy="55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0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7640" y="-387360"/>
            <a:ext cx="8385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Высота звука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Высота звука определяется его частотой. Звуковые колебания высокой частоты называются звуками высокого тона, низкой – низкого тона, т.е., чем больше частота колебаний в звуковой волне, тем выше звук. 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4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9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                   </a:t>
            </a: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График зависимости </a:t>
            </a:r>
            <a:br>
              <a:rPr sz="2800"/>
            </a:b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                             высоты звука</a:t>
            </a:r>
            <a:br>
              <a:rPr sz="2800"/>
            </a:b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                    от частоты колебаний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00200" y="1284120"/>
          <a:ext cx="8896320" cy="55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1284120"/>
                    <a:ext cx="8896320" cy="55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1045080" y="-316080"/>
            <a:ext cx="9145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Georgia"/>
              </a:rPr>
              <a:t>                     </a:t>
            </a:r>
            <a:r>
              <a:rPr b="1" i="1" lang="en-US" sz="4000" spc="-1" strike="noStrike" u="sng">
                <a:solidFill>
                  <a:srgbClr val="99ccff"/>
                </a:solidFill>
                <a:uFillTx/>
                <a:latin typeface="Georgia"/>
              </a:rPr>
              <a:t>Эхо и реверберация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252360" y="764640"/>
            <a:ext cx="10080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eorgia"/>
              </a:rPr>
              <a:t>Эхо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– это звуковые волны,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отражённые от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какого-либо препятствия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и  возвратившиеся к своему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источнику.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eorgia"/>
              </a:rPr>
              <a:t>Реверберация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– увеличение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длительности звука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вызванное его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отражениями от различных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препятствий.     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0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7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2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8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6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8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1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3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5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0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0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5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9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1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4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6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9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1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4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6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4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ff"/>
                </a:solidFill>
                <a:latin typeface="Georgia"/>
              </a:rPr>
              <a:t>       </a:t>
            </a:r>
            <a:r>
              <a:rPr b="1" i="1" lang="en-US" sz="3600" spc="-1" strike="noStrike" u="sng">
                <a:solidFill>
                  <a:srgbClr val="99ccff"/>
                </a:solidFill>
                <a:uFillTx/>
                <a:latin typeface="Georgia"/>
              </a:rPr>
              <a:t>Акустический резонанс</a:t>
            </a:r>
            <a:br>
              <a:rPr sz="3600"/>
            </a:br>
            <a:r>
              <a:rPr b="1" i="1" lang="en-US" sz="3600" spc="-1" strike="noStrike">
                <a:solidFill>
                  <a:srgbClr val="99ccff"/>
                </a:solidFill>
                <a:latin typeface="Georgia"/>
              </a:rPr>
              <a:t>                      </a:t>
            </a:r>
            <a:r>
              <a:rPr b="1" i="1" lang="en-US" sz="3600" spc="-1" strike="noStrike" u="sng">
                <a:solidFill>
                  <a:srgbClr val="99ccff"/>
                </a:solidFill>
                <a:uFillTx/>
                <a:latin typeface="Georgia"/>
              </a:rPr>
              <a:t>Камертон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Звуковые волны, встречаясь с любым телом, вызывают вынужденные колебания. Если частота собственных свободных колебаний тела совпадает с частотой звуковой волны, то условия для передачи энергии от звуковой волны телу оказываются наилучшими, амплитуда вынужденных колебаний при этом достигает максимального значения – наблюдается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акустический резонанс.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0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63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Акустический резонанс</a:t>
            </a:r>
            <a:r>
              <a:rPr b="1" i="1" lang="en-US" sz="2000" spc="-1" strike="noStrike">
                <a:solidFill>
                  <a:srgbClr val="99ccff"/>
                </a:solidFill>
                <a:latin typeface="Georgia"/>
              </a:rPr>
              <a:t>.</a:t>
            </a: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 Камертон</a:t>
            </a:r>
            <a:r>
              <a:rPr b="1" i="1" lang="en-US" sz="2000" spc="-1" strike="noStrike">
                <a:solidFill>
                  <a:srgbClr val="99ccff"/>
                </a:solidFill>
                <a:latin typeface="Georgia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60280" y="0"/>
          <a:ext cx="9124920" cy="553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0"/>
                    <a:ext cx="912492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0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7160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Акустический резонанс</a:t>
            </a:r>
            <a:r>
              <a:rPr b="1" i="1" lang="en-US" sz="2000" spc="-1" strike="noStrike">
                <a:solidFill>
                  <a:srgbClr val="99ccff"/>
                </a:solidFill>
                <a:latin typeface="Georgia"/>
              </a:rPr>
              <a:t>.</a:t>
            </a: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 Камертон</a:t>
            </a:r>
            <a:r>
              <a:rPr b="1" i="1" lang="en-US" sz="2000" spc="-1" strike="noStrike">
                <a:solidFill>
                  <a:srgbClr val="99ccff"/>
                </a:solidFill>
                <a:latin typeface="Georgia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4859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Наблюдать акустический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резонанс можно в опыте с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двумя одинаковыми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камертонами на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резонаторных ящиках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302000" y="404640"/>
          <a:ext cx="5035680" cy="332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404640"/>
                    <a:ext cx="503568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3">
            <a:biLevel thresh="50000"/>
            <a:lum contrast="12000"/>
          </a:blip>
          <a:srcRect l="5951" t="0" r="0" b="0"/>
          <a:stretch/>
        </p:blipFill>
        <p:spPr>
          <a:xfrm>
            <a:off x="0" y="2773440"/>
            <a:ext cx="4570560" cy="40845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6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1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1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6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3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8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3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5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8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0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3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5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3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rot="980400">
            <a:off x="1042200" y="249192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Сейсмические волны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86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Сейсмические волны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Сейсмические волны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– волны в земной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оре, возникающие при землетрясениях.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В упругой земной коре возможно распространение как продольных, так и поперечных волн. Продольные сейсмические волны называют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Р-волнами (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v = 8-10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км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/c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), а поперечные –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S-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волнами (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v = 5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м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с)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Также есть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L-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волны – волны,  распространяющиеся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во все стороны от эпицентра по поверхности земли.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fill="hold">
                      <p:stCondLst>
                        <p:cond delay="0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7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1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3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8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5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0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5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9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6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9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1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89000"/>
            <a:ext cx="648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Georgia"/>
              </a:rPr>
              <a:t>Цели работы: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836640"/>
            <a:ext cx="91440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Более глубокое ознакомление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  с одним из разделов механики;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-систематизация полученных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знаний: создание электронной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  версии работы для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  использования презентации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  на уроках физики. 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203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Сейсмические волны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648240" y="0"/>
          <a:ext cx="7237080" cy="44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8240" y="0"/>
                    <a:ext cx="723708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" descr=""/>
          <p:cNvPicPr/>
          <p:nvPr/>
        </p:nvPicPr>
        <p:blipFill>
          <a:blip r:embed="rId3"/>
          <a:srcRect l="2620" t="1032" r="0" b="0"/>
          <a:stretch/>
        </p:blipFill>
        <p:spPr>
          <a:xfrm>
            <a:off x="0" y="2610000"/>
            <a:ext cx="4019400" cy="4248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fill="hold">
                      <p:stCondLst>
                        <p:cond delay="0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8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87360"/>
            <a:ext cx="9468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Используемая литература: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1)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Физика: Учеб. для 8 кл. общеобразоват. учреждений / С.В. Громов, Н.А. Родина. – 4-е изд. – М.: «Просвещение», 2002 г. – 158с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2)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Справочник школьника: 5-11 классы. – М.:       «АСТ-ПРЕСС», 2002 г. – 704с.  раздел «Физика» / О.Ф. Кабардин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3)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   Физика. Большая серия знаний. Москва 2004 г. ООО «Мир книги»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4)    Энциклопедия. Раздел «Физика». «Аванта»,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2002 г. 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5)    Физика: Учеб. для 8 кл. общеобразоват. учреждений / А.В. Пёрышкин. М.: «Дрофа»,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2003 г.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6) 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правочник по элементарной физике. Н.И. Кошкин, М.Г. Ширкевич. М.: издательство «Наука», 1976 г.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0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5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3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0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1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2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3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1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rot="1122600">
            <a:off x="610560" y="2565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Механические колебания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2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665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ccff"/>
                </a:solidFill>
                <a:uFillTx/>
                <a:latin typeface="Georgia"/>
              </a:rPr>
              <a:t>Механические колебания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олебательное движение характеризуют амплитудой, периодом и частотой колебаний: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А – амплитуда;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Т – период;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частота; 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67120" y="3137040"/>
          <a:ext cx="11606400" cy="42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7120" y="3137040"/>
                    <a:ext cx="116064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ccff"/>
                </a:solidFill>
                <a:uFillTx/>
                <a:latin typeface="Georgia"/>
              </a:rPr>
              <a:t>Механические колебания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Амплитуда колебаний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(А)– это максимальное расстояние, на которое удаляется колеблющееся тело от своего положения равновесия. Амплитуда колебаний измеряется в единицах длины.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Период колебаний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(Т)– это время, за которое совершается одно колебание. Период колебаний измеряется в единицах времени.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Частота колебаний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– это физическая величина, равная  числу колебаний, совершаемых за одну секунду. Частота измеряется в герцах (Гц).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715920"/>
            <a:ext cx="546876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  </a:t>
            </a: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Частота колебаний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529272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ccff"/>
                </a:solidFill>
                <a:uFillTx/>
                <a:latin typeface="Georgia"/>
              </a:rPr>
              <a:t>Механические колебания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Georgia"/>
              </a:rPr>
              <a:t>Формулы :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99ccff"/>
                </a:solidFill>
                <a:latin typeface="Georgia"/>
              </a:rPr>
              <a:t>Период колебаний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        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1080" y="1125360"/>
          <a:ext cx="6008760" cy="35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125360"/>
                    <a:ext cx="6008760" cy="35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6280" y="4073400"/>
          <a:ext cx="5956200" cy="3819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4073400"/>
                    <a:ext cx="595620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933720" y="2847960"/>
          <a:ext cx="7253280" cy="4098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3720" y="2847960"/>
                    <a:ext cx="72532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438880" y="-1440"/>
          <a:ext cx="7067520" cy="40003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8880" y="-1440"/>
                    <a:ext cx="706752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2738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               </a:t>
            </a: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Виды</a:t>
            </a:r>
            <a:r>
              <a:rPr b="1" i="1" lang="en-US" sz="44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колебаний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1989000"/>
            <a:ext cx="7776000" cy="4069080"/>
            <a:chOff x="1042920" y="1989000"/>
            <a:chExt cx="7776000" cy="4069080"/>
          </a:xfrm>
        </p:grpSpPr>
        <p:cxnSp>
          <p:nvCxnSpPr>
            <p:cNvPr id="126" name="_s75787"/>
            <p:cNvCxnSpPr>
              <a:stCxn id="127" idx="0"/>
              <a:endCxn id="128" idx="2"/>
            </p:cNvCxnSpPr>
            <p:nvPr/>
          </p:nvCxnSpPr>
          <p:spPr>
            <a:xfrm flipV="1" rot="16200000">
              <a:off x="5570280" y="2975760"/>
              <a:ext cx="814320" cy="2094840"/>
            </a:xfrm>
            <a:prstGeom prst="bentConnector3">
              <a:avLst>
                <a:gd name="adj1" fmla="val 13622"/>
              </a:avLst>
            </a:prstGeom>
            <a:ln w="28440">
              <a:solidFill>
                <a:srgbClr val="99ccff"/>
              </a:solidFill>
              <a:miter/>
            </a:ln>
          </p:spPr>
        </p:cxnSp>
        <p:cxnSp>
          <p:nvCxnSpPr>
            <p:cNvPr id="129" name="_s75786"/>
            <p:cNvCxnSpPr>
              <a:stCxn id="130" idx="0"/>
              <a:endCxn id="128" idx="2"/>
            </p:cNvCxnSpPr>
            <p:nvPr/>
          </p:nvCxnSpPr>
          <p:spPr>
            <a:xfrm flipH="1" flipV="1" rot="5400000">
              <a:off x="3476520" y="2976480"/>
              <a:ext cx="814320" cy="2093760"/>
            </a:xfrm>
            <a:prstGeom prst="bentConnector3">
              <a:avLst>
                <a:gd name="adj1" fmla="val 13622"/>
              </a:avLst>
            </a:prstGeom>
            <a:ln w="28440">
              <a:solidFill>
                <a:srgbClr val="99ccff"/>
              </a:solidFill>
              <a:miter/>
            </a:ln>
          </p:spPr>
        </p:cxnSp>
        <p:sp>
          <p:nvSpPr>
            <p:cNvPr id="128" name="_s75782"/>
            <p:cNvSpPr/>
            <p:nvPr/>
          </p:nvSpPr>
          <p:spPr>
            <a:xfrm>
              <a:off x="3135960" y="1989000"/>
              <a:ext cx="3588840" cy="162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300" spc="-1" strike="noStrike" u="sng">
                  <a:solidFill>
                    <a:srgbClr val="99ccff"/>
                  </a:solidFill>
                  <a:uFillTx/>
                  <a:latin typeface="Georgia"/>
                </a:rPr>
                <a:t>Колебания</a:t>
              </a:r>
              <a:endParaRPr b="0" lang="en-US" sz="43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0" name="_s75783"/>
            <p:cNvSpPr/>
            <p:nvPr/>
          </p:nvSpPr>
          <p:spPr>
            <a:xfrm>
              <a:off x="1042920" y="4430520"/>
              <a:ext cx="3588840" cy="162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99ccff"/>
                  </a:solidFill>
                  <a:latin typeface="Georgia"/>
                </a:rPr>
                <a:t>Затухающие</a:t>
              </a:r>
              <a:endParaRPr b="0" lang="en-US" sz="31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" name="_s75784"/>
            <p:cNvSpPr/>
            <p:nvPr/>
          </p:nvSpPr>
          <p:spPr>
            <a:xfrm>
              <a:off x="5230080" y="4430520"/>
              <a:ext cx="3588840" cy="162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99ccff"/>
                  </a:solidFill>
                  <a:latin typeface="Georgia"/>
                </a:rPr>
                <a:t>Незатухающие</a:t>
              </a:r>
              <a:endParaRPr b="0" lang="en-US" sz="31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1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37:13Z</dcterms:created>
  <dc:creator>Ирина</dc:creator>
  <dc:description/>
  <dc:language>en-US</dc:language>
  <cp:lastModifiedBy>тмг групп</cp:lastModifiedBy>
  <dcterms:modified xsi:type="dcterms:W3CDTF">2009-12-17T00:41:05Z</dcterms:modified>
  <cp:revision>96</cp:revision>
  <dc:subject/>
  <dc:title>Слайд 1</dc:title>
</cp:coreProperties>
</file>