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2" end="4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DA9-2697-4059-9B00-FD4F45FA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B12-162D-4D14-A5CF-D1627169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A8D-3B68-4B1D-9773-DE2803EB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2A8-34D1-4816-8F0E-7CA4802B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1079-56EF-4630-8E51-5B3695BE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6FB8-EA03-4E7B-A928-ACE1A0F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43E-E603-4482-9341-316D51B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63D-AF51-4EC0-A6C4-6FCD9F2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3880-427E-4084-A086-549B1EDF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79B-08D7-4801-8AA3-69EA34D2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B5D1-EA4F-4054-B279-DD472C4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1F8-C7F4-4BBA-AF4A-3C15BA13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BE91-1D9E-4719-924E-1CAE1655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EBF9-DC69-4E49-B189-81FE788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5BC2-E703-40E2-BBA0-61522809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A3D1-DC58-4EA2-A952-D3F52F47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A985-C717-4221-966A-8D607500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9F4-BA4F-4EFB-A01F-65F9CC0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E48-4319-4CA8-822B-42A23610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FE2-67C4-4114-8BBA-7E134EE7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A0E-ACFA-4BEC-ACED-F32119A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9A7-AAA7-48DA-BAE5-A22B51EA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6B7-CB14-4A52-8AB5-6534207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8A6-EA27-4063-8B2A-4F608EC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146F-468E-4D80-A144-D71C39DF2FA8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6364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4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183"/>
                </a:gs>
                <a:gs pos="100000">
                  <a:srgbClr val="6364a1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576ab"/>
                </a:gs>
                <a:gs pos="100000">
                  <a:srgbClr val="6364a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7CC-DF88-4D56-9D4D-A10F7A836B35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b86d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b86d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2060640"/>
            <a:ext cx="9683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ff"/>
                </a:solidFill>
                <a:uFillTx/>
                <a:latin typeface="Ariac"/>
              </a:rPr>
              <a:t>F5 – </a:t>
            </a:r>
            <a:r>
              <a:rPr b="0" lang="ru-RU" sz="8000" spc="-1" strike="noStrike" u="sng">
                <a:solidFill>
                  <a:srgbClr val="ffffff"/>
                </a:solidFill>
                <a:uFillTx/>
                <a:latin typeface="Ariac"/>
              </a:rPr>
              <a:t>для просмотра</a:t>
            </a:r>
            <a:endParaRPr b="1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276640"/>
            <a:ext cx="298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352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Затухающие колебания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это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лебания, амплитуда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торых, под действием сил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рения или сопротивления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о временем уменьшается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и через некоторый промежуток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ремени становится равной 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»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.е. тело останавливается в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очке равновесия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1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Незатухающие колебания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это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колебания, амплитуда которых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со временем не изменяется,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силы трения, сопротивления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 отсутствуют.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370836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рафик незатухающих колебани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392724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рафик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затухающих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80000" y="49320"/>
          <a:ext cx="74563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9320"/>
                    <a:ext cx="74563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560" y="26028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</a:t>
            </a:r>
            <a:r>
              <a:rPr b="1" i="1" lang="en-US" sz="48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колебаний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71640" y="1989000"/>
            <a:ext cx="8006040" cy="4189680"/>
            <a:chOff x="971640" y="1989000"/>
            <a:chExt cx="8006040" cy="4189680"/>
          </a:xfrm>
        </p:grpSpPr>
        <p:cxnSp>
          <p:nvCxnSpPr>
            <p:cNvPr id="141" name="_s7987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632560" y="3004920"/>
              <a:ext cx="838440" cy="215640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44" name="_s79879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3477600" y="3005640"/>
              <a:ext cx="838440" cy="2155680"/>
            </a:xfrm>
            <a:prstGeom prst="bentConnector3">
              <a:avLst>
                <a:gd name="adj1" fmla="val 13616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43" name="_s79880"/>
            <p:cNvSpPr/>
            <p:nvPr/>
          </p:nvSpPr>
          <p:spPr>
            <a:xfrm>
              <a:off x="3126600" y="198900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 u="sng">
                  <a:solidFill>
                    <a:srgbClr val="99ccff"/>
                  </a:solidFill>
                  <a:uFillTx/>
                  <a:latin typeface="Georgia"/>
                </a:rPr>
                <a:t>Колебания</a:t>
              </a:r>
              <a:endParaRPr b="0" lang="en-US" sz="4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_s79881"/>
            <p:cNvSpPr/>
            <p:nvPr/>
          </p:nvSpPr>
          <p:spPr>
            <a:xfrm>
              <a:off x="971640" y="450288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ccff"/>
                  </a:solidFill>
                  <a:latin typeface="Georgia"/>
                </a:rPr>
                <a:t>Свободные</a:t>
              </a:r>
              <a:r>
                <a:rPr b="1" i="1" lang="en-US" sz="4000" spc="-1" strike="noStrike">
                  <a:solidFill>
                    <a:srgbClr val="99ccff"/>
                  </a:solidFill>
                  <a:latin typeface="Georgia"/>
                </a:rPr>
                <a:t> 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2" name="_s79882"/>
            <p:cNvSpPr/>
            <p:nvPr/>
          </p:nvSpPr>
          <p:spPr>
            <a:xfrm>
              <a:off x="5282640" y="4502880"/>
              <a:ext cx="3695040" cy="16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ccff"/>
                  </a:solidFill>
                  <a:latin typeface="Georgia"/>
                </a:rPr>
                <a:t>Вынужденные</a:t>
              </a:r>
              <a:endParaRPr b="0" lang="en-US" sz="36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00"/>
                            </p:stCondLst>
                            <p:childTnLst>
                              <p:par>
                                <p:cTn id="5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02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Виды колебаний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352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Georgia"/>
              </a:rPr>
              <a:t>Свободные колебан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колебания, происходящи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под действием внутренних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сил в колебательной систем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за счёт первоначального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запаса энергии.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400" spc="-1" strike="noStrike" u="sng">
                <a:solidFill>
                  <a:srgbClr val="ffffff"/>
                </a:solidFill>
                <a:uFillTx/>
                <a:latin typeface="Georgia"/>
              </a:rPr>
              <a:t>Вынужденные колебан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колебания, происходящие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под воздействием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внешних сил, периодически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изменяющихся с течением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  <a:p>
            <a:pPr marL="352440" indent="-352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времени.    </a:t>
            </a:r>
            <a:r>
              <a:rPr b="1" i="1" lang="en-US" sz="30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en-US" sz="3000" spc="-1" strike="noStrike">
                <a:solidFill>
                  <a:srgbClr val="ffffff"/>
                </a:solidFill>
                <a:latin typeface="Georgia"/>
              </a:rPr>
              <a:t>         </a:t>
            </a:r>
            <a:endParaRPr b="0" lang="en-US" sz="3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4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9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Нитяной и пружинный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               маятники   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30040" y="1303200"/>
          <a:ext cx="8858520" cy="56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303200"/>
                    <a:ext cx="885852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1) Формула 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ериода колебания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ружинного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ятника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30560" y="1197000"/>
          <a:ext cx="938196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197000"/>
                    <a:ext cx="938196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5865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2) Формула 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периода колебания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тематического</a:t>
            </a:r>
            <a:br>
              <a:rPr sz="4000"/>
            </a:b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маятника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72520" y="1937160"/>
            <a:ext cx="5027400" cy="2466000"/>
            <a:chOff x="2072520" y="1937160"/>
            <a:chExt cx="5027400" cy="2466000"/>
          </a:xfrm>
        </p:grpSpPr>
        <p:sp>
          <p:nvSpPr>
            <p:cNvPr id="157" name=""/>
            <p:cNvSpPr/>
            <p:nvPr/>
          </p:nvSpPr>
          <p:spPr>
            <a:xfrm>
              <a:off x="2263320" y="3211920"/>
              <a:ext cx="4836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T=2π      g  </a:t>
              </a: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48360" y="2421000"/>
              <a:ext cx="68580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32360" y="3573360"/>
              <a:ext cx="216000" cy="64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3573360"/>
              <a:ext cx="289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96000" y="2421000"/>
              <a:ext cx="1028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4360" y="3500280"/>
              <a:ext cx="1143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72520" y="1937160"/>
              <a:ext cx="4783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                 </a:t>
              </a:r>
              <a:r>
                <a:rPr b="1" i="1" lang="en-US" sz="7200" spc="-1" strike="noStrike">
                  <a:solidFill>
                    <a:srgbClr val="ffffff"/>
                  </a:solidFill>
                  <a:latin typeface="Georgia"/>
                  <a:ea typeface="Times New Roman"/>
                </a:rPr>
                <a:t>l </a:t>
              </a: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122600">
            <a:off x="250200" y="2565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Резонанс</a:t>
            </a:r>
            <a:endParaRPr b="0" lang="en-US" sz="5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84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          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Резонанс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это резкое возрастание    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амплитуды вынужденных 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езонанс возникает только в том случае, когда частота собственных колебаний совпадает с частотой вынуждающей силы.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780000" y="3108240"/>
          <a:ext cx="7297560" cy="46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3108240"/>
                    <a:ext cx="72975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32000" y="-12960"/>
            <a:ext cx="27352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езентация по физик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Механические колебания и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волны»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734080"/>
            <a:ext cx="363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анкт- Петербург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2010</a:t>
            </a:r>
            <a:br>
              <a:rPr sz="2400"/>
            </a:b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429000"/>
            <a:ext cx="4753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полнила:</a:t>
            </a:r>
            <a:br>
              <a:rPr sz="20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ученица 9 а класса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Пейович Диана</a:t>
            </a:r>
            <a:br>
              <a:rPr sz="28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уководитель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физик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решкова Татьян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вановна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1122600">
            <a:off x="250200" y="2707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Механически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0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92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37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волны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1700280"/>
            <a:ext cx="914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Механические волны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процесс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распространения механических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колебаний в различных средах –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в твёрдых, жидких и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газообразных телах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92360" y="4046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 механических</a:t>
            </a:r>
            <a:br>
              <a:rPr sz="4400"/>
            </a:b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олн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42920" y="2060640"/>
            <a:ext cx="7801560" cy="4394160"/>
            <a:chOff x="1042920" y="2060640"/>
            <a:chExt cx="7801560" cy="4394160"/>
          </a:xfrm>
        </p:grpSpPr>
        <p:cxnSp>
          <p:nvCxnSpPr>
            <p:cNvPr id="174" name="_s148487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5553720" y="3206160"/>
              <a:ext cx="879480" cy="2101680"/>
            </a:xfrm>
            <a:prstGeom prst="bentConnector3">
              <a:avLst>
                <a:gd name="adj1" fmla="val 13595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77" name="_s148488"/>
            <p:cNvCxnSpPr>
              <a:stCxn id="178" idx="0"/>
              <a:endCxn id="176" idx="2"/>
            </p:cNvCxnSpPr>
            <p:nvPr/>
          </p:nvCxnSpPr>
          <p:spPr>
            <a:xfrm flipH="1" flipV="1" rot="5400000">
              <a:off x="3453480" y="3206880"/>
              <a:ext cx="879480" cy="2100600"/>
            </a:xfrm>
            <a:prstGeom prst="bentConnector3">
              <a:avLst>
                <a:gd name="adj1" fmla="val 13595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76" name="_s148489"/>
            <p:cNvSpPr/>
            <p:nvPr/>
          </p:nvSpPr>
          <p:spPr>
            <a:xfrm>
              <a:off x="3142800" y="206064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600" spc="-1" strike="noStrike" u="sng">
                  <a:solidFill>
                    <a:srgbClr val="99ccff"/>
                  </a:solidFill>
                  <a:uFillTx/>
                  <a:latin typeface="Georgia"/>
                </a:rPr>
                <a:t>Волны</a:t>
              </a:r>
              <a:endParaRPr b="0" lang="en-US" sz="46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8" name="_s148490"/>
            <p:cNvSpPr/>
            <p:nvPr/>
          </p:nvSpPr>
          <p:spPr>
            <a:xfrm>
              <a:off x="1042920" y="469728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99ccff"/>
                  </a:solidFill>
                  <a:latin typeface="Georgia"/>
                </a:rPr>
                <a:t>Поперечные</a:t>
              </a:r>
              <a:r>
                <a:rPr b="1" i="1" lang="en-US" sz="3900" spc="-1" strike="noStrike">
                  <a:solidFill>
                    <a:srgbClr val="99ccff"/>
                  </a:solidFill>
                  <a:latin typeface="Georgia"/>
                </a:rPr>
                <a:t> </a:t>
              </a:r>
              <a:endParaRPr b="0" lang="en-US" sz="39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75" name="_s148491"/>
            <p:cNvSpPr/>
            <p:nvPr/>
          </p:nvSpPr>
          <p:spPr>
            <a:xfrm>
              <a:off x="5243760" y="4697280"/>
              <a:ext cx="3600720" cy="1757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99ccff"/>
                  </a:solidFill>
                  <a:latin typeface="Georgia"/>
                </a:rPr>
                <a:t>Продольные</a:t>
              </a:r>
              <a:endParaRPr b="0" lang="en-US" sz="35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00" y="144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Виды механических волн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65000"/>
            <a:ext cx="9144000" cy="63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Поперечная волна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– волна, при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и которой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частицы среды колеблются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перёк направления её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я. (Она может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яться только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твёрдых телах.)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Продольная волна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– волна, при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распространении которой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частицы среды колеблются вдоль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аправления её распространения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(Она может   распространяться в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газах, в жидкостях и твёрдых телах.)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    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4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9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2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7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2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7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8" dur="1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1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1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3" dur="1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Скорость и длина волны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Georgia"/>
              </a:rPr>
              <a:t>Скорость волны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v)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это скорость распространения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колебаний в упругой среде. Скорость волны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вняется произведению длины волны на её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частоту.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Georgia"/>
              </a:rPr>
              <a:t>Длина волны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5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5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сстояние, на которое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распространяется волна за время, равное одному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периоду. Длина волны равняется произведению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             </a:t>
            </a:r>
            <a:r>
              <a:rPr b="1" i="1" lang="ru-RU" sz="2200" spc="-1" strike="noStrike">
                <a:solidFill>
                  <a:srgbClr val="ffffff"/>
                </a:solidFill>
                <a:latin typeface="Georgia"/>
              </a:rPr>
              <a:t>скорости волны на её период.  </a:t>
            </a:r>
            <a:endParaRPr b="0" lang="en-US" sz="2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14480" y="1125360"/>
          <a:ext cx="5819760" cy="36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125360"/>
                    <a:ext cx="58197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841400" y="4724280"/>
          <a:ext cx="6034320" cy="342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1400" y="4724280"/>
                    <a:ext cx="603432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771640" y="3357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λ</a:t>
            </a: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8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4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9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0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2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2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3394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99ccff"/>
                </a:solidFill>
                <a:uFillTx/>
                <a:latin typeface="Georgia"/>
              </a:rPr>
              <a:t>Скорость и длина волны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252360" y="836640"/>
          <a:ext cx="98629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836640"/>
                    <a:ext cx="98629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29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rot="1122600">
            <a:off x="250200" y="2707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Звуковы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0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71280" y="-360"/>
            <a:ext cx="6767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                  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Звуковые волны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Звуковые волны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упругие волны,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пособные вызывать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луховые ощущения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Органы слуха человека способны воспринимать звуки с частотой в пределах примерно от 16 Гц до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20000 Гц. Продольные волны в среде с частотой изменения давления менее 16 Гц называют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ИНФРАЗВУКОМ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, с частотой более 20000 Гц –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УЛЬТРАЗВУКОМ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Инфра- и ультразвуковые волны не воспринимаются человеческим ухом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1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2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5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7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0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3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7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4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299880" y="765000"/>
          <a:ext cx="9037800" cy="51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765000"/>
                    <a:ext cx="903780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 газах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&lt;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в жидкостях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&lt; </a:t>
            </a: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 в твёрдых телах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здух 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да обычная -        Железо -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331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1497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5850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Водяной пар -       Ртуть -                       Медь -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494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1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451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v = 4700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м/с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35280" y="620640"/>
            <a:ext cx="83851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      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Скорость 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распространения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       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звука</a:t>
            </a:r>
            <a:br>
              <a:rPr sz="3200"/>
            </a:b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   </a:t>
            </a:r>
            <a:r>
              <a:rPr b="1" i="1" lang="en-US" sz="3200" spc="-1" strike="noStrike" u="sng">
                <a:solidFill>
                  <a:srgbClr val="99ccff"/>
                </a:solidFill>
                <a:uFillTx/>
                <a:latin typeface="Georgia"/>
              </a:rPr>
              <a:t>в различных средах:</a:t>
            </a:r>
            <a:r>
              <a:rPr b="1" i="1" lang="en-US" sz="4000" spc="-1" strike="noStrike" u="sng">
                <a:solidFill>
                  <a:srgbClr val="99ccff"/>
                </a:solidFill>
                <a:uFillTx/>
                <a:latin typeface="Georgia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3500280"/>
            <a:ext cx="295272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00280"/>
            <a:ext cx="176364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8920" y="3500280"/>
            <a:ext cx="3745080" cy="72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850"/>
                            </p:stCondLst>
                            <p:childTnLst>
                              <p:par>
                                <p:cTn id="14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8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0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Механические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колебания и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Georgia"/>
              </a:rPr>
              <a:t>                   волны</a:t>
            </a:r>
            <a:r>
              <a:rPr b="1" i="1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Громкость звука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Громкость звука определяется его амплитудой. Звуковые волны с большой амплитудой изменения звукового давления воспринимаются человеческим ухом как громкие звуки, с малой – как тихие, т.е., чем больше амплитуда колебаний в звуковой волне, тем звук громче.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7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График зависимости 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      громкости звука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от амплитуды колебаний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1280" y="1258920"/>
          <a:ext cx="9126360" cy="55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58920"/>
                    <a:ext cx="9126360" cy="55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0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7640" y="-387360"/>
            <a:ext cx="8385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ысота звука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сота звука определяется его частотой. Звуковые колебания высокой частоты называются звуками высокого тона, низкой – низкого тона, т.е., чем больше частота колебаний в звуковой волне, тем выше звук. 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0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                   </a:t>
            </a: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График зависимости 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         высоты звука</a:t>
            </a:r>
            <a:br>
              <a:rPr sz="2800"/>
            </a:br>
            <a:r>
              <a:rPr b="1" i="1" lang="en-US" sz="2800" spc="-1" strike="noStrike">
                <a:solidFill>
                  <a:srgbClr val="99ccff"/>
                </a:solidFill>
                <a:latin typeface="Georgia"/>
              </a:rPr>
              <a:t>                    от частоты колебаний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00200" y="1284120"/>
          <a:ext cx="8896320" cy="55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1284120"/>
                    <a:ext cx="889632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0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045080" y="-316080"/>
            <a:ext cx="9145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                    </a:t>
            </a:r>
            <a:r>
              <a:rPr b="1" i="1" lang="en-US" sz="4000" spc="-1" strike="noStrike" u="sng">
                <a:solidFill>
                  <a:srgbClr val="99ccff"/>
                </a:solidFill>
                <a:uFillTx/>
                <a:latin typeface="Georgia"/>
              </a:rPr>
              <a:t>Эхо и реверберация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252360" y="764640"/>
            <a:ext cx="10080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Эхо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это звуковые волны,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ражённые от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какого-либо препятстви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и  возвратившиеся к своему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источнику.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Реверберация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– увеличение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длительности звука,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вызванное его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отражениями от различных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репятствий.      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0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0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5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6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9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1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6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9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1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4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Georgia"/>
              </a:rPr>
              <a:t>       </a:t>
            </a:r>
            <a:r>
              <a:rPr b="1" i="1" lang="en-US" sz="36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br>
              <a:rPr sz="3600"/>
            </a:br>
            <a:r>
              <a:rPr b="1" i="1" lang="en-US" sz="3600" spc="-1" strike="noStrike">
                <a:solidFill>
                  <a:srgbClr val="99ccff"/>
                </a:solidFill>
                <a:latin typeface="Georgia"/>
              </a:rPr>
              <a:t>                      </a:t>
            </a:r>
            <a:r>
              <a:rPr b="1" i="1" lang="en-US" sz="3600" spc="-1" strike="noStrike" u="sng">
                <a:solidFill>
                  <a:srgbClr val="99ccff"/>
                </a:solidFill>
                <a:uFillTx/>
                <a:latin typeface="Georgia"/>
              </a:rPr>
              <a:t>Камертон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Звуковые волны, встречаясь с любым телом, вызывают вынужденные колебания. Если частота собственных свободных колебаний тела совпадает с частотой звуковой волны, то условия для передачи энергии от звуковой волны телу оказываются наилучшими, амплитуда вынужденных колебаний при этом достигает максимального значения – наблюдается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акустический резонанс.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0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3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63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 Камертон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60280" y="0"/>
          <a:ext cx="9124920" cy="55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0"/>
                    <a:ext cx="912492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0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3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716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Акустический резонанс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 Камертон</a:t>
            </a:r>
            <a:r>
              <a:rPr b="1" i="1" lang="en-US" sz="2000" spc="-1" strike="noStrike">
                <a:solidFill>
                  <a:srgbClr val="99ccff"/>
                </a:solidFill>
                <a:latin typeface="Georgia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48592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Наблюдать акустический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резонанс можно в опыте с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двумя одинаковыми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камертонами на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99ccff"/>
                </a:solidFill>
                <a:latin typeface="Georgia"/>
              </a:rPr>
              <a:t>резонаторных ящиках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302000" y="404640"/>
          <a:ext cx="5035680" cy="332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0" y="404640"/>
                    <a:ext cx="503568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3">
            <a:biLevel thresh="50000"/>
            <a:lum contrast="12000"/>
          </a:blip>
          <a:srcRect l="5951" t="0" r="0" b="0"/>
          <a:stretch/>
        </p:blipFill>
        <p:spPr>
          <a:xfrm>
            <a:off x="0" y="2773440"/>
            <a:ext cx="4570560" cy="40845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1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8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3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8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0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3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5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980400">
            <a:off x="1042200" y="249192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Сейсмические волны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0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86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8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Сейсмические волны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Сейсмические волны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– волны в земной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ре, возникающие при землетрясениях.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 упругой земной коре возможно распространение как продольных, так и поперечных волн. Продольные сейсмические волны называют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Р-волнами (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v = 8-10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км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/c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), а поперечные –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S-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лнами (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v = 5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м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с).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акже есть 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L-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лны – волны,  распространяющиеся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во все стороны от эпицентра по поверхности земли.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0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8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5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5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9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9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89000"/>
            <a:ext cx="64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Georgia"/>
              </a:rPr>
              <a:t>Цели работы: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836640"/>
            <a:ext cx="91440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Более глубокое ознакомление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с одним из разделов механики;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-систематизация полученных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знаний: создание электронной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версии работы для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использования презентации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  на уроках физики. 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Georgia"/>
              </a:rPr>
              <a:t>Сейсмические волны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48240" y="0"/>
          <a:ext cx="7237080" cy="44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8240" y="0"/>
                    <a:ext cx="72370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rcRect l="2620" t="1032" r="0" b="0"/>
          <a:stretch/>
        </p:blipFill>
        <p:spPr>
          <a:xfrm>
            <a:off x="0" y="2610000"/>
            <a:ext cx="4019400" cy="424800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</p:spTree>
  </p:cSld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0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468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Используемая литература: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1)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Физика: Учеб. для 8 кл. общеобразоват. учреждений / С.В. Громов, Н.А. Родина. – 4-е изд. – М.: «Просвещение», 2002 г. – 158с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2)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Справочник школьника: 5-11 классы. – М.:       «АСТ-ПРЕСС», 2002 г. – 704с.  раздел «Физика» / О.Ф. Кабардин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3)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Физика. Большая серия знаний. Москва 2004 г. ООО «Мир книги».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4)    Энциклопедия. Раздел «Физика». «Аванта»,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2002 г. 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5)    Физика: Учеб. для 8 кл. общеобразоват. учреждений / А.В. Пёрышкин. М.: «Дрофа»,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2003 г.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6)    </a:t>
            </a:r>
            <a:r>
              <a:rPr b="1" i="1" lang="ru-RU" sz="2400" spc="-1" strike="noStrike">
                <a:solidFill>
                  <a:srgbClr val="ffffff"/>
                </a:solidFill>
                <a:latin typeface="Georgia"/>
              </a:rPr>
              <a:t>Справочник по элементарной физике. Н.И. Кошкин, М.Г. Ширкевич. М.: издательство «Наука», 1976 г. 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238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0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1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2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3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4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rot="1122600">
            <a:off x="610560" y="2565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Механические колебания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2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66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Колебательное движение характеризуют амплитудой, периодом и частотой колебаний: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А – амплитуда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Т – период;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частота;   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67120" y="3137040"/>
          <a:ext cx="11606400" cy="42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3137040"/>
                    <a:ext cx="116064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Амплитуда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А)– это максимальное расстояние, на которое удаляется колеблющееся тело от своего положения равновесия. Амплитуда колебаний измеряется в единицах длины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Период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Т)– это время, за которое совершается одно колебание. Период колебаний измеряется в единицах времени.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астота колебаний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– это физическая величина, равная  числу колебаний, совершаемых за одну секунду. Частота измеряется в герцах (Гц).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715920"/>
            <a:ext cx="54687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  </a:t>
            </a:r>
            <a:r>
              <a:rPr b="1" i="1" lang="en-US" sz="3200" spc="-1" strike="noStrike">
                <a:solidFill>
                  <a:srgbClr val="99ccff"/>
                </a:solidFill>
                <a:latin typeface="Georgia"/>
              </a:rPr>
              <a:t>Частота колебаний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529272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Georgia"/>
              </a:rPr>
              <a:t>Механические колебания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Georgia"/>
              </a:rPr>
              <a:t>Формулы :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99ccff"/>
                </a:solidFill>
                <a:latin typeface="Georgia"/>
              </a:rPr>
              <a:t>Период колебаний</a:t>
            </a:r>
            <a:endParaRPr b="0" lang="en-US" sz="32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            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81080" y="1125360"/>
          <a:ext cx="6008760" cy="35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25360"/>
                    <a:ext cx="6008760" cy="35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6280" y="4073400"/>
          <a:ext cx="5956200" cy="3819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073400"/>
                    <a:ext cx="595620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33720" y="2847960"/>
          <a:ext cx="7253280" cy="4098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3720" y="2847960"/>
                    <a:ext cx="72532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438880" y="-1440"/>
          <a:ext cx="7067520" cy="40003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8880" y="-1440"/>
                    <a:ext cx="706752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40cc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2738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Georgia"/>
              </a:rPr>
              <a:t>              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Виды</a:t>
            </a:r>
            <a:r>
              <a:rPr b="1" i="1" lang="en-US" sz="4400" spc="-1" strike="noStrike">
                <a:solidFill>
                  <a:srgbClr val="99ccff"/>
                </a:solidFill>
                <a:latin typeface="Georgia"/>
              </a:rPr>
              <a:t> </a:t>
            </a:r>
            <a:r>
              <a:rPr b="1" i="1" lang="en-US" sz="4400" spc="-1" strike="noStrike" u="sng">
                <a:solidFill>
                  <a:srgbClr val="99ccff"/>
                </a:solidFill>
                <a:uFillTx/>
                <a:latin typeface="Georgia"/>
              </a:rPr>
              <a:t>колебаний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42920" y="1989000"/>
            <a:ext cx="7776000" cy="4069080"/>
            <a:chOff x="1042920" y="1989000"/>
            <a:chExt cx="7776000" cy="4069080"/>
          </a:xfrm>
        </p:grpSpPr>
        <p:cxnSp>
          <p:nvCxnSpPr>
            <p:cNvPr id="126" name="_s75787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570280" y="2975760"/>
              <a:ext cx="814320" cy="2094840"/>
            </a:xfrm>
            <a:prstGeom prst="bentConnector3">
              <a:avLst>
                <a:gd name="adj1" fmla="val 13622"/>
              </a:avLst>
            </a:prstGeom>
            <a:ln w="28440">
              <a:solidFill>
                <a:srgbClr val="99ccff"/>
              </a:solidFill>
              <a:miter/>
            </a:ln>
          </p:spPr>
        </p:cxnSp>
        <p:cxnSp>
          <p:nvCxnSpPr>
            <p:cNvPr id="129" name="_s75786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476520" y="2976480"/>
              <a:ext cx="814320" cy="2093760"/>
            </a:xfrm>
            <a:prstGeom prst="bentConnector3">
              <a:avLst>
                <a:gd name="adj1" fmla="val 13622"/>
              </a:avLst>
            </a:prstGeom>
            <a:ln w="28440">
              <a:solidFill>
                <a:srgbClr val="99ccff"/>
              </a:solidFill>
              <a:miter/>
            </a:ln>
          </p:spPr>
        </p:cxnSp>
        <p:sp>
          <p:nvSpPr>
            <p:cNvPr id="128" name="_s75782"/>
            <p:cNvSpPr/>
            <p:nvPr/>
          </p:nvSpPr>
          <p:spPr>
            <a:xfrm>
              <a:off x="3135960" y="198900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 u="sng">
                  <a:solidFill>
                    <a:srgbClr val="99ccff"/>
                  </a:solidFill>
                  <a:uFillTx/>
                  <a:latin typeface="Georgia"/>
                </a:rPr>
                <a:t>Колебания</a:t>
              </a:r>
              <a:endParaRPr b="0" lang="en-US" sz="43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0" name="_s75783"/>
            <p:cNvSpPr/>
            <p:nvPr/>
          </p:nvSpPr>
          <p:spPr>
            <a:xfrm>
              <a:off x="1042920" y="443052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99ccff"/>
                  </a:solidFill>
                  <a:latin typeface="Georgia"/>
                </a:rPr>
                <a:t>Затухающие</a:t>
              </a:r>
              <a:endParaRPr b="0" lang="en-US" sz="31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" name="_s75784"/>
            <p:cNvSpPr/>
            <p:nvPr/>
          </p:nvSpPr>
          <p:spPr>
            <a:xfrm>
              <a:off x="5230080" y="4430520"/>
              <a:ext cx="3588840" cy="1627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99ccff"/>
                  </a:solidFill>
                  <a:latin typeface="Georgia"/>
                </a:rPr>
                <a:t>Незатухающие</a:t>
              </a:r>
              <a:endParaRPr b="0" lang="en-US" sz="31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1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37:13Z</dcterms:created>
  <dc:creator>Ирина</dc:creator>
  <dc:description/>
  <dc:language>en-US</dc:language>
  <cp:lastModifiedBy>тмг групп</cp:lastModifiedBy>
  <dcterms:modified xsi:type="dcterms:W3CDTF">2009-12-17T00:41:05Z</dcterms:modified>
  <cp:revision>96</cp:revision>
  <dc:subject/>
  <dc:title>Слайд 1</dc:title>
</cp:coreProperties>
</file>