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2F3D-BFE3-46FD-8518-46854A64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A6250-163C-4048-A027-2AAD2B6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692B-3935-44E6-A968-E767FB4E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D403A-B7BE-4DBD-A4F1-D2F031CA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D539-728A-413C-8831-42287C3B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0A4A-1AD4-4F9F-BF5D-D56D89C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2D18-9268-4717-8E6F-0B5CAFB8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A30-0C47-4DA7-935D-50ADE5D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C748-6E03-449A-99C2-B2B4640C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EAB-FC78-4428-BD31-A31DC3BB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B2C6-2A6B-40A2-83B4-8CDC49D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F9B4-FA5C-4EE3-8DF8-17FCAB2F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013B-225C-417E-B7ED-F156122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7C35-05D9-421F-92ED-625DC34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C9F-712D-429E-BC70-19E117E5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4467-0DCC-48E7-8B6F-81CB2E16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0C8A-4D77-4225-AAC8-30C05621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EAF1-2C3A-41D5-8805-326876F6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3AA5-9E17-4EAB-8CE7-1949B2A6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F5C2-DF0A-4D13-872D-D44EB30F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F603-387F-4DAA-9A70-F7379990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E311-9411-45B9-B7E7-6A7F205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5551-B73C-43B5-8C7B-46D80EE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C1C56-1FA4-4344-A0E7-4774765A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C8A-01B1-4F57-89BA-93CFC3295A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5739-2FE9-4AEA-8B83-4342DD5901F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7a5"/>
                </a:solidFill>
                <a:latin typeface="Times New Roman"/>
              </a:rPr>
              <a:t>Подмосковный </a:t>
            </a:r>
            <a:br>
              <a:rPr sz="6000"/>
            </a:br>
            <a:r>
              <a:rPr b="0" lang="ru-RU" sz="6000" spc="-1" strike="noStrike">
                <a:solidFill>
                  <a:srgbClr val="00b7a5"/>
                </a:solidFill>
                <a:latin typeface="Times New Roman"/>
              </a:rPr>
              <a:t>народный</a:t>
            </a:r>
            <a:br>
              <a:rPr sz="6000"/>
            </a:br>
            <a:r>
              <a:rPr b="0" lang="ru-RU" sz="6000" spc="-1" strike="noStrike">
                <a:solidFill>
                  <a:srgbClr val="00b7a5"/>
                </a:solidFill>
                <a:latin typeface="Times New Roman"/>
              </a:rPr>
              <a:t>промысел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7a5"/>
                </a:solidFill>
                <a:latin typeface="Times New Roman"/>
              </a:rPr>
              <a:t>Федоскинская </a:t>
            </a:r>
            <a:br>
              <a:rPr sz="4000"/>
            </a:br>
            <a:r>
              <a:rPr b="0" lang="ru-RU" sz="4000" spc="-1" strike="noStrike">
                <a:solidFill>
                  <a:srgbClr val="00b7a5"/>
                </a:solidFill>
                <a:latin typeface="Times New Roman"/>
              </a:rPr>
              <a:t>лаковая шкатулка</a:t>
            </a:r>
            <a:endParaRPr b="0" lang="en-US" sz="40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83560" cy="4487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Сергиево-Посадская матрёшка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5840" cy="449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Богородская игрушка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68520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Жостовский поднос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989680" cy="449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Гжельский фарфор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99120" cy="4576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Дулёвский фарфор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481800" cy="440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7a5"/>
                </a:solidFill>
                <a:latin typeface="Times New Roman"/>
              </a:rPr>
              <a:t>Павлово-Посадский платок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7a5"/>
                </a:solidFill>
                <a:latin typeface="Times New Roman"/>
              </a:rPr>
              <a:t>КОНЕЦ</a:t>
            </a:r>
            <a:endParaRPr b="0" lang="en-US" sz="9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53440" cy="5569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68360" y="368280"/>
            <a:ext cx="8136000" cy="6105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5344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7a5"/>
                </a:solidFill>
                <a:latin typeface="Times New Roman"/>
              </a:rPr>
              <a:t>ОТВЕТЫ</a:t>
            </a:r>
            <a:endParaRPr b="0" lang="en-US" sz="9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2:47:11Z</dcterms:created>
  <dc:creator>Галина Анатольевна</dc:creator>
  <dc:description/>
  <cp:keywords/>
  <dc:language>en-US</dc:language>
  <cp:lastModifiedBy>Галина Анатольевна</cp:lastModifiedBy>
  <dcterms:modified xsi:type="dcterms:W3CDTF">2009-12-07T21:09:43Z</dcterms:modified>
  <cp:revision>8</cp:revision>
  <dc:subject/>
  <dc:title>Подмосковный  народный промысе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49</vt:lpwstr>
  </property>
</Properties>
</file>