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B76E-C01F-4468-9E35-71DA27C1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A728-7191-4985-8FB7-BE29F154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07A6-F428-4286-BB9C-0C0F50C0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00D3-8981-438D-B6FA-B0595066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841-70F6-42F6-8F55-7BC76FEA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B077-DFC0-4C95-A036-727A079C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93F3-22EC-4658-9882-E8356BBC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6AD6-4E8B-447A-B159-1DF296D7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6009-14AC-4F88-8D6F-0A8346A7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15FF-E56A-49D6-89D2-ED79685A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9577-F670-44CE-ABDE-C0866B1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81CB-0AF3-4447-937F-D8C27A73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8B62-4C23-4E3F-A58B-2A4852B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B11A-6EC1-41F1-8812-F5FC67A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C031-AFB1-4E51-9C33-E07F86E1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A26F-1B68-42DD-9292-F9431D77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D7AE-2D77-41BF-A95A-4E7F0141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7F11-45AF-4901-876B-D2AFB5C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90E8-CBD5-4DE0-9ACE-18B42F8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F740-5757-4BDC-82A4-632BCBB4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DDC5-D93E-4C9F-A2A7-E4C2B148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DABA-B6B6-44CE-A024-1BFD63D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1A30-A6C1-4652-A630-30A1221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2138-1614-405B-AA44-A9EE4FA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4697-A19A-41B0-B119-B223609F7E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F41D-091F-45B4-BFE3-5E15ED0631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7a5"/>
                </a:solidFill>
                <a:latin typeface="Times New Roman"/>
              </a:rPr>
              <a:t>Подмосковный </a:t>
            </a:r>
            <a:br>
              <a:rPr sz="6000"/>
            </a:br>
            <a:r>
              <a:rPr b="0" lang="ru-RU" sz="6000" spc="-1" strike="noStrike">
                <a:solidFill>
                  <a:srgbClr val="00b7a5"/>
                </a:solidFill>
                <a:latin typeface="Times New Roman"/>
              </a:rPr>
              <a:t>народный</a:t>
            </a:r>
            <a:br>
              <a:rPr sz="6000"/>
            </a:br>
            <a:r>
              <a:rPr b="0" lang="ru-RU" sz="6000" spc="-1" strike="noStrike">
                <a:solidFill>
                  <a:srgbClr val="00b7a5"/>
                </a:solidFill>
                <a:latin typeface="Times New Roman"/>
              </a:rPr>
              <a:t>промысел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7a5"/>
                </a:solidFill>
                <a:latin typeface="Times New Roman"/>
              </a:rPr>
              <a:t>Федоскинская </a:t>
            </a:r>
            <a:br>
              <a:rPr sz="4000"/>
            </a:br>
            <a:r>
              <a:rPr b="0" lang="ru-RU" sz="4000" spc="-1" strike="noStrike">
                <a:solidFill>
                  <a:srgbClr val="00b7a5"/>
                </a:solidFill>
                <a:latin typeface="Times New Roman"/>
              </a:rPr>
              <a:t>лаковая шкатулка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983560" cy="4487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Сергиево-Посадская матрёшка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5840" cy="449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Богородская игрушка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68520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Жостовский поднос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989680" cy="449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Гжельский фарфор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991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Дулёвский фарфор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481800" cy="440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Павлово-Посадский платок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7a5"/>
                </a:solidFill>
                <a:latin typeface="Times New Roman"/>
              </a:rPr>
              <a:t>КОНЕЦ</a:t>
            </a:r>
            <a:endParaRPr b="0" lang="en-US" sz="96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56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68360" y="368280"/>
            <a:ext cx="8136000" cy="610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5344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7a5"/>
                </a:solidFill>
                <a:latin typeface="Times New Roman"/>
              </a:rPr>
              <a:t>ОТВЕТЫ</a:t>
            </a:r>
            <a:endParaRPr b="0" lang="en-US" sz="96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2:47:11Z</dcterms:created>
  <dc:creator>Галина Анатольевна</dc:creator>
  <dc:description/>
  <cp:keywords/>
  <dc:language>en-US</dc:language>
  <cp:lastModifiedBy>Галина Анатольевна</cp:lastModifiedBy>
  <dcterms:modified xsi:type="dcterms:W3CDTF">2009-12-07T21:09:43Z</dcterms:modified>
  <cp:revision>8</cp:revision>
  <dc:subject/>
  <dc:title>Подмосковный  народный промыс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49</vt:lpwstr>
  </property>
</Properties>
</file>