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1DB-8377-411D-BECD-A79FD73E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3E6-80A7-4338-A40E-84F64A7B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579-C57A-49E0-A37A-5FA64C91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07F-063B-4546-9999-F2BD2E2B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2121-D0CD-4165-990C-59EFFECA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B5FF-832E-4145-9F81-3AFB90C4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D894-1D21-4B26-B821-89EA07DC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0079-53FE-4F2F-9D8B-3C9BDE74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5EE4-8656-4964-B815-D280F079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3E70-DC1F-46D0-B26C-094F03A6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B8C2-C02E-4EDD-92E8-719FC4B3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5B3-2BF8-4591-ABAD-A1A320E0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777D-E54B-4965-AE8B-3AB9896D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BA15-B893-4825-845A-74AD63ED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F354-EC00-461B-A749-25CF4D0E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3731-8AD8-4F20-B459-BF6E6003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7E20-25D0-4A75-A0C2-21D9E181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4A92-D4F2-4234-8DFB-7561C135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8DE45-6464-474F-8221-79C80A83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249F4-D16C-4F0F-9B80-13670616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49646-EEC5-4E53-933D-CDDC3FAD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CAC08-65AF-4186-B72C-97084452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D58-DE30-465A-8957-5EBDBD96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3DABF-F818-400A-A2B0-0ED82A20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35CB-3D3C-434E-9108-999BED0F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C0B2E-C34A-42A0-8FF3-EDFA0A07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D2C53-9352-4D03-8C72-D4625E4B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4F53B-2243-4FC3-9224-B1F0D144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F3D6-1315-4E65-A398-48D532DB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AB74B-4ABD-4188-B941-A4872232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ED55-BD24-4EB4-BEAE-AC9B2F88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AA140-F72C-497B-819F-699E9C22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6332-CC54-46B2-A06E-497622C1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A4B-E022-4700-B5F3-CF58C044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2C555-805C-471C-9FCC-D2DC1949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C5D6B-3B21-40EC-83F8-AC6F4371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037C6-4169-4B9D-AB0D-9C99D617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E604E-470F-4E72-BDC8-16D84868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655B2-7DD7-4920-A94F-E6FAA8D9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12301-A31B-47F4-9F3C-A2639F37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126B7-EEC0-4A80-B216-10D8318F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85B9C-D80D-40C2-B2DD-4C4695F8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E4161-7C00-4DE2-B333-3C44753E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F8D3B-BA53-4BB2-B555-A6068942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DB0-61CC-4FA5-8F7F-D75E5A4D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2ECEF-2F7D-4308-936D-7D77AA20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67EDA-10B6-4106-817C-15FCAF9A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387CA-00C3-4B99-B7BE-4EA6B251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C946C-8E28-440E-984F-790A493A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F4532-A4F5-4299-9DDA-B4A3F182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8FBE6-05EA-420D-80F9-CDC2B913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E1EC4-2E52-4EC3-824F-B0C664B7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6D0C4-3D3D-455D-99B8-F0C9FE9D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EB918-F7ED-45B0-82F9-073CFF23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E7D3B-A226-4476-A6CA-EE453DA9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588-56E7-4C10-91B3-88ED4AA4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0CB32-C898-4440-B007-E5762C1E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B1C-6D0F-49F9-BFDA-AA3A74F8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0D6-8D70-4658-B304-23C9BEC2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785-6423-4B9F-8EF8-E3949FD4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FE52-CC3B-4CA3-8063-DEEB96D63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755E-9353-4B17-B62A-C5A626F9372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ADE1-C1D1-4CA2-A388-A8E8FF24F33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58C0-AA34-441F-849C-27DAABEA7F7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D5D2-A7A8-4DBA-B55D-F0C5AA1E0C1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10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2"/>
          <a:stretch/>
        </p:blipFill>
        <p:spPr>
          <a:xfrm>
            <a:off x="438120" y="3956040"/>
            <a:ext cx="8559720" cy="176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-30240" y="208080"/>
            <a:ext cx="9747360" cy="3303360"/>
          </a:xfrm>
          <a:prstGeom prst="rect">
            <a:avLst/>
          </a:prstGeom>
          <a:ln w="0">
            <a:noFill/>
          </a:ln>
        </p:spPr>
      </p:pic>
      <p:pic>
        <p:nvPicPr>
          <p:cNvPr id="263" name="эстэ калдыр.wav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4" descr=""/>
          <p:cNvPicPr/>
          <p:nvPr/>
        </p:nvPicPr>
        <p:blipFill>
          <a:blip r:embed="rId4"/>
          <a:stretch/>
        </p:blipFill>
        <p:spPr>
          <a:xfrm>
            <a:off x="3657600" y="3733920"/>
            <a:ext cx="2286000" cy="25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481640" y="13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4481640" y="456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3200400" y="762120"/>
            <a:ext cx="3505320" cy="1447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alibri"/>
              </a:rPr>
              <a:t>сыйфат дәрәҗәлә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456440" y="9036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4456440" y="9036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4456440" y="9036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838080" y="3886200"/>
            <a:ext cx="125748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000000"/>
                </a:solidFill>
                <a:latin typeface="Calibri"/>
              </a:rPr>
              <a:t>г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11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2362320" y="4114800"/>
            <a:ext cx="137160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чагышты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-рак, -рә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3962520" y="4191120"/>
            <a:ext cx="16002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артыкл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-п, -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бик, иң  сүзлә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кабатла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6324480" y="4191120"/>
            <a:ext cx="2210040" cy="1828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кимл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-кылт –кел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-гылт –гел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--ча, -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Прямая со стрелкой 13"/>
          <p:cNvCxnSpPr/>
          <p:nvPr/>
        </p:nvCxnSpPr>
        <p:spPr>
          <a:xfrm flipH="1">
            <a:off x="1599480" y="1827720"/>
            <a:ext cx="2591640" cy="1524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7" name="Прямая со стрелкой 15"/>
          <p:cNvCxnSpPr/>
          <p:nvPr/>
        </p:nvCxnSpPr>
        <p:spPr>
          <a:xfrm>
            <a:off x="4647240" y="1981080"/>
            <a:ext cx="76680" cy="1905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8" name="Прямая со стрелкой 17"/>
          <p:cNvCxnSpPr/>
          <p:nvPr/>
        </p:nvCxnSpPr>
        <p:spPr>
          <a:xfrm flipH="1">
            <a:off x="3428280" y="1980720"/>
            <a:ext cx="1067400" cy="2057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9" name="Прямая со стрелкой 19"/>
          <p:cNvCxnSpPr/>
          <p:nvPr/>
        </p:nvCxnSpPr>
        <p:spPr>
          <a:xfrm>
            <a:off x="5409000" y="1828440"/>
            <a:ext cx="2210760" cy="2439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600" spc="-1" strike="noStrike"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pic>
        <p:nvPicPr>
          <p:cNvPr id="281" name="аралашу тукт.wav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50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2362320" y="1066680"/>
            <a:ext cx="601956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298440" y="706320"/>
            <a:ext cx="8321760" cy="3646440"/>
          </a:xfrm>
          <a:prstGeom prst="rect">
            <a:avLst/>
          </a:prstGeom>
          <a:ln w="0">
            <a:noFill/>
          </a:ln>
        </p:spPr>
      </p:pic>
      <p:pic>
        <p:nvPicPr>
          <p:cNvPr id="288" name="йомгаклау тукт.wav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3" descr=""/>
          <p:cNvPicPr/>
          <p:nvPr/>
        </p:nvPicPr>
        <p:blipFill>
          <a:blip r:embed="rId3"/>
          <a:stretch/>
        </p:blipFill>
        <p:spPr>
          <a:xfrm>
            <a:off x="3200400" y="380988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50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2"/>
          <a:stretch/>
        </p:blipFill>
        <p:spPr>
          <a:xfrm>
            <a:off x="378000" y="420840"/>
            <a:ext cx="8315280" cy="4767120"/>
          </a:xfrm>
          <a:prstGeom prst="rect">
            <a:avLst/>
          </a:prstGeom>
          <a:ln w="0">
            <a:noFill/>
          </a:ln>
        </p:spPr>
      </p:pic>
      <p:pic>
        <p:nvPicPr>
          <p:cNvPr id="291" name="эй эше тукталыш 2.wav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3" descr=""/>
          <p:cNvPicPr/>
          <p:nvPr/>
        </p:nvPicPr>
        <p:blipFill>
          <a:blip r:embed="rId4"/>
          <a:stretch/>
        </p:blipFill>
        <p:spPr>
          <a:xfrm>
            <a:off x="3200400" y="419112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25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ыйфат(имя прилагательное)-предметның билгесен белдерә.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2" descr=""/>
          <p:cNvPicPr/>
          <p:nvPr/>
        </p:nvPicPr>
        <p:blipFill>
          <a:blip r:embed="rId2"/>
          <a:stretch/>
        </p:blipFill>
        <p:spPr>
          <a:xfrm>
            <a:off x="603360" y="5559480"/>
            <a:ext cx="8242200" cy="92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2"/>
          <a:stretch/>
        </p:blipFill>
        <p:spPr>
          <a:xfrm>
            <a:off x="450720" y="115920"/>
            <a:ext cx="8321760" cy="4767120"/>
          </a:xfrm>
          <a:prstGeom prst="rect">
            <a:avLst/>
          </a:prstGeom>
          <a:ln w="0">
            <a:noFill/>
          </a:ln>
        </p:spPr>
      </p:pic>
      <p:pic>
        <p:nvPicPr>
          <p:cNvPr id="295" name="ял иту тукт.wav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3" descr=""/>
          <p:cNvPicPr/>
          <p:nvPr/>
        </p:nvPicPr>
        <p:blipFill>
          <a:blip r:embed="rId4"/>
          <a:stretch/>
        </p:blipFill>
        <p:spPr>
          <a:xfrm>
            <a:off x="2743200" y="3733920"/>
            <a:ext cx="2971800" cy="22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50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773080"/>
            <a:ext cx="8305920" cy="370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0" spc="-1" strike="noStrike">
              <a:solidFill>
                <a:srgbClr val="072428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2"/>
          <a:stretch/>
        </p:blipFill>
        <p:spPr>
          <a:xfrm>
            <a:off x="328680" y="560520"/>
            <a:ext cx="13515840" cy="3030480"/>
          </a:xfrm>
          <a:prstGeom prst="rect">
            <a:avLst/>
          </a:prstGeom>
          <a:ln w="0">
            <a:noFill/>
          </a:ln>
        </p:spPr>
      </p:pic>
      <p:pic>
        <p:nvPicPr>
          <p:cNvPr id="238" name="исенэ тешер.wav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"/>
          <p:cNvPicPr/>
          <p:nvPr/>
        </p:nvPicPr>
        <p:blipFill>
          <a:blip r:embed="rId4"/>
          <a:stretch/>
        </p:blipFill>
        <p:spPr>
          <a:xfrm>
            <a:off x="2971800" y="3962520"/>
            <a:ext cx="3276720" cy="22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5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Заголовок 1"/>
          <p:cNvSpPr/>
          <p:nvPr/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Заголовок 6" descr=""/>
          <p:cNvPicPr/>
          <p:nvPr/>
        </p:nvPicPr>
        <p:blipFill>
          <a:blip r:embed="rId2"/>
          <a:stretch/>
        </p:blipFill>
        <p:spPr>
          <a:xfrm>
            <a:off x="-6480" y="298440"/>
            <a:ext cx="83217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2514600" y="1828800"/>
          <a:ext cx="4186080" cy="3070080"/>
        </p:xfrm>
        <a:graphic>
          <a:graphicData uri="http://schemas.openxmlformats.org/drawingml/2006/table">
            <a:tbl>
              <a:tblPr/>
              <a:tblGrid>
                <a:gridCol w="623880"/>
                <a:gridCol w="658800"/>
                <a:gridCol w="173520"/>
                <a:gridCol w="674280"/>
                <a:gridCol w="563760"/>
                <a:gridCol w="565200"/>
                <a:gridCol w="926640"/>
              </a:tblGrid>
              <a:tr h="533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957480" y="2894040"/>
          <a:ext cx="208080" cy="731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970440" y="3143160"/>
          <a:ext cx="263520" cy="365040"/>
        </p:xfrm>
        <a:graphic>
          <a:graphicData uri="http://schemas.openxmlformats.org/drawingml/2006/table">
            <a:tbl>
              <a:tblPr/>
              <a:tblGrid>
                <a:gridCol w="26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2"/>
          <a:stretch/>
        </p:blipFill>
        <p:spPr>
          <a:xfrm>
            <a:off x="420840" y="512640"/>
            <a:ext cx="8600760" cy="3303720"/>
          </a:xfrm>
          <a:prstGeom prst="rect">
            <a:avLst/>
          </a:prstGeom>
          <a:ln w="0">
            <a:noFill/>
          </a:ln>
        </p:spPr>
      </p:pic>
      <p:pic>
        <p:nvPicPr>
          <p:cNvPr id="246" name="узлэштеру тукт.wav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3" descr=""/>
          <p:cNvPicPr/>
          <p:nvPr/>
        </p:nvPicPr>
        <p:blipFill>
          <a:blip r:embed="rId4"/>
          <a:stretch/>
        </p:blipFill>
        <p:spPr>
          <a:xfrm>
            <a:off x="3352680" y="396252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5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2"/>
          <a:stretch/>
        </p:blipFill>
        <p:spPr>
          <a:xfrm>
            <a:off x="-55440" y="30240"/>
            <a:ext cx="8748720" cy="571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4481640" y="13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4481640" y="456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380880" y="121932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Әнием минем матур,                   Мин елышам әниг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Күзләре якты, көләч.                    Әни миңа елы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Шундый күңелле була,                Битләре аның кайн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Ул өйгә кайтып кергәч.                Ә куллары йом-йомшак</a:t>
            </a:r>
            <a:r>
              <a:rPr b="0" lang="tt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4481640" y="13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4481640" y="456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8"/>
          <p:cNvSpPr/>
          <p:nvPr/>
        </p:nvSpPr>
        <p:spPr>
          <a:xfrm>
            <a:off x="2286000" y="2259000"/>
            <a:ext cx="4572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6"/>
          <p:cNvSpPr/>
          <p:nvPr/>
        </p:nvSpPr>
        <p:spPr>
          <a:xfrm>
            <a:off x="2286000" y="838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Сыйфатның дәрәҗәләрен билгелә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066680" y="2057400"/>
          <a:ext cx="6705720" cy="271476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  <a:gridCol w="1676520"/>
              </a:tblGrid>
              <a:tr h="97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ди дәрәҗ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агыштыру дәрәҗә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ртыклык дәрәҗә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имлек дәрәҗә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вы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ш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и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өр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уйла таб тукт.wav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1523880" y="1397160"/>
          <a:ext cx="6705720" cy="298908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  <a:gridCol w="1676520"/>
              </a:tblGrid>
              <a:tr h="97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ди дәрәҗ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агыштыру дәрәҗә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ртыклык дәрәҗә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имлек дәрәҗә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вы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ш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и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өр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вырр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шелрә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иегрә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дирә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өресрә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рыр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ик авы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мь-яш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ик би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ик г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өп-дөр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п-с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выр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шькел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иекч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дич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өресч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ргыл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Завуч</dc:creator>
  <dc:description/>
  <dc:language>en-US</dc:language>
  <cp:lastModifiedBy>Санек</cp:lastModifiedBy>
  <dcterms:modified xsi:type="dcterms:W3CDTF">2012-03-12T20:50:48Z</dcterms:modified>
  <cp:revision>63</cp:revision>
  <dc:subject/>
  <dc:title>Слайд 1</dc:title>
</cp:coreProperties>
</file>