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9EC-4C0D-4A6C-9F85-DAE0C7BC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F40-3025-42FF-A238-86DF94E6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90B-7851-4092-9FE7-2831709B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4E1-7CD1-42B8-9EED-252912C2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516F-1866-4960-995A-7712C280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C723-E0D1-40A9-B1A7-75133034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572B-368D-4645-9CB2-3153414B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BC7C-1A4A-4DA8-A785-D0108201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2385-0587-4F0B-ACF2-CB87D699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25E5-3DB4-467D-AF63-26BE50BB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87DD-820C-4C71-BBC4-9021C633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B57-5202-47E0-9147-EB4AC759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AEF3-6921-41A0-B942-1923277E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2CB4-161D-4CE5-92C4-901BAE05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BE17-107E-43C4-82C1-B8314B91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017F-9074-4F23-BDD6-360F1D82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2C5E-D97C-4A02-B220-E92F337A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15A64-DC13-4ABA-BB26-0C0B39E6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EB77-04CF-4EAA-B57F-F7FA692C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613C-05EF-4766-A701-6026E3C4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6553-21AC-4F53-A94A-44D36A06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43E7-DB80-4202-8B90-3D831241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9CD-8E32-4A8F-AEC3-A8AD7AC1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3DBA4-007B-457E-86D0-2C8BAF10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8482-E389-4D4D-ACC1-F53928E9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E088-6815-49EA-9982-69E77AA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7304-F494-4A7D-A64F-87DDD493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FA6E3-B395-4194-90AD-5AE807C6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27AB-AB71-4A2D-B2FD-4E04AF1D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050F-AA0F-48CB-9B19-3C7B6A32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0A5B0-BC71-4949-B2E1-B6709A74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20DAF-9791-4396-AE9C-16B2ED4D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17FF7-AC6F-4B3C-9A8E-9A4C2438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B2B-9257-43B5-91BD-DA7D2F66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8C5A2-22DA-43B7-AC7C-E017AB5C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FB9B-C167-42CE-A6F7-EA11F53C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423E-F8EE-495F-BEA8-7D84CED6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84E98-AF91-4AB7-8F82-4C6457AC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FE327-34D0-46D8-AD4E-E14C96FF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8AFF6-7026-46EC-8E63-EA6EC726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BF99-BC61-43A4-9147-1B65FE4A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01AD-4BCE-4FFA-9FEC-8C95558D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EB355-A213-4801-BF77-F2730846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E2C1B-8D4C-4DF7-8E46-B4A67197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77F-2F6A-4C24-9C74-B7EBCEE5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2981F-8003-4E28-83CD-B5A4F977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E2165-BAC4-4862-B272-2FD072CD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DF4C2-B9EC-4A31-AD92-B56C0B28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2D8C9-DFD7-459C-9B4E-B6701854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94DE5-7624-4406-8D7F-5E82CAF6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FB45-EE4F-4448-84C9-48B88247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B1F2-D326-4060-84FF-1F353507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A73FA-C6F5-4003-97B6-9D66C46D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10BFD-8094-4616-8082-123057EA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5D012-7C71-4A19-B833-87D539A7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FDD-4C44-40D8-9FF7-AE8962FA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35A0A-C787-44A8-887D-FCD45799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27C-CB0F-43E7-92CD-B1C4E8D9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8F4-A91E-41F3-891D-A8CD37A3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104-F554-47AA-8AEE-803A1173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000E-E0A4-43CD-8DE9-CB79BB619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DC75-A49C-4008-9288-D87D1CF312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DEEE-BDCC-47E8-B417-14EEE6EBC35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6B33-429F-40D8-8D84-98DC336559E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C8A3-8D4A-488C-95CE-165076575D9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image" Target="../media/image10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2"/>
          <a:stretch/>
        </p:blipFill>
        <p:spPr>
          <a:xfrm>
            <a:off x="438120" y="3956040"/>
            <a:ext cx="8559720" cy="176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-30240" y="208080"/>
            <a:ext cx="9747360" cy="3303360"/>
          </a:xfrm>
          <a:prstGeom prst="rect">
            <a:avLst/>
          </a:prstGeom>
          <a:ln w="0">
            <a:noFill/>
          </a:ln>
        </p:spPr>
      </p:pic>
      <p:pic>
        <p:nvPicPr>
          <p:cNvPr id="263" name="эстэ калдыр.wav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" descr=""/>
          <p:cNvPicPr/>
          <p:nvPr/>
        </p:nvPicPr>
        <p:blipFill>
          <a:blip r:embed="rId4"/>
          <a:stretch/>
        </p:blipFill>
        <p:spPr>
          <a:xfrm>
            <a:off x="3657600" y="3733920"/>
            <a:ext cx="228600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481640" y="13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4481640" y="456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3200400" y="762120"/>
            <a:ext cx="3505320" cy="1447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Calibri"/>
              </a:rPr>
              <a:t>сыйфат дәрәҗәлә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456440" y="9036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456440" y="9036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456440" y="9036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838080" y="3886200"/>
            <a:ext cx="12574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600" spc="-1" strike="noStrike">
                <a:solidFill>
                  <a:srgbClr val="000000"/>
                </a:solidFill>
                <a:latin typeface="Calibri"/>
              </a:rPr>
              <a:t>г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t-RU" sz="11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2362320" y="4114800"/>
            <a:ext cx="1371600" cy="1447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чагышты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-рак, -рә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3962520" y="4191120"/>
            <a:ext cx="16002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артыклы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-п, -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бик, иң  сүзлә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кабатла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6324480" y="4191120"/>
            <a:ext cx="2210040" cy="1828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кимл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-кылт –кел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-гылт –гел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600" spc="-1" strike="noStrike">
                <a:solidFill>
                  <a:srgbClr val="000000"/>
                </a:solidFill>
                <a:latin typeface="Calibri"/>
              </a:rPr>
              <a:t>--ча, -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Прямая со стрелкой 13"/>
          <p:cNvCxnSpPr/>
          <p:nvPr/>
        </p:nvCxnSpPr>
        <p:spPr>
          <a:xfrm flipH="1">
            <a:off x="1599480" y="1827720"/>
            <a:ext cx="2591640" cy="15246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7" name="Прямая со стрелкой 15"/>
          <p:cNvCxnSpPr/>
          <p:nvPr/>
        </p:nvCxnSpPr>
        <p:spPr>
          <a:xfrm>
            <a:off x="4647240" y="1981080"/>
            <a:ext cx="76680" cy="19058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8" name="Прямая со стрелкой 17"/>
          <p:cNvCxnSpPr/>
          <p:nvPr/>
        </p:nvCxnSpPr>
        <p:spPr>
          <a:xfrm flipH="1">
            <a:off x="3428280" y="1980720"/>
            <a:ext cx="1067400" cy="20577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79" name="Прямая со стрелкой 19"/>
          <p:cNvCxnSpPr/>
          <p:nvPr/>
        </p:nvCxnSpPr>
        <p:spPr>
          <a:xfrm>
            <a:off x="5409000" y="1828440"/>
            <a:ext cx="2210760" cy="2439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pic>
        <p:nvPicPr>
          <p:cNvPr id="281" name="аралашу тукт.wav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50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2362320" y="1066680"/>
            <a:ext cx="60195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298440" y="706320"/>
            <a:ext cx="8321760" cy="3646440"/>
          </a:xfrm>
          <a:prstGeom prst="rect">
            <a:avLst/>
          </a:prstGeom>
          <a:ln w="0">
            <a:noFill/>
          </a:ln>
        </p:spPr>
      </p:pic>
      <p:pic>
        <p:nvPicPr>
          <p:cNvPr id="288" name="йомгаклау тукт.wav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3" descr=""/>
          <p:cNvPicPr/>
          <p:nvPr/>
        </p:nvPicPr>
        <p:blipFill>
          <a:blip r:embed="rId3"/>
          <a:stretch/>
        </p:blipFill>
        <p:spPr>
          <a:xfrm>
            <a:off x="3200400" y="38098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50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2"/>
          <a:stretch/>
        </p:blipFill>
        <p:spPr>
          <a:xfrm>
            <a:off x="378000" y="420840"/>
            <a:ext cx="8315280" cy="4767120"/>
          </a:xfrm>
          <a:prstGeom prst="rect">
            <a:avLst/>
          </a:prstGeom>
          <a:ln w="0">
            <a:noFill/>
          </a:ln>
        </p:spPr>
      </p:pic>
      <p:pic>
        <p:nvPicPr>
          <p:cNvPr id="291" name="эй эше тукталыш 2.wav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3" descr=""/>
          <p:cNvPicPr/>
          <p:nvPr/>
        </p:nvPicPr>
        <p:blipFill>
          <a:blip r:embed="rId4"/>
          <a:stretch/>
        </p:blipFill>
        <p:spPr>
          <a:xfrm>
            <a:off x="3200400" y="419112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25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7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ыйфат(имя прилагательное)-предметның билгесен белдерә.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2" descr=""/>
          <p:cNvPicPr/>
          <p:nvPr/>
        </p:nvPicPr>
        <p:blipFill>
          <a:blip r:embed="rId2"/>
          <a:stretch/>
        </p:blipFill>
        <p:spPr>
          <a:xfrm>
            <a:off x="603360" y="5559480"/>
            <a:ext cx="8242200" cy="92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2"/>
          <a:stretch/>
        </p:blipFill>
        <p:spPr>
          <a:xfrm>
            <a:off x="450720" y="115920"/>
            <a:ext cx="8321760" cy="4767120"/>
          </a:xfrm>
          <a:prstGeom prst="rect">
            <a:avLst/>
          </a:prstGeom>
          <a:ln w="0">
            <a:noFill/>
          </a:ln>
        </p:spPr>
      </p:pic>
      <p:pic>
        <p:nvPicPr>
          <p:cNvPr id="295" name="ял иту тукт.wav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3" descr=""/>
          <p:cNvPicPr/>
          <p:nvPr/>
        </p:nvPicPr>
        <p:blipFill>
          <a:blip r:embed="rId4"/>
          <a:stretch/>
        </p:blipFill>
        <p:spPr>
          <a:xfrm>
            <a:off x="2743200" y="373392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50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773080"/>
            <a:ext cx="8305920" cy="370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0" spc="-1" strike="noStrike">
              <a:solidFill>
                <a:srgbClr val="072428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2"/>
          <a:stretch/>
        </p:blipFill>
        <p:spPr>
          <a:xfrm>
            <a:off x="328680" y="560520"/>
            <a:ext cx="13515840" cy="3030480"/>
          </a:xfrm>
          <a:prstGeom prst="rect">
            <a:avLst/>
          </a:prstGeom>
          <a:ln w="0">
            <a:noFill/>
          </a:ln>
        </p:spPr>
      </p:pic>
      <p:pic>
        <p:nvPicPr>
          <p:cNvPr id="238" name="исенэ тешер.wav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4"/>
          <a:stretch/>
        </p:blipFill>
        <p:spPr>
          <a:xfrm>
            <a:off x="2971800" y="3962520"/>
            <a:ext cx="3276720" cy="2209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5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Заголовок 1"/>
          <p:cNvSpPr/>
          <p:nvPr/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Заголовок 6" descr=""/>
          <p:cNvPicPr/>
          <p:nvPr/>
        </p:nvPicPr>
        <p:blipFill>
          <a:blip r:embed="rId2"/>
          <a:stretch/>
        </p:blipFill>
        <p:spPr>
          <a:xfrm>
            <a:off x="-6480" y="298440"/>
            <a:ext cx="83217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2514600" y="1828800"/>
          <a:ext cx="4186080" cy="3070080"/>
        </p:xfrm>
        <a:graphic>
          <a:graphicData uri="http://schemas.openxmlformats.org/drawingml/2006/table">
            <a:tbl>
              <a:tblPr/>
              <a:tblGrid>
                <a:gridCol w="623880"/>
                <a:gridCol w="658800"/>
                <a:gridCol w="173520"/>
                <a:gridCol w="674280"/>
                <a:gridCol w="563760"/>
                <a:gridCol w="565200"/>
                <a:gridCol w="926640"/>
              </a:tblGrid>
              <a:tr h="533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957480" y="2894040"/>
          <a:ext cx="208080" cy="731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970440" y="3143160"/>
          <a:ext cx="263520" cy="365040"/>
        </p:xfrm>
        <a:graphic>
          <a:graphicData uri="http://schemas.openxmlformats.org/drawingml/2006/table">
            <a:tbl>
              <a:tblPr/>
              <a:tblGrid>
                <a:gridCol w="26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420840" y="512640"/>
            <a:ext cx="8600760" cy="3303720"/>
          </a:xfrm>
          <a:prstGeom prst="rect">
            <a:avLst/>
          </a:prstGeom>
          <a:ln w="0">
            <a:noFill/>
          </a:ln>
        </p:spPr>
      </p:pic>
      <p:pic>
        <p:nvPicPr>
          <p:cNvPr id="246" name="узлэштеру тукт.wav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3" descr=""/>
          <p:cNvPicPr/>
          <p:nvPr/>
        </p:nvPicPr>
        <p:blipFill>
          <a:blip r:embed="rId4"/>
          <a:stretch/>
        </p:blipFill>
        <p:spPr>
          <a:xfrm>
            <a:off x="3352680" y="396252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5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2"/>
          <a:stretch/>
        </p:blipFill>
        <p:spPr>
          <a:xfrm>
            <a:off x="-55440" y="30240"/>
            <a:ext cx="8748720" cy="571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4481640" y="13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4481640" y="456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380880" y="121932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Әнием минем матур,                   Мин елышам әниг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Күзләре якты, көләч.                    Әни миңа ел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Шундый күңелле була,                Битләре аның кайн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Ул өйгә кайтып кергәч.                Ә куллары йом-йомшак</a:t>
            </a:r>
            <a:r>
              <a:rPr b="0" lang="tt-RU" sz="1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4481640" y="13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4481640" y="4561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8"/>
          <p:cNvSpPr/>
          <p:nvPr/>
        </p:nvSpPr>
        <p:spPr>
          <a:xfrm>
            <a:off x="2286000" y="2259000"/>
            <a:ext cx="4572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6"/>
          <p:cNvSpPr/>
          <p:nvPr/>
        </p:nvSpPr>
        <p:spPr>
          <a:xfrm>
            <a:off x="2286000" y="838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ыйфатның дәрәҗәләрен билгелә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066680" y="2057400"/>
          <a:ext cx="6705720" cy="271476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676520"/>
              </a:tblGrid>
              <a:tr h="97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ди дәрәҗ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гыштыру дәрәҗә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ртыклык дәрәҗә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имлек дәрәҗә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вы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ш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өр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уйла таб тукт.wav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1523880" y="1397160"/>
          <a:ext cx="6705720" cy="298908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676520"/>
              </a:tblGrid>
              <a:tr h="977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ди дәрәҗ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агыштыру дәрәҗә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ртыклык дәрәҗә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имлек дәрәҗә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вы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ш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өр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вырр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шелрә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егрә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дирә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өресрә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рыр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к авы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мь-яш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к би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к г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өп-дөр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п-с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выр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шькел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иекч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адич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өресч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аргыл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0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Завуч</dc:creator>
  <dc:description/>
  <dc:language>en-US</dc:language>
  <cp:lastModifiedBy>Санек</cp:lastModifiedBy>
  <dcterms:modified xsi:type="dcterms:W3CDTF">2012-03-12T20:50:48Z</dcterms:modified>
  <cp:revision>63</cp:revision>
  <dc:subject/>
  <dc:title>Слайд 1</dc:title>
</cp:coreProperties>
</file>