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CC7-E8C2-4953-9D2C-41CC966D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E3E-E76E-43EF-B196-7E22AAB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435-4575-45AA-A65C-2A269D27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832-0286-4EE2-B0A2-87948B6D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69B-DD36-4DDE-8171-0D065FF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E52-0545-441A-9C93-27799C4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B0B-BDF4-4B70-AAD9-68E3ED6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B45-B6A7-484A-921E-7406073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3B6-583D-4B82-A5BB-F4DA707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C85-22C7-4AAF-BEC8-7C7C808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A6E-95CC-4F65-B450-28C142E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6B7-8FBD-403B-9ABC-9BFA221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F6E-77A4-4FE2-A18C-4F7F09565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4479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948200" y="5643720"/>
            <a:ext cx="39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 Парахина Ирина Юрь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БОУ сош №537 г.Санкт-Петербург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Я капелька лета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На тоненькой ножке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Плетут для меня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Кузовки и лукошки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Кто любит меня,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Тот и рад поклониться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А имя дала мне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Родная землиц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49413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 algn="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блако 4"/>
          <p:cNvSpPr/>
          <p:nvPr/>
        </p:nvSpPr>
        <p:spPr>
          <a:xfrm>
            <a:off x="179280" y="4265640"/>
            <a:ext cx="2952720" cy="2592360"/>
          </a:xfrm>
          <a:custGeom>
            <a:avLst/>
            <a:gdLst>
              <a:gd name="textAreaLeft" fmla="*/ 406800 w 2952720"/>
              <a:gd name="textAreaRight" fmla="*/ 2336040 w 2952720"/>
              <a:gd name="textAreaTop" fmla="*/ 391320 h 2592360"/>
              <a:gd name="textAreaBottom" fmla="*/ 2080800 h 2592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Равнобедренный треугольник 5"/>
          <p:cNvSpPr/>
          <p:nvPr/>
        </p:nvSpPr>
        <p:spPr>
          <a:xfrm flipV="1">
            <a:off x="7164360" y="4797360"/>
            <a:ext cx="14436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ника -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6092"/>
                </a:solidFill>
                <a:latin typeface="Bookman Old Style"/>
              </a:rPr>
              <a:t>многолетнее травянистое растение семейства розоцветных, дающее сладкие ягоды красного цве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411280" y="3645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Этим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430380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Растение получило название по ягодам, которые нередко почти лежат на зем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Запишите слово, разделите на слоги, поставьте ударение, выделите орфограм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356840" y="1557360"/>
            <a:ext cx="66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-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–ни-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Равнобедренный треугольник 3"/>
          <p:cNvSpPr/>
          <p:nvPr/>
        </p:nvSpPr>
        <p:spPr>
          <a:xfrm flipV="1">
            <a:off x="6084720" y="1196280"/>
            <a:ext cx="14292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61320" y="306864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Транскрипция</a:t>
            </a: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16920" y="4221000"/>
            <a:ext cx="75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[З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м л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н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к а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979640" y="2565360"/>
            <a:ext cx="504720" cy="7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211640" y="2565360"/>
            <a:ext cx="504720" cy="7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6840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Однокоренные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79280" y="112536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ничка, з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н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73680" y="206064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Сочетаемость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08000" y="278136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Bookman Old Style"/>
              </a:rPr>
              <a:t>Вкусная, сладкая, душистая, спелая, красная, растёт,</a:t>
            </a:r>
            <a:r>
              <a:rPr b="1" lang="en-US" sz="4800" spc="-1" strike="noStrike">
                <a:solidFill>
                  <a:srgbClr val="376092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376092"/>
                </a:solidFill>
                <a:latin typeface="Bookman Old Style"/>
              </a:rPr>
              <a:t> собирае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уга 6"/>
          <p:cNvSpPr/>
          <p:nvPr/>
        </p:nvSpPr>
        <p:spPr>
          <a:xfrm>
            <a:off x="4427640" y="1125360"/>
            <a:ext cx="1873080" cy="216000"/>
          </a:xfrm>
          <a:custGeom>
            <a:avLst/>
            <a:gdLst>
              <a:gd name="textAreaLeft" fmla="*/ 6840 w 1873080"/>
              <a:gd name="textAreaRight" fmla="*/ 1873440 w 187308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stroke="0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  <a:lnTo>
                  <a:pt x="936625" y="107950"/>
                </a:lnTo>
                <a:close/>
              </a:path>
              <a:path fill="none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уга 7"/>
          <p:cNvSpPr/>
          <p:nvPr/>
        </p:nvSpPr>
        <p:spPr>
          <a:xfrm>
            <a:off x="395280" y="1125360"/>
            <a:ext cx="1873080" cy="216000"/>
          </a:xfrm>
          <a:custGeom>
            <a:avLst/>
            <a:gdLst>
              <a:gd name="textAreaLeft" fmla="*/ 6840 w 1873080"/>
              <a:gd name="textAreaRight" fmla="*/ 1873440 w 187308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stroke="0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  <a:lnTo>
                  <a:pt x="936625" y="107950"/>
                </a:lnTo>
                <a:close/>
              </a:path>
              <a:path fill="none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530000" y="981000"/>
            <a:ext cx="580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ника из з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П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к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зала хвост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С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б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рём её – т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г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Пр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и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х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дит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 в г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17520" y="1159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Письмо по памя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олнце 3"/>
          <p:cNvSpPr/>
          <p:nvPr/>
        </p:nvSpPr>
        <p:spPr>
          <a:xfrm>
            <a:off x="1187280" y="3544920"/>
            <a:ext cx="6264360" cy="3313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Admin</cp:lastModifiedBy>
  <dcterms:modified xsi:type="dcterms:W3CDTF">2013-01-04T19:18:02Z</dcterms:modified>
  <cp:revision>35</cp:revision>
  <dc:subject/>
  <dc:title>Презентация PowerPoint</dc:title>
</cp:coreProperties>
</file>