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BCA4-A78B-45E9-AD47-46DA318D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4335-37EC-43AB-A3B9-7AC81757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0E7-137A-4B37-A713-5E433E52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A5A-98C9-4880-8241-6385932D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717A-A5CB-4102-BF97-CA567363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825-F624-4F89-AE1F-B28DEA25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E35-6337-470D-9858-1E8FEEB2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CA0-8E16-4AE3-8B36-7742A21E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3F1-7D8F-4ACC-985C-2D9F5C8C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CC03-39DC-4E3B-B4C9-2878FED7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BAE-4A0E-4421-A456-8256E44F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FD8D-D49C-4987-A4AC-5CFA1A49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FE7F-ADF4-44D2-91E2-A299E8EBAC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0" y="463680"/>
            <a:ext cx="9144000" cy="44798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4948200" y="5643720"/>
            <a:ext cx="398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ла Парахина Ирина Юрьев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БОУ сош №537 г.Санкт-Петербург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0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Я капелька лета</a:t>
            </a:r>
            <a:br>
              <a:rPr sz="3200"/>
            </a:b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На тоненькой ножке.</a:t>
            </a:r>
            <a:br>
              <a:rPr sz="3200"/>
            </a:b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Плетут для меня</a:t>
            </a:r>
            <a:br>
              <a:rPr sz="3200"/>
            </a:b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Кузовки и лукошки.</a:t>
            </a:r>
            <a:br>
              <a:rPr sz="3200"/>
            </a:b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Кто любит меня,</a:t>
            </a:r>
            <a:br>
              <a:rPr sz="3200"/>
            </a:b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Тот и рад поклониться.</a:t>
            </a:r>
            <a:br>
              <a:rPr sz="3200"/>
            </a:b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А имя дала мне</a:t>
            </a:r>
            <a:br>
              <a:rPr sz="3200"/>
            </a:br>
            <a:r>
              <a:rPr b="1" i="1" lang="ru-RU" sz="3200" spc="-1" strike="noStrike">
                <a:solidFill>
                  <a:srgbClr val="008000"/>
                </a:solidFill>
                <a:latin typeface="Bookman Old Style"/>
              </a:rPr>
              <a:t>Родная землица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494136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-160920" algn="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76092"/>
                </a:solidFill>
                <a:latin typeface="Bookman Old Style"/>
              </a:rPr>
              <a:t>з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е</a:t>
            </a:r>
            <a:r>
              <a:rPr b="1" lang="ru-RU" sz="7200" spc="-1" strike="noStrike">
                <a:solidFill>
                  <a:srgbClr val="376092"/>
                </a:solidFill>
                <a:latin typeface="Bookman Old Style"/>
              </a:rPr>
              <a:t>мл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я</a:t>
            </a:r>
            <a:r>
              <a:rPr b="1" lang="ru-RU" sz="7200" spc="-1" strike="noStrike">
                <a:solidFill>
                  <a:srgbClr val="376092"/>
                </a:solidFill>
                <a:latin typeface="Bookman Old Style"/>
              </a:rPr>
              <a:t>ни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Облако 4"/>
          <p:cNvSpPr/>
          <p:nvPr/>
        </p:nvSpPr>
        <p:spPr>
          <a:xfrm>
            <a:off x="179280" y="4265640"/>
            <a:ext cx="2952720" cy="2592360"/>
          </a:xfrm>
          <a:custGeom>
            <a:avLst/>
            <a:gdLst>
              <a:gd name="textAreaLeft" fmla="*/ 406800 w 2952720"/>
              <a:gd name="textAreaRight" fmla="*/ 2336040 w 2952720"/>
              <a:gd name="textAreaTop" fmla="*/ 391320 h 2592360"/>
              <a:gd name="textAreaBottom" fmla="*/ 2080800 h 2592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Равнобедренный треугольник 5"/>
          <p:cNvSpPr/>
          <p:nvPr/>
        </p:nvSpPr>
        <p:spPr>
          <a:xfrm flipV="1">
            <a:off x="7164360" y="4797360"/>
            <a:ext cx="144360" cy="503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79280" y="189000"/>
            <a:ext cx="885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76092"/>
                </a:solidFill>
                <a:latin typeface="Bookman Old Style"/>
              </a:rPr>
              <a:t>З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е</a:t>
            </a:r>
            <a:r>
              <a:rPr b="1" lang="ru-RU" sz="7200" spc="-1" strike="noStrike">
                <a:solidFill>
                  <a:srgbClr val="376092"/>
                </a:solidFill>
                <a:latin typeface="Bookman Old Style"/>
              </a:rPr>
              <a:t>мл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я</a:t>
            </a:r>
            <a:r>
              <a:rPr b="1" lang="ru-RU" sz="7200" spc="-1" strike="noStrike">
                <a:solidFill>
                  <a:srgbClr val="376092"/>
                </a:solidFill>
                <a:latin typeface="Bookman Old Style"/>
              </a:rPr>
              <a:t>ника -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376092"/>
                </a:solidFill>
                <a:latin typeface="Bookman Old Style"/>
              </a:rPr>
              <a:t>многолетнее травянистое растение семейства розоцветных, дающее сладкие ягоды красного цвет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2411280" y="364500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man Old Style"/>
              </a:rPr>
              <a:t>Этим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79280" y="4303800"/>
            <a:ext cx="885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Растение получило название по ягодам, которые нередко почти лежат на земл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Запишите слово, разделите на слоги, поставьте ударение, выделите орфограм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1356840" y="1557360"/>
            <a:ext cx="66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76092"/>
                </a:solidFill>
                <a:latin typeface="Bookman Old Style"/>
              </a:rPr>
              <a:t>З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е</a:t>
            </a:r>
            <a:r>
              <a:rPr b="1" lang="ru-RU" sz="7200" spc="-1" strike="noStrike">
                <a:solidFill>
                  <a:srgbClr val="376092"/>
                </a:solidFill>
                <a:latin typeface="Bookman Old Style"/>
              </a:rPr>
              <a:t>м-л</a:t>
            </a:r>
            <a:r>
              <a:rPr b="1" lang="ru-RU" sz="7200" spc="-1" strike="noStrike">
                <a:solidFill>
                  <a:srgbClr val="ff0000"/>
                </a:solidFill>
                <a:latin typeface="Bookman Old Style"/>
              </a:rPr>
              <a:t>я</a:t>
            </a:r>
            <a:r>
              <a:rPr b="1" lang="ru-RU" sz="7200" spc="-1" strike="noStrike">
                <a:solidFill>
                  <a:srgbClr val="376092"/>
                </a:solidFill>
                <a:latin typeface="Bookman Old Style"/>
              </a:rPr>
              <a:t>–ни-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Равнобедренный треугольник 3"/>
          <p:cNvSpPr/>
          <p:nvPr/>
        </p:nvSpPr>
        <p:spPr>
          <a:xfrm flipV="1">
            <a:off x="6084720" y="1196280"/>
            <a:ext cx="142920" cy="647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661320" y="3068640"/>
            <a:ext cx="414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man Old Style"/>
              </a:rPr>
              <a:t>Транскрипция</a:t>
            </a: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916920" y="4221000"/>
            <a:ext cx="754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76092"/>
                </a:solidFill>
                <a:latin typeface="Bookman Old Style"/>
              </a:rPr>
              <a:t>[З</a:t>
            </a:r>
            <a:r>
              <a:rPr b="1" lang="ru-RU" sz="66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1" lang="ru-RU" sz="6600" spc="-1" strike="noStrike">
                <a:solidFill>
                  <a:srgbClr val="376092"/>
                </a:solidFill>
                <a:latin typeface="Bookman Old Style"/>
              </a:rPr>
              <a:t>и м л</a:t>
            </a:r>
            <a:r>
              <a:rPr b="1" lang="ru-RU" sz="66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1" lang="ru-RU" sz="6600" spc="-1" strike="noStrike">
                <a:solidFill>
                  <a:srgbClr val="376092"/>
                </a:solidFill>
                <a:latin typeface="Bookman Old Style"/>
              </a:rPr>
              <a:t>и н</a:t>
            </a:r>
            <a:r>
              <a:rPr b="1" lang="ru-RU" sz="66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1" lang="ru-RU" sz="6600" spc="-1" strike="noStrike">
                <a:solidFill>
                  <a:srgbClr val="376092"/>
                </a:solidFill>
                <a:latin typeface="Bookman Old Style"/>
              </a:rPr>
              <a:t>и к а]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1979640" y="2565360"/>
            <a:ext cx="504720" cy="71640"/>
          </a:xfrm>
          <a:prstGeom prst="rect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2"/>
          <p:cNvSpPr/>
          <p:nvPr/>
        </p:nvSpPr>
        <p:spPr>
          <a:xfrm>
            <a:off x="4211640" y="2565360"/>
            <a:ext cx="504720" cy="71640"/>
          </a:xfrm>
          <a:prstGeom prst="rect">
            <a:avLst/>
          </a:prstGeom>
          <a:solidFill>
            <a:srgbClr val="008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868400" y="333360"/>
            <a:ext cx="48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man Old Style"/>
              </a:rPr>
              <a:t>Однокоренные сло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179280" y="112536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Bookman Old Style"/>
              </a:rPr>
              <a:t>З</a:t>
            </a: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е</a:t>
            </a:r>
            <a:r>
              <a:rPr b="1" lang="ru-RU" sz="4400" spc="-1" strike="noStrike">
                <a:solidFill>
                  <a:srgbClr val="376092"/>
                </a:solidFill>
                <a:latin typeface="Bookman Old Style"/>
              </a:rPr>
              <a:t>мл</a:t>
            </a: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я</a:t>
            </a:r>
            <a:r>
              <a:rPr b="1" lang="ru-RU" sz="4400" spc="-1" strike="noStrike">
                <a:solidFill>
                  <a:srgbClr val="376092"/>
                </a:solidFill>
                <a:latin typeface="Bookman Old Style"/>
              </a:rPr>
              <a:t>ничка, з</a:t>
            </a: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е</a:t>
            </a:r>
            <a:r>
              <a:rPr b="1" lang="ru-RU" sz="4400" spc="-1" strike="noStrike">
                <a:solidFill>
                  <a:srgbClr val="376092"/>
                </a:solidFill>
                <a:latin typeface="Bookman Old Style"/>
              </a:rPr>
              <a:t>мл</a:t>
            </a: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я</a:t>
            </a:r>
            <a:r>
              <a:rPr b="1" lang="ru-RU" sz="4400" spc="-1" strike="noStrike">
                <a:solidFill>
                  <a:srgbClr val="376092"/>
                </a:solidFill>
                <a:latin typeface="Bookman Old Style"/>
              </a:rPr>
              <a:t>нич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2173680" y="2060640"/>
            <a:ext cx="43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man Old Style"/>
              </a:rPr>
              <a:t>Сочетаемость сл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08000" y="2781360"/>
            <a:ext cx="885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Bookman Old Style"/>
              </a:rPr>
              <a:t>Вкусная, сладкая, душистая, спелая, красная, растёт,</a:t>
            </a:r>
            <a:r>
              <a:rPr b="1" lang="en-US" sz="4800" spc="-1" strike="noStrike">
                <a:solidFill>
                  <a:srgbClr val="376092"/>
                </a:solidFill>
                <a:latin typeface="Bookman Old Style"/>
              </a:rPr>
              <a:t> </a:t>
            </a:r>
            <a:r>
              <a:rPr b="1" lang="ru-RU" sz="4800" spc="-1" strike="noStrike">
                <a:solidFill>
                  <a:srgbClr val="376092"/>
                </a:solidFill>
                <a:latin typeface="Bookman Old Style"/>
              </a:rPr>
              <a:t> собирае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Дуга 6"/>
          <p:cNvSpPr/>
          <p:nvPr/>
        </p:nvSpPr>
        <p:spPr>
          <a:xfrm>
            <a:off x="4427640" y="1125360"/>
            <a:ext cx="1873080" cy="216000"/>
          </a:xfrm>
          <a:custGeom>
            <a:avLst/>
            <a:gdLst>
              <a:gd name="textAreaLeft" fmla="*/ 6840 w 1873080"/>
              <a:gd name="textAreaRight" fmla="*/ 1873440 w 1873080"/>
              <a:gd name="textAreaTop" fmla="*/ 0 h 216000"/>
              <a:gd name="textAreaBottom" fmla="*/ 108000 h 216000"/>
            </a:gdLst>
            <a:ahLst/>
            <a:rect l="textAreaLeft" t="textAreaTop" r="textAreaRight" b="textAreaBottom"/>
            <a:pathLst>
              <a:path stroke="0" w="1873250" h="215900">
                <a:moveTo>
                  <a:pt x="7077" y="94705"/>
                </a:moveTo>
                <a:lnTo>
                  <a:pt x="7077" y="94705"/>
                </a:lnTo>
                <a:arcTo wR="936625" hR="107950" stAng="-10751019" swAng="10751027"/>
                <a:lnTo>
                  <a:pt x="936625" y="107950"/>
                </a:lnTo>
                <a:close/>
              </a:path>
              <a:path fill="none" w="1873250" h="215900">
                <a:moveTo>
                  <a:pt x="7077" y="94705"/>
                </a:moveTo>
                <a:lnTo>
                  <a:pt x="7077" y="94705"/>
                </a:lnTo>
                <a:arcTo wR="936625" hR="107950" stAng="-10751019" swAng="1075102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Дуга 7"/>
          <p:cNvSpPr/>
          <p:nvPr/>
        </p:nvSpPr>
        <p:spPr>
          <a:xfrm>
            <a:off x="395280" y="1125360"/>
            <a:ext cx="1873080" cy="216000"/>
          </a:xfrm>
          <a:custGeom>
            <a:avLst/>
            <a:gdLst>
              <a:gd name="textAreaLeft" fmla="*/ 6840 w 1873080"/>
              <a:gd name="textAreaRight" fmla="*/ 1873440 w 1873080"/>
              <a:gd name="textAreaTop" fmla="*/ 0 h 216000"/>
              <a:gd name="textAreaBottom" fmla="*/ 108000 h 216000"/>
            </a:gdLst>
            <a:ahLst/>
            <a:rect l="textAreaLeft" t="textAreaTop" r="textAreaRight" b="textAreaBottom"/>
            <a:pathLst>
              <a:path stroke="0" w="1873250" h="215900">
                <a:moveTo>
                  <a:pt x="7077" y="94705"/>
                </a:moveTo>
                <a:lnTo>
                  <a:pt x="7077" y="94705"/>
                </a:lnTo>
                <a:arcTo wR="936625" hR="107950" stAng="-10751019" swAng="10751027"/>
                <a:lnTo>
                  <a:pt x="936625" y="107950"/>
                </a:lnTo>
                <a:close/>
              </a:path>
              <a:path fill="none" w="1873250" h="215900">
                <a:moveTo>
                  <a:pt x="7077" y="94705"/>
                </a:moveTo>
                <a:lnTo>
                  <a:pt x="7077" y="94705"/>
                </a:lnTo>
                <a:arcTo wR="936625" hR="107950" stAng="-10751019" swAng="10751027"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530000" y="981000"/>
            <a:ext cx="5804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З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е</a:t>
            </a: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мл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я</a:t>
            </a: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ника из з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е</a:t>
            </a: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м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П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к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а</a:t>
            </a: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зала хвости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С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б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е</a:t>
            </a: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рём её – т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г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Пр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и</a:t>
            </a: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х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о</a:t>
            </a: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дит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е</a:t>
            </a:r>
            <a:r>
              <a:rPr b="1" lang="ru-RU" sz="4000" spc="-1" strike="noStrike">
                <a:solidFill>
                  <a:srgbClr val="376092"/>
                </a:solidFill>
                <a:latin typeface="Bookman Old Style"/>
              </a:rPr>
              <a:t> в гост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117520" y="11592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man Old Style"/>
              </a:rPr>
              <a:t>Письмо по памя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олнце 3"/>
          <p:cNvSpPr/>
          <p:nvPr/>
        </p:nvSpPr>
        <p:spPr>
          <a:xfrm>
            <a:off x="1187280" y="3544920"/>
            <a:ext cx="6264360" cy="331308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Admin</cp:lastModifiedBy>
  <dcterms:modified xsi:type="dcterms:W3CDTF">2013-01-04T19:18:02Z</dcterms:modified>
  <cp:revision>35</cp:revision>
  <dc:subject/>
  <dc:title>Презентация PowerPoint</dc:title>
</cp:coreProperties>
</file>