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118-E007-4C94-A851-A5D3A230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B6A-4778-4FC8-81AB-26EB58C8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5B1-4F3A-4812-ADD1-048BBC1E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A10-DAD7-4C4C-9BC7-8530C8F7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FE2E-E654-45B2-AC7B-21D5B9F5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FC90-CF43-472C-B97C-AA43AB8B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266C-9FBA-4585-94C2-7359D974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F483-3000-4024-9573-72BE591B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62B4-9067-4C42-AFD4-C1475E39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EF7A-06EA-4AEB-BB52-F8A8B224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D560-0FBC-471E-BE07-F0EE234B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304-BF9F-40E5-82C1-89E32930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E1A4-FDEA-4176-8EF0-04056687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5338-7643-47B7-A452-3E7A8D6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560D-DEAA-4866-80A5-D68B58F8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322F-3C4E-4379-B975-84F91D7F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F012-33D1-4A66-86B1-4DBC8484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9DA-94FF-4073-9A5E-6DDF5832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007-3F71-4183-9F8D-91A6AAA4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40B-DA96-4C76-87A0-26690DEE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580-2E4F-49C4-B668-1357711D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4BA-A987-4C24-B829-34E5743F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469-C884-4B30-8E65-EA9C6D7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2F9-BE30-4DBD-80D7-02918092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42E3-E08A-4EB6-B584-B2862123B8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43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56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57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0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61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65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69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72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73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5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76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4365-D9F4-4663-9B35-848975BB7ED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edia.damochka.ru/images/dnevnik/187/672187/5.121619374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emagazine.ru/35.04/tema/mad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alia.ru/wp-content/uploads/2009/04/d183d0b4d0b8d0b2d0bbd0b5d0bdd0b8d0b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ms.24open.ru/images/4f8094135db2c75f92a2c6165ae2a39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oza.ru/pics/2010/08/08/34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43.radikal.ru/i100/0910/d4/7232b37cf4a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32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Как сдерживать свои чувства ?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i-main-pic" descr="Картинка 2 из 1597">
            <a:hlinkClick r:id="rId1"/>
          </p:cNvPr>
          <p:cNvPicPr/>
          <p:nvPr/>
        </p:nvPicPr>
        <p:blipFill>
          <a:blip r:embed="rId2"/>
          <a:srcRect l="0" t="0" r="627" b="6251"/>
          <a:stretch/>
        </p:blipFill>
        <p:spPr>
          <a:xfrm>
            <a:off x="2571840" y="292896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00040" y="571320"/>
            <a:ext cx="822960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аже если ты не в силах изменить происшедшее, ты в силах изменить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свое отношение к этом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зволяя гневу овладеть тобой, ты становишься беспомощным, как пойманная на крючок рыба. Твои мысли и чувства оказываются во власти другого человек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зве ты не хочешь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сам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управлять своими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эмоциями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7" name="i-main-pic" descr="Картинка 11 из 9973"/>
          <p:cNvPicPr/>
          <p:nvPr/>
        </p:nvPicPr>
        <p:blipFill>
          <a:blip r:embed="rId1"/>
          <a:stretch/>
        </p:blipFill>
        <p:spPr>
          <a:xfrm>
            <a:off x="5715000" y="3714840"/>
            <a:ext cx="235728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642960"/>
          <a:ext cx="8429760" cy="5600520"/>
        </p:xfrm>
        <a:graphic>
          <a:graphicData uri="http://schemas.openxmlformats.org/drawingml/2006/table">
            <a:tbl>
              <a:tblPr/>
              <a:tblGrid>
                <a:gridCol w="2643120"/>
                <a:gridCol w="2428920"/>
                <a:gridCol w="33577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итуация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правильно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авильно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еня обзывает одноклассник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озвать его в ответ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игнорировать. Пусть поймет, что я не поддаюсь на его провокации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оя сестра (брат) взяла (взял) у меня без спроса нужную мне вещь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зять что-нибудь из ее (его) вещей. Пусть знает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одители говорят: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Сиди дома.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ы наказан»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4364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Борись с унынием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85840" y="1214280"/>
            <a:ext cx="81151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« С недавних пор меня одолевают мрачные мысли. Теперь я вечно недовольна собой» -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  </a:t>
            </a: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жалуется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  </a:t>
            </a: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13-летняя Анн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Многие подростки ощущаю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себя подавленными из-з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всяких неприятностей и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проблем. Знакомое чувство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2" name="i-main-pic" descr="Картинка 5 из 29371"/>
          <p:cNvPicPr/>
          <p:nvPr/>
        </p:nvPicPr>
        <p:blipFill>
          <a:blip r:embed="rId1"/>
          <a:stretch/>
        </p:blipFill>
        <p:spPr>
          <a:xfrm>
            <a:off x="5929200" y="2357280"/>
            <a:ext cx="288612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-main-pic" descr="Картинка 48 из 64000"/>
          <p:cNvPicPr/>
          <p:nvPr/>
        </p:nvPicPr>
        <p:blipFill>
          <a:blip r:embed="rId1"/>
          <a:srcRect l="0" t="0" r="4854" b="10624"/>
          <a:stretch/>
        </p:blipFill>
        <p:spPr>
          <a:xfrm>
            <a:off x="428760" y="2000160"/>
            <a:ext cx="2709720" cy="3405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142800" y="357120"/>
            <a:ext cx="5614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одители, друзья и учителя постоянно от тебя чего-то хотят; тебя беспокоят происходящие с тобой перемены (внешние и внутренние); из-за пустяковых ошибок ты считаешь себя неудачником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се это может повергать                                   тебя в уныние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571680" y="642960"/>
            <a:ext cx="82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тобы справиться с переживаниями, порой самый лучший выход – поговорить с кем-то из родител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оверительный разговор – первый шаг на пути к выздоровлени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56" name="i-main-pic" descr="Картинка 6 из 1297"/>
          <p:cNvPicPr/>
          <p:nvPr/>
        </p:nvPicPr>
        <p:blipFill>
          <a:blip r:embed="rId1"/>
          <a:srcRect l="14071" t="0" r="11349" b="2499"/>
          <a:stretch/>
        </p:blipFill>
        <p:spPr>
          <a:xfrm>
            <a:off x="3286080" y="2857680"/>
            <a:ext cx="3786120" cy="371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440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Совет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0040" y="78552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зьми за правило рассказывать родителям, что хорошего произошло у тебя в течение дня, даже если это мелочь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 когда возникнет серьезная проблема, тебе будет легче ею поделиться и родители отнесутся к тебе с большим пониманием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500040" y="442908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« Самое важное – когда у тебя есть человек, с которым можно поговорить, если все плохо»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Снежан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99680" y="356760"/>
            <a:ext cx="83581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Если ничего не помогает, тогда, возможно, у тебя эмоциональное расстройство, например депрессия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Нельзя закрывать на это глаз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Что, если бы ты, услышав под капотом своей машины подозрительный звук, просто сделал погромче музыку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Правда же, было бы более разумно остановиться и узнать в чем дело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Многие подростки, кто страдает депрессией или подобными расстройствами, чувствуют себя гораздо легче благодаря лечению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28760" y="6426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так, наши эмоции и чувства подобны огню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сли они под контролем, наша жизнь интересна и радостн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сли же чувства вырываются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з-под контроля, то, подобно огню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ни разрушают все на своем пути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тарайся их сдерживать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нечно, не подумав, мы можем что-то сказать или сделать, о чем потом пожалеем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о наберись терпения. Придет время, и ты научишься управлять своими чувствами, не позволяя им управлять тобой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619272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Совет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57160" y="1571400"/>
            <a:ext cx="750096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바탕"/>
                <a:ea typeface="바탕"/>
              </a:rPr>
              <a:t>«Не позволяй злу одолевать тебя, но побеждай зло ДОБРОМ»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4" name="Рисунок 3" descr="http://img-fotki.yandex.ru/get/4000/marya-foygl.b/0_19a15_e94237c7_S"/>
          <p:cNvPicPr/>
          <p:nvPr/>
        </p:nvPicPr>
        <p:blipFill>
          <a:blip r:embed="rId1"/>
          <a:stretch/>
        </p:blipFill>
        <p:spPr>
          <a:xfrm>
            <a:off x="2857680" y="3929040"/>
            <a:ext cx="3214440" cy="19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596520"/>
            <a:ext cx="774864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Arial"/>
              </a:rPr>
              <a:t>Используемые ресурсы</a:t>
            </a:r>
            <a:endParaRPr b="0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media.damochra.ru/images/dnevnik/187/672187//5. 1216193740.jpg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www.animemagazine.ru/35.04/tema/mad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//www.alalia.ru/wpcontent/uploads/2009/04/d183d0b4d0b8d0b2d0b6d0b5d0bd0b8d0b5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bms.24open.ru/images/4f8094/35db2c75f92a2c6165ae2a39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www.proza.ru/pics/2010/08/08/845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s43.radiral.ru/i100/0910/d4/7232b37cf4a0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img.crazys.info/files/i/2009.10.25/thumbs/1256491353_0_8dab_a35a59eaXL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www.stihi.ru/pics/2009/02/20/5655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//ab007.rimg.info/file.php_id_=14644820004f409eaf1cafc502905f95e1dadc7e52.jpg8cp=fa22904da803aaa9725041eb2097f9d9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0.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img-fotki.yandex.ru/get/8/madpikanija.0/0_4a6d_69065064_X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1.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fotki. yandex.ru/users/marya-fojgl/view/ 107796/?page=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0" y="500040"/>
            <a:ext cx="8243640" cy="18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Какие из этих высказываний больше всего подходят к тебе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0040" y="2428560"/>
            <a:ext cx="82296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 меня вспыльчивый характер;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не кажется, я неудачник, я все делаю не так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не всегда грустно и тоскливо на душе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Как ты думаешь, огонь – это хорошо или плохо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5480" y="1700280"/>
            <a:ext cx="86439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00040" y="200016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се зависит от обстоятельств, верно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гда за окнами вьюга, а в камине потрескивает огонь – тепло и уютно. Это хорош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о вот огонь вырывается из-под контроля. Он может охватить весь дом. Это плох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528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i-main-pic" descr="Картинка 47 из 200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812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3000240" y="642960"/>
            <a:ext cx="5643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о же самое можно сказать про наши эмоции и чувст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ез них невозможны теплые и дружеские отнош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о если их не сдерживать, они могут навредить и тебе, и тем, кто тебя окруж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6"/>
          <p:cNvSpPr/>
          <p:nvPr/>
        </p:nvSpPr>
        <p:spPr>
          <a:xfrm>
            <a:off x="785880" y="64296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переходном возрасте тебя временами может охватывать  гнев или уны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справиться с этими чувствам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35" name="i-main-pic" descr="Картинка 5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1840" y="2714760"/>
            <a:ext cx="399096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Умеряй свой гнев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213920"/>
            <a:ext cx="8215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елегко унять чувство обиды от несправедливого обращения. В такие моменты многие выходят из себя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ело в том, что неуправляемый гнев порой приводит к поступкам, о которых потом ты можешь пожалеть или тебе будет стыдно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8" name="i-main-pic" descr="Картинка 1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9040" y="3571920"/>
            <a:ext cx="440532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13880" y="571680"/>
            <a:ext cx="79297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первую очередь, спокойно посмотри на то, что случилось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МНИ: если «воздавать злом за зло», станет еще хуже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щательно все обдумай, возможно, увидишь, что в состоянии простить обидчика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тогда обида потеряет над тобой власть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0" name="i-main-pic" descr="Картинка 2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3929040"/>
            <a:ext cx="4434120" cy="27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99760" y="357120"/>
            <a:ext cx="61930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Знаешь ли ты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28840" y="142848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Если ты недосыпаешь и плохо питаешься, с отрицательными эмоциями справиться труднее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3" name="i-main-pic" descr="Картинка 23 из 200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760" y="3143160"/>
            <a:ext cx="3728880" cy="340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А, что если горечь обиды не проходит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000080" y="2071800"/>
            <a:ext cx="771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ожет стоит поговорить с обидчиком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сли это невозможно, поделись чувствами с родителя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сли тебя кто-то намеренно задирает, старайся говорить с ним спокойн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пользуйся схемой и подумай, в каких ситуациях ты выходишь из себя и как было бы правильнее себя ве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Андрей</cp:lastModifiedBy>
  <dcterms:modified xsi:type="dcterms:W3CDTF">2013-01-13T14:59:41Z</dcterms:modified>
  <cp:revision>30</cp:revision>
  <dc:subject/>
  <dc:title>Гербы и флаги Ленинградской области и г Кингисеппа</dc:title>
</cp:coreProperties>
</file>