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A11-1C64-479E-83F2-B627A8C2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F4E-1C1F-4197-AE5F-ADB6F536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F14-8E17-4F2A-A2C1-C27FD6FD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AF0-A78C-46F8-9FEF-CDDD4B70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241-2D37-47F4-9A40-60C633C0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8113-CE6D-4971-98B7-DDC5A2D3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8F0D-D456-412F-8E13-B8DFA704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109-29B3-4B3E-A40F-CEBAB6AA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73F6-7964-43A9-BBE4-E2644FE4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ED7F-63E0-4410-99AA-14349679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65D8-9F71-46CD-88ED-7078EA79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DBB-37F7-4D1A-9B48-176A949E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A548-5244-4126-B2D1-8CBE096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665F-F4C8-4E8F-96B2-49A4269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E493-0A64-4128-A338-2A6473F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58DB-97A2-483E-87E6-FE419A2B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4D35-D970-45C2-AC7D-00A9E194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A6F-9DBD-49C8-9936-89F62D50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2C8-FFAC-4CE5-92FD-5E7096C9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B81-5CCD-4D8B-BAC2-00922CBC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32A-BB19-4FA7-B8F0-25D6FE35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6D7-EB3F-482E-8588-376A06DB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0A87-8074-4B34-922D-60CABE1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F4D-9F95-48A8-AC2E-3C8B547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8669-997E-4BDA-BE47-E6E53572E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43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6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57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0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61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65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69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72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73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5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6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0CD3-D89A-4ABA-8A20-481F330AFDF8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edia.damochka.ru/images/dnevnik/187/672187/5.121619374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emagazine.ru/35.04/tema/mad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alia.ru/wp-content/uploads/2009/04/d183d0b4d0b8d0b2d0bbd0b5d0bdd0b8d0b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ms.24open.ru/images/4f8094135db2c75f92a2c6165ae2a39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oza.ru/pics/2010/08/08/34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43.radikal.ru/i100/0910/d4/7232b37cf4a0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32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Как сдерживать свои чувства ?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i-main-pic" descr="Картинка 2 из 1597">
            <a:hlinkClick r:id="rId1"/>
          </p:cNvPr>
          <p:cNvPicPr/>
          <p:nvPr/>
        </p:nvPicPr>
        <p:blipFill>
          <a:blip r:embed="rId2"/>
          <a:srcRect l="0" t="0" r="627" b="6251"/>
          <a:stretch/>
        </p:blipFill>
        <p:spPr>
          <a:xfrm>
            <a:off x="2571840" y="292896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0004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аже если ты не в силах изменить происшедшее, ты в силах изменить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вое отношение к этому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зволяя гневу овладеть тобой, ты становишься беспомощным, как пойманная на крючок рыба. Твои мысли и чувства оказываются во власти другого человек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зве ты не хочешь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ам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управлять своим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эмоциями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" name="i-main-pic" descr="Картинка 11 из 9973"/>
          <p:cNvPicPr/>
          <p:nvPr/>
        </p:nvPicPr>
        <p:blipFill>
          <a:blip r:embed="rId1"/>
          <a:stretch/>
        </p:blipFill>
        <p:spPr>
          <a:xfrm>
            <a:off x="5715000" y="3714840"/>
            <a:ext cx="235728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642960"/>
          <a:ext cx="8429760" cy="5600520"/>
        </p:xfrm>
        <a:graphic>
          <a:graphicData uri="http://schemas.openxmlformats.org/drawingml/2006/table">
            <a:tbl>
              <a:tblPr/>
              <a:tblGrid>
                <a:gridCol w="2643120"/>
                <a:gridCol w="2428920"/>
                <a:gridCol w="33577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итуация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правильн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авильно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еня обзывает одноклассник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бозвать его в ответ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игнорировать. Пусть поймет, что я не поддаюсь на его провокации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оя сестра (брат) взяла (взял) у меня без спроса нужную мне вещь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зять что-нибудь из ее (его) вещей. Пусть знает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одители говорят: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Сиди дома.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ы наказан».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e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24364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Борись с унынием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5840" y="1214280"/>
            <a:ext cx="81151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« С недавних пор меня одолевают мрачные мысли. Теперь я вечно недовольна собой» -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жалуетс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  </a:t>
            </a: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13-летняя Анн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Многие подростки ощущаю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себя подавленными из-з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всяких неприятностей 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проблем. Знакомое чувство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i-main-pic" descr="Картинка 5 из 29371"/>
          <p:cNvPicPr/>
          <p:nvPr/>
        </p:nvPicPr>
        <p:blipFill>
          <a:blip r:embed="rId1"/>
          <a:stretch/>
        </p:blipFill>
        <p:spPr>
          <a:xfrm>
            <a:off x="5929200" y="2357280"/>
            <a:ext cx="288612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-main-pic" descr="Картинка 48 из 64000"/>
          <p:cNvPicPr/>
          <p:nvPr/>
        </p:nvPicPr>
        <p:blipFill>
          <a:blip r:embed="rId1"/>
          <a:srcRect l="0" t="0" r="4854" b="10624"/>
          <a:stretch/>
        </p:blipFill>
        <p:spPr>
          <a:xfrm>
            <a:off x="428760" y="2000160"/>
            <a:ext cx="2709720" cy="3405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3142800" y="357120"/>
            <a:ext cx="56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одители, друзья и учителя постоянно от тебя чего-то хотят; тебя беспокоят происходящие с тобой перемены (внешние и внутренние); из-за пустяковых ошибок ты считаешь себя неудачнико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е это может повергать                                   тебя в уныние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571680" y="64296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тобы справиться с переживаниями, порой самый лучший выход – поговорить с кем-то из родител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оверительный разговор – первый шаг на пути к выздоровлени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56" name="i-main-pic" descr="Картинка 6 из 1297"/>
          <p:cNvPicPr/>
          <p:nvPr/>
        </p:nvPicPr>
        <p:blipFill>
          <a:blip r:embed="rId1"/>
          <a:srcRect l="14071" t="0" r="11349" b="2499"/>
          <a:stretch/>
        </p:blipFill>
        <p:spPr>
          <a:xfrm>
            <a:off x="3286080" y="2857680"/>
            <a:ext cx="378612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овет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0040" y="78552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зьми за правило рассказывать родителям, что хорошего произошло у тебя в течение дня, даже если это мелочь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 когда возникнет серьезная проблема, тебе будет легче ею поделиться и родители отнесутся к тебе с большим понимание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500040" y="442908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« Самое важное – когда у тебя есть человек, с которым можно поговорить, если все плохо»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Segoe Script"/>
              </a:rPr>
              <a:t>Снежан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99680" y="356760"/>
            <a:ext cx="8358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Если ничего не помогает, тогда, возможно, у тебя эмоциональное расстройство, например депрессия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Нельзя закрывать на это глаз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Что, если бы ты, услышав под капотом своей машины подозрительный звук, просто сделал погромче музыку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Правда же, было бы более разумно остановиться и узнать в чем дело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Verdana"/>
              </a:rPr>
              <a:t>Многие подростки, кто страдает депрессией или подобными расстройствами, чувствуют себя гораздо легче благодаря лечению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28760" y="6426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так, наши эмоции и чувства подобны огню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они под контролем, наша жизнь интересна и радостн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же чувства вырываются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з-под контроля, то, подобно огню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ни разрушают все на своем пути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арайся их сдерживать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нечно, не подумав, мы можем что-то сказать или сделать, о чем потом пожалеем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 наберись терпения. Придет время, и ты научишься управлять своими чувствами, не позволяя им управлять тобой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6192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овет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57160" y="1571400"/>
            <a:ext cx="750096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바탕"/>
                <a:ea typeface="바탕"/>
              </a:rPr>
              <a:t>«Не позволяй злу одолевать тебя, но побеждай зло ДОБРОМ»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4" name="Рисунок 3" descr="http://img-fotki.yandex.ru/get/4000/marya-foygl.b/0_19a15_e94237c7_S"/>
          <p:cNvPicPr/>
          <p:nvPr/>
        </p:nvPicPr>
        <p:blipFill>
          <a:blip r:embed="rId1"/>
          <a:stretch/>
        </p:blipFill>
        <p:spPr>
          <a:xfrm>
            <a:off x="2857680" y="3929040"/>
            <a:ext cx="3214440" cy="19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596520"/>
            <a:ext cx="7748640" cy="110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Arial"/>
              </a:rPr>
              <a:t>Используемые ресурсы</a:t>
            </a:r>
            <a:endParaRPr b="0" lang="en-US" sz="5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media.damochra.ru/images/dnevnik/187/672187//5. 1216193740.jpg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www.animemagazine.ru/35.04/tema/mad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//www.alalia.ru/wpcontent/uploads/2009/04/d183d0b4d0b8d0b2d0b6d0b5d0bd0b8d0b5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bms.24open.ru/images/4f8094/35db2c75f92a2c6165ae2a397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www.proza.ru/pics/2010/08/08/845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s43.radiral.ru/i100/0910/d4/7232b37cf4a0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img.crazys.info/files/i/2009.10.25/thumbs/1256491353_0_8dab_a35a59eaXL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www.stihi.ru/pics/2009/02/20/5655.jp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//ab007.rimg.info/file.php_id_=14644820004f409eaf1cafc502905f95e1dadc7e52.jpg8cp=fa22904da803aaa9725041eb2097f9d9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0.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img-fotki.yandex.ru/get/8/madpikanija.0/0_4a6d_69065064_XL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1.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Times New Roman"/>
                <a:ea typeface="Times New Roman"/>
              </a:rPr>
              <a:t>http: //fotki. yandex.ru/users/marya-fojgl/view/ 107796/?page=0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8243640" cy="18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Какие из этих высказываний больше всего подходят к тебе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2428560"/>
            <a:ext cx="82296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меня вспыльчивый характер;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не кажется, я неудачник, я все делаю не так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не всегда грустно и тоскливо на душе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Как ты думаешь, огонь – это хорошо или плохо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5480" y="1700280"/>
            <a:ext cx="86439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00040" y="200016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е зависит от обстоятельств, верно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гда за окнами вьюга, а в камине потрескивает огонь – тепло и уютно. Это хорош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 вот огонь вырывается из-под контроля. Он может охватить весь дом. Это плох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528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i-main-pic" descr="Картинка 47 из 200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812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3000240" y="642960"/>
            <a:ext cx="5643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о же самое можно сказать про наши эмоции и чувст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Без них невозможны теплые и дружеские отнош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 если их не сдерживать, они могут навредить и тебе, и тем, кто тебя окруж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6"/>
          <p:cNvSpPr/>
          <p:nvPr/>
        </p:nvSpPr>
        <p:spPr>
          <a:xfrm>
            <a:off x="785880" y="64296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переходном возрасте тебя временами может охватывать  гнев или уны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справиться с этими чувствами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35" name="i-main-pic" descr="Картинка 5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1840" y="2714760"/>
            <a:ext cx="399096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Умеряй свой гне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213920"/>
            <a:ext cx="8215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легко унять чувство обиды от несправедливого обращения. В такие моменты многие выходят из себя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ело в том, что неуправляемый гнев порой приводит к поступкам, о которых потом ты можешь пожалеть или тебе будет стыдно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8" name="i-main-pic" descr="Картинка 1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9040" y="3571920"/>
            <a:ext cx="440532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13880" y="571680"/>
            <a:ext cx="79297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первую очередь, спокойно посмотри на то, что случилось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МНИ: если «воздавать злом за зло», станет еще хуже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щательно все обдумай, возможно, увидишь, что в состоянии простить обидчика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тогда обида потеряет над тобой власть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" name="i-main-pic" descr="Картинка 2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3929040"/>
            <a:ext cx="4434120" cy="27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99760" y="357120"/>
            <a:ext cx="61930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Знаешь ли ты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28840" y="142848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rial"/>
              </a:rPr>
              <a:t>Если ты недосыпаешь и плохо питаешься, с отрицательными эмоциями справиться труднее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3" name="i-main-pic" descr="Картинка 23 из 200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760" y="3143160"/>
            <a:ext cx="3728880" cy="340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А, что если горечь обиды не проходит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000080" y="207180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ожет стоит поговорить с обидчиком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это невозможно, поделись чувствами с родителя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сли тебя кто-то намеренно задирает, старайся говорить с ним спокойн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ользуйся схемой и подумай, в каких ситуациях ты выходишь из себя и как было бы правильнее себя ве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Андрей</cp:lastModifiedBy>
  <dcterms:modified xsi:type="dcterms:W3CDTF">2013-01-13T14:59:41Z</dcterms:modified>
  <cp:revision>30</cp:revision>
  <dc:subject/>
  <dc:title>Гербы и флаги Ленинградской области и г Кингисеппа</dc:title>
</cp:coreProperties>
</file>