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5.jpeg" ContentType="image/jpeg"/>
  <Override PartName="/ppt/media/image5.wmf" ContentType="image/x-wmf"/>
  <Override PartName="/ppt/media/image27.jpeg" ContentType="image/jpeg"/>
  <Override PartName="/ppt/media/image3.wmf" ContentType="image/x-wmf"/>
  <Override PartName="/ppt/media/image28.jpeg" ContentType="image/jpeg"/>
  <Override PartName="/ppt/media/image14.wmf" ContentType="image/x-wmf"/>
  <Override PartName="/ppt/media/image26.jpeg" ContentType="image/jpeg"/>
  <Override PartName="/ppt/media/image24.jpeg" ContentType="image/jpeg"/>
  <Override PartName="/ppt/media/image4.wmf" ContentType="image/x-wmf"/>
  <Override PartName="/ppt/media/image21.jpeg" ContentType="image/jpeg"/>
  <Override PartName="/ppt/media/image18.jpeg" ContentType="image/jpeg"/>
  <Override PartName="/ppt/media/image16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97C-C108-4486-B7BE-4245F776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D51-0711-4B04-BB71-F20270D2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777-4A99-4765-AAB3-34131321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8AA-41F1-40F4-8467-084EEF00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C19D-6F1C-49A3-9736-C8C8C1D3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8BBF-3591-439C-8CB4-AB6B9E0A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79A3-AF4E-46DB-966F-FDD2FA69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1A03-2B1D-4451-A96C-904882D4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7766-0817-49BF-9EEF-7C37E196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9A6F-A8F8-409C-8FE9-170CA51E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3EF1-9BAF-4D97-8ADD-31D9E03E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45B-55D0-40D6-82D4-18258864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B39E-16D8-44FE-95B0-F68E854D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6CC8-2E9E-4185-A5A9-1C2DF92C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2DEC-505A-4F1B-8BD1-71D2167C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7987-3C6E-4A83-8FD9-A29F0B64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0C2D-C384-4CA9-ABE9-F99FE5F7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802-8FAB-4D68-9240-C1B014AA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029-BA8C-49B4-ADE1-A6278E56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798-3C92-410E-B085-661EDBD2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7867-179E-40D4-8FC9-624BE4AA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FDE-801C-4F96-AEF1-B595DC6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4140-D7D8-418B-840C-9D84C9ED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5FA-B861-4599-9828-BEF676C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EEE1-EFDA-4FF3-ACEC-A9F5D7160B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B1FD-40CE-443A-A9F6-62605E3C0A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Психолого-педагогическое сопровождение обучающихся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«группы риска»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МБОУ СОШ п.Солидарность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Елецкого района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Garamond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ыступление подготовил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                                  педагог-психолог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                                      О.В.Нехлопочин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знаками проблемных детей могут являться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вышенная критичность по отношению к педагогам и взрослы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б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у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ра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пуски за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дисциплинированность на уро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биение слабых, младш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могатель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стокое отношение к живот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ров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рушение общественного поряд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мотивированные поступ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. Отношение к воспитательным мероприяти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душ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гат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367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33760" y="42804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тенциальная «группа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чащиеся «группы риск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d0f09"/>
                </a:solidFill>
                <a:latin typeface="Garamond"/>
              </a:rPr>
              <a:t>Социальный состав школ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93640" y="981000"/>
          <a:ext cx="7956720" cy="547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981000"/>
                    <a:ext cx="79567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Система мероприятий психолого-педагогического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сопровождения обучающихся «группы риска»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 МБОУ СОШ п.Солидарность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рганизация совместной работы по профилактике раннего семейного неблагополучия с администрацией МДОУ п.Солидарность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совместное наблюдение за семьё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посещение семей (возвращение детей в школу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рганизация и проведение мониторинга социального состава обучающихся школы и их семей. Созданы списки учащихся,  находящихся  в социально-опасном положении (малообеспеченные семьи, многодетные семьи, опекунские семьи, дети-инвалиды, и др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Деятельность по программе всеобуча – контроль за посещением занятий; выявление и учет детей, подлежащих обучению в школ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ыявление и учет обучающихся, требующих повышенного педагогического внима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овлечение обучающихся, состоящих на учете и учащихся «группы риска» в кружковую работ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Совета по профилактике правонарушений среди несовершеннолетни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астие в работе заседания комиссии при Архангельской сельской администр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йды в неблагополучные семьи, семьи учащихся группы риска и семьи обучающихся школы. Обследование условий жизни дет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ление  детей группы риска при проведении диагностики по адаптации обучающихся 1,5, 10-х классов к новым условиям школ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сихолого-педагогическое консультирование  родителей и педагогов «Адаптация детей к классному коллективу, взаимоотношения в коллективе»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агностическая работа по изучению личностных особенностей обучающихся группы риска и выявлению причин неадекватного поведения; дезадаптации, конфликтности, слабой успеваемости, неуспеваем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ление и составление  списка обучающихся на ПМПК. Диагностика уровня познавательного развит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агностика старшеклассников на профпригодность и консультации по результатам диагност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астие в работе мониторинга психофизического состояния обучающихся школы (диагностика эмоционального состояния, тест Люшера). Работа  программы «Фактор». 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дение мониторинга по выявлению, распространению  и злоупотреблению несовершеннолетними психоактивными веществами в образовательной сред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психолого-педагогических консилиум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еемственность в обучении и воспитании обучающихся начальных классов и среднего звена» (5 кл.)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«Трудные подростки. Формы методы  работы с подростками»;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Адаптация обучающихся (8-11 кл.) к новым   условиям обучения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дение индивидуальных консультаций с родителями, психологическое просвещение, знакомство с психологическими особенностями возраста ребёнка, методами бесконфликтного общения, психологией семейных отно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ведение профилактических бесед с учащимися группы риска (обсуждаются  вопросы личностного развития, зависимостей от наркотиков и алкоголя, жизненных ценностей, проблемы выбора профессии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ганизация психолого-педагогического просвещения родителей через родительский всеобуч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«Бесконтрольность свободного времени – основная причина совершения правонарушений и преступлений»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оведение цикла профилактических бесед об ответственности родителей за воспитание дете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астие в работе вечерних рейдов по местам отдыха детей и подростков, дежурство на дискотеках ДК п.Солидар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ганизация и проведение экскурс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водные данные анкетирования по определению ситуации, связанной с распространением и употреблением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наркотических средств и психотропных веществ лицами подросткового и юношеского возрастов за 2011 год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8-11-х классов МБОУ СОШ п.Солидарность Елецкого район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Сопровождени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это система профессиональной деятельности специалистов, направленная на создание социально-психологических условий для успешного обучения и развития ребёнка в ситуациях школьного взаимодейств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казание помощи в социальной адаптации детям «группы риска» путем создания безопасного реабилитационного простран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Время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епровождения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557360"/>
          <a:ext cx="9144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По каким причинам, на ваш взгляд, начинают курить, употреблять алкоголь, наркотики, токсические вещества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1600200"/>
          <a:ext cx="9144000" cy="51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3300"/>
                </a:solidFill>
                <a:latin typeface="Garamond"/>
              </a:rPr>
              <a:t>Мотив употребления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Отношение к наркотикам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Что Вы думаете об употреблении наркотиков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773360"/>
          <a:ext cx="84978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4978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общение к наркотикам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557360"/>
          <a:ext cx="914400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Какое поведение человека по отношению к спиртным напиткам Вы считаете нормальным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1341360"/>
          <a:ext cx="914400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Информированн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1125360"/>
          <a:ext cx="864216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e1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Знаете ли Вы, как приготавливаются и принимаются наркотики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557360"/>
          <a:ext cx="8555040" cy="50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855504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дач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влечение детей в досуговую и игровую дея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азание помощи в учебной деятельности детям, повышение образовательной мотив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азание психологической помощи детя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менение отрицательного образа «Я» (повышение самооценки ребенк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ятие социальной нормативности и привитие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рм повед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межличностных отнош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азание помощи в выборе образовательного и профессионального маршрут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психолого- педагогической компетентности (психологическую культуру) учащихся, родителей, педагог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Знаете ли Вы о последствиях применения наркотиков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341360"/>
          <a:ext cx="91440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e1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Если бы Вы захотели узнать, как противостоять рискованному поведению, чьей бы информации поверили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268280"/>
          <a:ext cx="9144000" cy="525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Какие, на Ваш взгляд, необходимо предпринять меры, чтобы уберечь подростков от пагубного влияния курения, алкоголя, наркотиков?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844640"/>
          <a:ext cx="914400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44640"/>
                    <a:ext cx="9144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зультаты анкетирован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о определению профориентированной направл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учающихся 9-х классах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БОУ СОШ п.Солидарность     январь 2012 г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e5f0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Охвачено анкетированием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-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36 обучающихся  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                                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Выбрали профессию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- 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27 ч.</a:t>
            </a:r>
            <a:br>
              <a:rPr sz="3200"/>
            </a:b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Не выбрали профессию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-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9 ч.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Дальнейшие планы: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-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продолжать обучение в школе-16 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работать – 5 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учиться в ПУ – 8 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учиться в ССУЗ – 8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поступить в ВУЗ – 0ч.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Образовательное учреждение: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Липецкой области – 17ч.</a:t>
            </a:r>
            <a:br>
              <a:rPr sz="32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- другого региона – 20ч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52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33"/>
                </a:solidFill>
                <a:uFillTx/>
                <a:latin typeface="Monotype Corsiva"/>
              </a:rPr>
              <a:t>Какую профессию Вы выбрали: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Юрист-4ч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едработник-2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женер-2ч.,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троитель ж.д.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ЧС-3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журналист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ухгалтер – 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рмацевт – 2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мощник машиниста-3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рач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женер-технолог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енеджер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кономист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енный летчик-1ч.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правление движением вагонного состава-1ч.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втомеханик-4ч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e117"/>
            </a:gs>
            <a:gs pos="100000">
              <a:srgbClr val="e5f05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33"/>
                </a:solidFill>
                <a:uFillTx/>
                <a:latin typeface="Garamond"/>
              </a:rPr>
              <a:t>Мотивы выбора профессии: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ессия была престижн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1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хорошо оплачивалась – 26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была интересной – 9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давала возможность проявить инициативу, самостоятельность – 2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ее  легко можно было приобрести – 1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она соответствовала желаниям родителей – 1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можно было бы учиться или работать с друзьями – 3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можно было бы найти работу по специальности – 6ч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в будущем предоставляла хорошие условия труда – 7ч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52"/>
            </a:gs>
            <a:gs pos="100000">
              <a:srgbClr val="17e18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стижные профессии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к полиции, военный, экономист,  инженер, врач,  работа в здравоохранении, адвокат, менеджер, юрист, строитель, инженер, газоэлектросварщик, ресторанный бизнес, сотрудник М ЧС, электрик, адвокат, бухгалт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престижные професс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авец, механик, дворник, кондуктор, парикмахер, повар, технический работник, тракторист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006633"/>
                </a:solidFill>
                <a:uFillTx/>
                <a:latin typeface="Garamond"/>
              </a:rPr>
              <a:t>Экскурсия в Аргамач -Пальн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949320"/>
            <a:ext cx="79200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935160" cy="2951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841920" cy="2881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11640" y="2924280"/>
            <a:ext cx="43466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686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Garamond"/>
              </a:rPr>
              <a:t>Факторы, негативно влияющие на развитие и поведение детей и подростков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Экскурсия в г.Вороне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978440" cy="3733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4607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Экскурсия в г.Воронеж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15920" y="112248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516720" y="549360"/>
            <a:ext cx="2322360" cy="3097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3484800" cy="2613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34689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5d0f09"/>
                </a:solidFill>
                <a:latin typeface="Garamond"/>
              </a:rPr>
              <a:t>Спасибо за внимание!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1. Процессы, происходящие в обществе: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утствие ясной, позитивной государственной идеологии, направленной на изменение иерархии общественных ц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овершенство законов и работы правоохранительных органов, безнаказанность преступ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зработица (явная и скрыта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утствие социальных гарантий и государственной поддержки экономически  несостоятельных семей с дет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а насилия и жестокости через средства массов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упность табака, алкоголя, наркотических и психотроп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7680" y="2901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2. Состояние семьи, ее атмосфера: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еполная семь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ериальное положение семьи (как бедность, так и богатство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изкий социально-культурный уровень родител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тсутствие семейных традиц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тиль воспитания в семье (отсутствие единых требований к ребенку, жестокость родителей, их безнаказанность и бесправие ребенка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трицание самоценности ребенк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довлетворение потребностей детей (недостаток или избыток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лоупотребление родителей алкоголем, наркотиками и др.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пустительское отношение родителей к употреблению детьми психоактивных веще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3. Внутренние факторы риска: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щущение ребенком собственной ненуж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изкая самооценка, неуверенность в себ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достаточный самоконтроль и самодисциплин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знание и неприятие социальных норм и ценностей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умение критически мыслить и принимать адекватные решения в различных ситуация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умение выражать свои чувства, реагировать на свои поступки и поступки других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5d0f09"/>
                </a:solidFill>
                <a:latin typeface="Garamond"/>
              </a:rPr>
              <a:t>Признаками обучающихся «группы риска»  могут являтьс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1. Уклонение от учебы вследстви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еуспеваемости по большинству предме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ставания в интеллектуальном развит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иентации  на другие виды деятель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сутствия познавательных интере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2. Низкая общественно-трудовая активность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каз от общественных поруче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небрежительное отношение к делам класс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емонстративный отказ от участия в трудовых делах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небрежительное отношение к общественной собственности, ее порч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знаками проблемных детей могут являться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Негативные проя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требление спиртных напит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требление психотропных и токсических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яга к азартным игр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здоровые сексуальные проя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Негативизм в оценке действ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0:20:17Z</dcterms:created>
  <dc:creator>дом</dc:creator>
  <dc:description/>
  <dc:language>en-US</dc:language>
  <cp:lastModifiedBy>дом</cp:lastModifiedBy>
  <dcterms:modified xsi:type="dcterms:W3CDTF">2012-09-10T15:53:21Z</dcterms:modified>
  <cp:revision>24</cp:revision>
  <dc:subject/>
  <dc:title>        Организация работы  по профилактике правонарушений, бродяжничества и беспризорности»  среди несовершеннолетних в  МБОУ СОШ п.Солидарность Елецкого района (выполнение закона РФ №120)                     выступление подготовила:                                                   педагог-психолог О.В.Нехлопочина</dc:title>
</cp:coreProperties>
</file>