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3.wmf" ContentType="image/x-wmf"/>
  <Override PartName="/ppt/media/image28.jpeg" ContentType="image/jpeg"/>
  <Override PartName="/ppt/media/image14.wmf" ContentType="image/x-wmf"/>
  <Override PartName="/ppt/media/image26.jpeg" ContentType="image/jpeg"/>
  <Override PartName="/ppt/media/image24.jpeg" ContentType="image/jpeg"/>
  <Override PartName="/ppt/media/image4.wmf" ContentType="image/x-wmf"/>
  <Override PartName="/ppt/media/image21.jpeg" ContentType="image/jpeg"/>
  <Override PartName="/ppt/media/image18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CE6-D14E-493F-83FD-75A2A0D0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F2C-72CD-4B87-A3B8-82952782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CED-80D3-4B67-8E3B-FB96579E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269-5202-47B0-882E-FC3A4F0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EA15-D2CE-46F6-A557-8654A890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0FC-ECFC-4187-BD85-35D44E7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1575-5C07-49FF-8EBE-3181AFA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3656-7C7E-4EAC-95CD-1C0F8D3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4EA8-FFB9-4D3A-9FF5-588156E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D7F7-66BA-46EE-993E-8C9CE46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8A8A-B7B2-42BE-93D0-1049DF6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4F6-9660-4EDE-9CE9-4D23566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869-DC3B-4E8E-87B7-D8EC269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E1CA-6F33-46F5-81CE-16DF011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51A1-22B4-4488-B19D-C810CCC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A7D3-9199-416A-82BB-1037ED65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4A8-61BD-48DA-B0B9-761B3B69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3EA-89D0-4E74-B1C8-FADB632C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E48-527C-4B84-A32C-973157B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DF4-A888-4EE3-9C38-B1B80B3C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110-B5C0-4DAB-BFF4-60EC88C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6B4-CDE7-468B-9B91-4C89007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729-7028-4B15-AEC1-B5A7A48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9CE-ED66-4082-ADB3-429AB9E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0B87-EF98-4B41-8F74-9EFA890C07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640-0EDE-4ADF-A803-F77D64078D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Психолого-педагогическое сопровождение обучающихс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«группы риска»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МБОУ СОШ п.Солидарность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Елецкого район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ыступление подготовил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педагог-психолог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О.В.Нехлопочин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знаками проблемных детей могут являться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вышенная критичность по отношению к педагогам и взросл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у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а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пуски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дисциплинированность на уро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биение слабых, младш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могатель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стокое отношение к живот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ов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ушение общественного поря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отивированные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. Отношение к воспитательным мероприят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душ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гат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67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33760" y="42804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тенциальная «группа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чащиеся «группы риск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d0f09"/>
                </a:solidFill>
                <a:latin typeface="Garamond"/>
              </a:rPr>
              <a:t>Социальный состав школ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93640" y="981000"/>
          <a:ext cx="795672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981000"/>
                    <a:ext cx="79567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Система мероприятий психолого-педагогического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сопровождения обучающихся «группы риска»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 МБОУ СОШ п.Солидарность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рганизация совместной работы по профилактике раннего семейного неблагополучия с администрацией МДОУ п.Солидарнос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совместное наблюдение за семьё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посещение семей (возвращение детей в школу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рганизация и проведение мониторинга социального состава обучающихся школы и их семей. Созданы списки учащихся,  находящихся  в социально-опасном положении (малообеспеченные семьи, многодетные семьи, опекунские семьи, дети-инвалиды, и др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Деятельность по программе всеобуча – контроль за посещением занятий; выявление и учет детей, подлежащих обучению в школ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ыявление и учет обучающихся, требующих повышенного педагогического вним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овлечение обучающихся, состоящих на учете и учащихся «группы риска» в кружковую работ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Совета по профилактике правонарушений среди несовершеннолетни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работе заседания комиссии при Архангельской сельской администр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ды в неблагополучные семьи, семьи учащихся группы риска и семьи обучающихся школы. Обследование условий жизни де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ление  детей группы риска при проведении диагностики по адаптации обучающихся 1,5, 10-х классов к новым условиям школ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сихолого-педагогическое консультирование  родителей и педагогов «Адаптация детей к классному коллективу, взаимоотношения в коллективе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агностическая работа по изучению личностных особенностей обучающихся группы риска и выявлению причин неадекватного поведения; дезадаптации, конфликтности, слабой успеваемости, неуспеваем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ление и составление  списка обучающихся на ПМПК. Диагностика уровня познаватель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агностика старшеклассников на профпригодность и консультации по результатам диагност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работе мониторинга психофизического состояния обучающихся школы (диагностика эмоционального состояния, тест Люшера). Работа  программы «Фактор». 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дение мониторинга по выявлению, распространению  и злоупотреблению несовершеннолетними психоактивными веществами в образовательной сред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психолого-педагогических консилиум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еемственность в обучении и воспитании обучающихся начальных классов и среднего звена» (5 кл.)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Трудные подростки. Формы методы  работы с подростками»;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Адаптация обучающихся (8-11 кл.) к новым   условиям обучения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дение индивидуальных консультаций с родителями, психологическое просвещение, знакомство с психологическими особенностями возраста ребёнка, методами бесконфликтного общения, психологией семейных отно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ведение профилактических бесед с учащимися группы риска (обсуждаются  вопросы личностного развития, зависимостей от наркотиков и алкоголя, жизненных ценностей, проблемы выбора профессии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просвещения родителей через родительский всеобуч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«Бесконтрольность свободного времени – основная причина совершения правонарушений и преступлений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ведение цикла профилактических бесед об ответственности родителей за воспитание дет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астие в работе вечерних рейдов по местам отдыха детей и подростков, дежурство на дискотеках ДК п.Солидар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я и проведение экскурс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водные данные анкетирования по определению ситуации, связанной с распространением и употреблением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аркотических средств и психотропных веществ лицами подросткового и юношеского возрастов за 2011 год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8-11-х классов МБОУ СОШ п.Солидарность Елецкого райо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Сопровожде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это система профессиональной деятельности специалистов, направленная на создание социально-психологических условий для успешного обучения и развития ребёнка в ситуациях школьного взаимодейств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казание помощи в социальной адаптации детям «группы риска» путем создания безопасного реабилитационного простра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ремя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епровожден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По каким причинам, на ваш взгляд, начинают курить, употреблять алкоголь, наркотики, токсические вещества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1600200"/>
          <a:ext cx="914400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Garamond"/>
              </a:rPr>
              <a:t>Мотив употребле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Отношение к наркотика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Что Вы думаете об употреблении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497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497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общение к наркотика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57360"/>
          <a:ext cx="91440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Какое поведение человека по отношению к спиртным напиткам Вы считаете нормальным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Информирован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125360"/>
          <a:ext cx="864216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e1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Знаете ли Вы, как приготавливаются и принимаются наркотик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557360"/>
          <a:ext cx="855504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55504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влечение детей в досуговую и игровую дея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омощи в учебной деятельности детям, повышение образовательной мотив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сихологической помощи де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отрицательного образа «Я» (повышение самооценки ребе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ятие социальной нормативности и привитие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рм повед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жличностны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омощи в выборе образовательного и профессионального маршру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сихолого- педагогической компетентности (психологическую культуру) учащихся, родителей, педагог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Знаете ли Вы о последствиях применения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e1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Если бы Вы захотели узнать, как противостоять рискованному поведению, чьей бы информации поверили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268280"/>
          <a:ext cx="9144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Какие, на Ваш взгляд, необходимо предпринять меры, чтобы уберечь подростков от пагубного влияния курения, алкоголя,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844640"/>
          <a:ext cx="914400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зультаты анкетирован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 определению профориентированной направл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учающихся 9-х классах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БОУ СОШ п.Солидарность     январь 2012 г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e5f0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Охвачено анкетированием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6 обучающихся 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                       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Выбрали профессию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- 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7 ч.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Не выбрали профессию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9 ч.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Дальнейшие планы: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продолжать обучение в школе-16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работать – 5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учиться в ПУ – 8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учиться в ССУЗ – 8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поступить в ВУЗ – 0ч.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Образовательное учреждение: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Липецкой области – 17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другого региона – 20ч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52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33"/>
                </a:solidFill>
                <a:uFillTx/>
                <a:latin typeface="Monotype Corsiva"/>
              </a:rPr>
              <a:t>Какую профессию Вы выбрали: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Юрист-4ч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дработник-2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женер-2ч.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троитель ж.д.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ЧС-3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журналист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ухгалтер – 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рмацевт – 2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мощник машиниста-3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рач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женер-технолог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неджер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ономист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енный летчик-1ч.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правление движением вагонного состава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втомеханик-4ч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e117"/>
            </a:gs>
            <a:gs pos="100000">
              <a:srgbClr val="e5f0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33"/>
                </a:solidFill>
                <a:uFillTx/>
                <a:latin typeface="Garamond"/>
              </a:rPr>
              <a:t>Мотивы выбора профессии: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ессия была престиж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хорошо оплачивалась – 26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была интересной – 9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авала возможность проявить инициативу, самостоятельность – 2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ее  легко можно было приобрести – 1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она соответствовала желаниям родителей – 1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можно было бы учиться или работать с друзьями – 3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можно было бы найти работу по специальности – 6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 будущем предоставляла хорошие условия труда – 7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52"/>
            </a:gs>
            <a:gs pos="100000">
              <a:srgbClr val="17e18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стижные профессии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к полиции, военный, экономист,  инженер, врач,  работа в здравоохранении, адвокат, менеджер, юрист, строитель, инженер, газоэлектросварщик, ресторанный бизнес, сотрудник М ЧС, электрик, адвокат, бухгалт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рестижные професс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авец, механик, дворник, кондуктор, парикмахер, повар, технический работник, тракторис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6633"/>
                </a:solidFill>
                <a:uFillTx/>
                <a:latin typeface="Garamond"/>
              </a:rPr>
              <a:t>Экскурсия в Аргамач -Пальн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949320"/>
            <a:ext cx="7920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35160" cy="295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841920" cy="2881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11640" y="2924280"/>
            <a:ext cx="43466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686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aramond"/>
              </a:rPr>
              <a:t>Факторы, негативно влияющие на развитие и поведение детей и подростков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Экскурсия в г.Вороне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46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Экскурсия в г.Вороне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15920" y="11224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516720" y="549360"/>
            <a:ext cx="2322360" cy="309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484800" cy="2613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468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5d0f09"/>
                </a:solidFill>
                <a:latin typeface="Garamond"/>
              </a:rPr>
              <a:t>Спасибо за внимание!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1. Процессы, происходящие в обществе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ясной, позитивной государственной идеологии, направленной на изменение иерархии обществен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овершенство законов и работы правоохранительных органов, безнаказанность преступ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работица (явная и скрыт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социальных гарантий и государственной поддержки экономически  несостоятельных семей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а насилия и жестокости через средства массов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упность табака, алкоголя, наркотических 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7680" y="2901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2. Состояние семьи, ее атмосфера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полная семь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ериальное положение семьи (как бедность, так и богатство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изкий социально-культурный уровень родител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тсутствие семейных традиц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тиль воспитания в семье (отсутствие единых требований к ребенку, жестокость родителей, их безнаказанность и бесправие ребенк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трицание самоценности ребен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довлетворение потребностей детей (недостаток или избыток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лоупотребление родителей алкоголем, наркотиками и др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пустительское отношение родителей к употреблению детьми психоактивных веще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3. Внутренние факторы риска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щущение ребенком собственной ненуж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изкая самооценка, неуверенность в себ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достаточный самоконтроль и самодисцип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знание и неприятие социальных норм и ценностей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умение критически мыслить и принимать адекватные решения в различных ситуация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умение выражать свои чувства, реагировать на свои поступки и поступки других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5d0f09"/>
                </a:solidFill>
                <a:latin typeface="Garamond"/>
              </a:rPr>
              <a:t>Признаками обучающихся «группы риска»  могут являтьс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1. Уклонение от учебы вследств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успеваемости по большинству предме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ставания в интеллектуальном развит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иентации  на другие виды деят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сутствия познавательных интере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2. Низкая общественно-трудовая активнос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каз от общественных поруч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небрежительное отношение к делам клас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монстративный отказ от участия в трудовых дел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небрежительное отношение к общественной собственности, ее порч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знаками проблемных детей могут являться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Негативные проя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спиртных напит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психотропных и токсически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га к азартным иг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доровые сексуальные про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Негативизм в оценке дей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20:17Z</dcterms:created>
  <dc:creator>дом</dc:creator>
  <dc:description/>
  <dc:language>en-US</dc:language>
  <cp:lastModifiedBy>дом</cp:lastModifiedBy>
  <dcterms:modified xsi:type="dcterms:W3CDTF">2012-09-10T15:53:21Z</dcterms:modified>
  <cp:revision>24</cp:revision>
  <dc:subject/>
  <dc:title>        Организация работы  по профилактике правонарушений, бродяжничества и беспризорности»  среди несовершеннолетних в  МБОУ СОШ п.Солидарность Елецкого района (выполнение закона РФ №120)                     выступление подготовила:                                                   педагог-психолог О.В.Нехлопочина</dc:title>
</cp:coreProperties>
</file>