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56D-BAAC-4653-8CFF-383F7B79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BA-842C-40B6-93B0-79016E7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19C-1BD2-4914-8C42-69A6A16C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84F-8233-4102-8734-B1ED5067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8349-4376-4E02-A607-EC1A1174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189D-4341-4DDE-8197-5254E9C8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C2A-061E-4146-B934-C472B661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277-AEB5-4260-8287-EC1BF5B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259-EE52-47B9-9B27-8858851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804-19E5-4328-830E-23945D6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CC9-88C5-426A-98FA-3201CEB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591-F797-407C-8101-D7A9F1A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F38-2733-44B1-A217-4CA236F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89CA-4A63-46CD-9E1F-16B1278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69E-D8ED-47F6-A34C-0DAE234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E6D-55D0-4F85-B1B9-9D36E709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488-CC37-4231-86B2-E778A874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D37F-013E-48C2-A0E3-8085326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DB24-45CB-45A1-A210-C72DF62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44BC-BAB9-4361-94B7-95FDD918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ADA9-EF88-42EF-8F11-2EE3A886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AED1-4683-4C8F-AC5A-9963369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1C0-C9A9-46B1-B2B3-44EAD5B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731E-1021-433E-9E55-7DE12FA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807F-FA73-4AA4-919D-50DE775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977E-B028-4ED1-B8E5-CAB6626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7352-8969-43F6-B112-11E9A61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66C0-3F50-4DF3-BCBF-A5BCA4A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84A1-AD9C-4038-88F1-1099D276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B0B9-0575-4DB2-93A5-70B1340C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2C3F-71F0-46B9-8319-F79D1A0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5452-4A72-45AE-A02E-8F33525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917B-3631-43AC-9D61-779D3124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A7F-0103-4F10-9094-350ED5B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327F-5C3B-4C5C-92F7-8B74129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138E-00AE-419E-BF3A-315B46C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ABEF-1D2B-43B1-BC62-E0AC786B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7A8A-2652-4635-8C7B-5D5A34C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6B18-EB8F-4EB8-97E0-9CD146E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A802-D4F9-4527-9DDA-B15F20A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BD0F-ACDE-44A2-943D-A6782B3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FD5C-6110-4618-8457-7C0BE20F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C13E-0D5A-4239-807D-47A0DFF4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F869-FA5A-4DD1-8C79-D687292C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233-A511-4977-80D2-CC197F11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AD8B-4028-4E5C-8599-A17F4AA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99C2-613A-4AA6-88F2-D83EC2C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F34D-84F9-4ADF-8C72-C4BFF69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295E-75AB-4A7E-8DC4-F18DFB1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4D85-741A-464D-ACE3-5B520C9E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918E-E3A3-4543-BA2F-4886514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3A78-5F2E-4921-B818-F71A1CD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1325-516D-4D6F-8B4B-51E34A0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C47C-5EFA-4961-85F5-BEA172A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75A35-8912-4611-9DA3-D562E1DC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7AE-D3E2-41F7-810D-638AF923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4793-1B84-4077-86EE-DCD6C838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FEC0-9F4B-4DF2-832B-5F7333DD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21E4-D939-423C-9751-302418E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CA52-D909-4508-9AF3-AC787CC8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80CCF-A5A2-48F2-BA07-E82EE0F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A2D9-E887-4029-AEA8-BFB4F9B2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DBA0-CD94-4CE9-A4CB-8F5FAD3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2411-A913-4A6D-896D-18EAA56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E227-17C1-480F-A4BC-7956F5D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1FBA-AEB1-4B8A-9AE8-C259EFB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65B-AD73-4A97-ABCC-CCD16D9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35191-3DE9-4E02-A828-888BEFB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B42A-162E-4F9F-8844-A98E1A42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55FD-27AD-4039-BE61-B6C8965F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0247-A475-4D82-B1DA-7520FBC6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7FCB-98B0-45A1-8BF2-575279B3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C02F-9336-4373-9C80-9465FCD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32E9-CBEB-4637-B209-EE06A039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2D64-C484-441B-A4C5-633FA3F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6F146-CE75-44C6-BDE2-1223F68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693B-E8E1-4F08-A17A-D5E0705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420-516B-4E91-85F0-E65BB12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2511-9745-4BB2-A788-DE52F3F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37E2-15F6-433D-9AF4-1E43817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F730-3667-4BFC-991A-547E0B13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BC4D-72D0-46B1-BD6F-9F4319C5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3CE13-0A24-4932-87FD-D4772C71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EE87-B201-4C66-86B9-FB2DCFBE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11BB-0C1B-4D67-B9C2-8587EF6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8A9E0-66F3-4012-A37A-FDFDDC7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9A57-9007-429E-ACCA-1A6257CB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9DDE-0A6C-4E94-B058-A3140F9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CB3-9CA3-4190-9CFF-85E9409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1360-D52C-42DB-9EC9-1DED6885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C461-EDA9-4C5B-8AAE-F803C2B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84394-F2B1-477B-A313-F0FC458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8535D-BFF9-435C-803F-A509BC6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7BEE-73EB-4D7F-9BB6-0C7A3AE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14E3-C48F-4BBE-99CB-E9521F22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5DF5-2FA0-4306-A655-4E3C621A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AC7-FBB8-412E-866D-CA6288CCCA7B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119A-B72E-43A7-8BB1-1F7117756C61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C24-E953-4174-A970-A0D8D87C014F}" type="slidenum"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B5D-B04C-4167-B923-42AA04EAD01E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5DD-E2C6-4646-A086-47E520C469E8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3BB-60EB-4DC5-984D-64427C22A197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FDE-E392-456A-9850-51C0B854A5E8}" type="slidenum"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6F5-0A60-4C26-9E58-E51A82C5C145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petsktime.ru/photo/news/1_120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056.radikal.ru/0909/d3/839688d5541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petsktime.ru/photo.news/1-1200.jpg" TargetMode="External"/><Relationship Id="rId2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3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4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5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6" Type="http://schemas.openxmlformats.org/officeDocument/2006/relationships/hyperlink" Target="http://images.yandex.ru/search?p=42&amp;ed=1&amp;text" TargetMode="External"/><Relationship Id="rId7" Type="http://schemas.openxmlformats.org/officeDocument/2006/relationships/hyperlink" Target="http://images.yandex.ru/search?p=42&amp;ed=1&amp;text" TargetMode="External"/><Relationship Id="rId8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9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0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1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2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3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4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5&amp;ed=1&amp;text=&#1096;&#1082;&#1086;&#1083;&#1072;&amp;spsite=fake-053-749345.ru&amp;img_url=www.fle.henderson.k12.nc.us/Teachers/mhaney-web/014755E4-000F5C5C.32/protractor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55.radikal.ru/i148/0909/58/2dfab92a244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42&amp;ed=1&amp;text=&#1096;&#1082;&#1086;&#1083;&#1072;&amp;spsite=fake-015-581494.ru&amp;img_url=s49.radikal.ru/i125/0808/11/03a5b123776c.jpg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3642840"/>
            <a:ext cx="6858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33"/>
                </a:solidFill>
                <a:latin typeface="Cambria"/>
              </a:rPr>
              <a:t>КАК ДОСТИЧЬ УСПЕХА В УЧЕБЕ?</a:t>
            </a:r>
            <a:endParaRPr b="0" lang="en-US" sz="44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354" name="i-main-pic" descr="Картинка 5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285840"/>
            <a:ext cx="44053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кажется, что тебя по рукам  и ногам сковали требования родителей и учителей, используй три инструмента, о которых здесь говорилось. Тогда ты повысишь успеваемость в учебе и увидишь, что трудился не зря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7" name="i-main-pic" descr="Картинка 33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3357720"/>
            <a:ext cx="2928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Trebuchet MS"/>
              </a:rPr>
              <a:t>Используемые источники: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http://www.lipetsktime.ru/photo.news/1-1200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images.yandex.ru/search?p=75&amp;ed=1&amp;text=%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D1%88%D0%BA%D0%BE%D0%BB%D0%B0&amp;spsite=fake-053-749345.ru&amp;img_url=www/file/henderson/k12.nc.us/Teachers/mhaney-web/014755E4-000F5C5C.32/protractor/jpg&amp;rpt=sima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s55.radikal.ru/i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1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48/0909/58/2dfab92a244c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images.yandex.ru/search?p=42&amp;ed=1&amp;text=%D1%88%D0%BA%D0%BE%D0%BB%D0%B0&amp;spsite=fake-d5-581494.ru&amp;img_url=s49radikal.ru/i125/0808/11/03a5b123776c.jpg&amp;rpt=sima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2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allday.ru/uploads/posts/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4"/>
              </a:rPr>
              <a:t>1191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268944_c4104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http://i056.radikal.ru/0909/d3/839688d55411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214200"/>
            <a:ext cx="822960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СТАВЬ, что ты очутился в непроходимых джунглях. Сквозь листву не пробивается ни единого луча света. Плотные заросли стеснили тебя со всех сторон, трудно даже двинуться с места. Чтобы выбраться, ты вынужден пробивать себе путь с помощью острого мачет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е напоминает ли это тебе учебу в школе? Днем ты на занятиях, вечером за уроками – никакой свободы, точно в западне! Знакомое ощущени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7" name="Рисунок 3" descr="http://im7-tub.yandex.net/i?id=22648902-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4286160"/>
            <a:ext cx="23572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114264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дители и учителя, наверное, уговаривают тебя взяться за учебу как следует. Это не для того, чтобы просто усложнить тебе жизнь. Они хотят полностью раскрыть твой потенциал. Как быть, если кажется, что планка чересчур завышена, и у тебя опускаются руки? Прорубить себе путь! В этом тебе помогут некоторые инструменты. Каки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0" name="i-main-pic" descr="Картинка 40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571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1. Правильное отношение к учебе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ряд ли у тебя будет желание учиться, если ты не видишь в этом смысла. Поэтому загляни немного вперед. Может показаться, что из школьной программы тебе пригодится далеко не все, - во всяком случае сейчас. Однако, получив общие знания по разным предметам, ты будешь лучше разбираться в окружающем тебя мире. Благодаря этому ты сможешь стать настоящим собеседником. Так или иначе, ты заостришь свой ум, и в последствии это тебе очень и очень пригоди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e5b6f"/>
                </a:solidFill>
                <a:latin typeface="Trebuchet MS"/>
              </a:rPr>
              <a:t>Знаешь ли ты… </a:t>
            </a:r>
            <a:endParaRPr b="0" lang="en-US" sz="6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Шпаргалки и прочие хитрости подрывают доверие к человеку и тормозят его развитие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5" name="Рисунок 3" descr="http://im6-tub.yandex.net/i?id=98493377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571920"/>
            <a:ext cx="1643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2. Вера в свои силы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6329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Школа может обнаружить твои скрытые таланты. В школе ты научишься их развивать и даже сможешь раскрыть те способности, о которых и не подозрева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обрекай сам себя на неудачу, думая, что учиться лучше тебе не по силам. Когда лезут мысли, будто ты ни к чему не способен, старайся думать о том, что у тебя получается хорош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8" name="i-main-pic" descr="Картинка 115 из 2368856">
            <a:hlinkClick r:id="rId1"/>
          </p:cNvPr>
          <p:cNvPicPr/>
          <p:nvPr/>
        </p:nvPicPr>
        <p:blipFill>
          <a:blip r:embed="rId2"/>
          <a:srcRect l="0" t="0" r="5380" b="5622"/>
          <a:stretch/>
        </p:blipFill>
        <p:spPr>
          <a:xfrm>
            <a:off x="6786720" y="3046320"/>
            <a:ext cx="20001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3. Хорошая организованность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успеху в учебе нет легких путей. Рано или поздно взяться за учебу придется. Возможно, от одной лишь мысли об учебе становится тоскливо. И все же учиться стоит. Немного усилий – и тебе это, возможно, понрави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бы хорошо организовать себя, нужно правильно распределять время. Не забывай: пока ты школьник, учеба для тебя – ГЛАВНО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откладывай важные дела на потом. Не волнуйся, ты найдешь время и на учебу, и на развлечения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Как делать уроки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здай себе место для занят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бери все, что отвлекает. Если возможно, сиди     за письменным столом. Не включай телевизо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начала главн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ба – важное дело, поэтому твердо реши, что не будешь смотреть телевизор или сидеть за компьютером, пока не сделаешь уро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Не тяни резин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ь четкое расписание для домашних заданий и придерживайся 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Как делать уроки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оставь пла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умай, с какого предмета начать, какой будет вторым и так далее. Составь список и отведи и отведи на каждый предмет определенное время. Вычеркивай то, что сдела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елай перерыв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чувствуешь, что устал, сделай небольшой перерыв. Но как можно скорее возвращайся к урока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ерь в свои сил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роший ученик отличается от плохого не умом, а трудолюбием. Ты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можеш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добиться успеха! Постарайся и убедишься в этом са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45:12Z</dcterms:created>
  <dc:creator>андрей</dc:creator>
  <dc:description/>
  <dc:language>en-US</dc:language>
  <cp:lastModifiedBy>Андрей</cp:lastModifiedBy>
  <dcterms:modified xsi:type="dcterms:W3CDTF">2013-01-13T14:58:57Z</dcterms:modified>
  <cp:revision>10</cp:revision>
  <dc:subject/>
  <dc:title>КАК ДОСТИЧЬ УСПЕХА В УЧЕБЕ?</dc:title>
</cp:coreProperties>
</file>