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328-8A80-402B-AEE8-B369922B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6F2-2CED-4C18-A94B-EE08B972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3C6-891C-4D69-A372-E36961BD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56C-5462-413B-9029-0EC4097C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8E80-E493-4F90-8B1C-BBB38A1B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ECE0-7C27-4AEF-A271-1706D368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EEEC-5285-4EA0-BB56-47621121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81A9-71D9-4686-8DC1-3E119539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D94F-B99A-495D-BF7F-CE60C5A1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F296-C4C4-402C-9B35-4D9A82A3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D524-3DF0-462B-BA1A-255239F3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8A2-768A-4E2F-8922-9EAE7AE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EA4-285B-4F3F-8123-4133CEC8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3CDE-BD6B-4272-A59C-BCC7AA76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33D5-870A-48C0-8E50-0EEC41D6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3B03-F4A9-4378-9919-66ABE856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C585-B8E2-411C-BF8A-7A7071AA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1E75-0E76-487B-831B-C017B06B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3E39-F7A0-415C-8399-9A2C1D98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4379C-6ADE-4057-9A62-D1657FF9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7886-EB08-4402-BF95-C0DBAAA2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982E7-8209-4878-9787-D9006716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3B5-96E6-4212-BDC4-AEF8D010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7672D-9FB2-4F71-AC00-F454384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A5447-ACAB-4314-A5B2-BC199DD8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EE0B-A37F-4A59-B796-10087B7E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652C2-7F11-4F82-BD02-C960F27B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3D10-7193-49B5-8A42-6D22CC70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5A60-322D-40DF-B39E-5744F6A7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6196-0CE2-4F91-83D9-C5C14F44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0C3B-12FB-4791-92EE-DE738F80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D326-0229-4E4F-AC00-FA49555E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62D8-5DA8-442E-A1B4-26EEACF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031-CF08-4341-82D9-19C4161B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9D40-4681-4B93-9EEF-226BEFA7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3AAD1-2ADB-4060-BF69-6545E2A9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0D2D-B7C5-449F-8159-22660F3E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342C-0B23-4661-9B96-E0868287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18181-7501-4E03-A791-F044EFE6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0504-FBB6-482F-AFEC-C2D28BE5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16F8-520C-4438-931F-1A0D0A05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6F19-75DF-4CF6-AF00-E3F227E8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1E20-169F-46C9-962B-C414D0F8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061FD-B5F6-4890-96C4-593AC744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B2E-4C0E-45DC-8AD2-F8EDA986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4602-2350-4DF1-BE7D-70958328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3F0C-0EF0-4021-9E4F-56076137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6BC3B-9B9F-435B-84D3-C4D67775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933B0-A0E3-4CCE-814D-D5639F3B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5BF5F-CBE4-4014-BADF-2DA0766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EEF6F-FB49-42FD-B6C9-3D961291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2ACA6-4F2E-4649-8247-47A2452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A916-6ED1-424F-B3F2-75002A9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72403-F812-4137-A8B7-8CE30047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8618-865F-4D68-87E6-D865B687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F66-4A0E-4D33-969D-AC92AEC6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8C7F-1B97-49F4-8235-521D54AF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DF37-3A8D-4175-BF30-4DFC8459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BA484-4836-49ED-9362-5511B368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3BA8-04A3-4F33-999B-7849C6E3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FF87D-CD13-471A-B3C8-BD4A0B97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60A7-4BC1-49CC-B0E8-D47031DD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D5118-944C-4F25-AE3E-5AE3FD8B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59EC-603B-4298-88AA-7667623E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7998C-3203-43F2-8125-6A159A90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43B70-FBCD-4701-8862-FF800424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538-F6B8-4C34-9868-8601C8F4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634D1-F184-4CD1-BADE-4376CC3C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631D9-28E8-4C1E-A945-8D5B4A2A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38708-6114-4BBE-ACE2-329AEC95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DC9C2-382E-4EF9-BDCE-0A70DA7F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B4964-893C-427A-B1E0-DFD99405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FB3A3-E066-439F-B21C-98D8F8F0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1083-2E9F-4615-A924-62A54E05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649B1-5330-4FF0-9051-639A566C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7A367-1C6E-4C45-9625-8E7E846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7A875-0CBA-474D-AB71-C4FFA768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7CFD-4CD2-49F5-B031-4A4ECAC7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60C0B-E311-468C-8965-18BD9B4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F1654-FB4B-4072-8294-26080D4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3A503-0297-4A95-9B99-415E20BA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506B-EE6D-4788-9A5E-2C6C7CF4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8DDEB-0F6D-4774-8EF9-7F56D077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D9031-34C9-40EF-A1CB-54070B56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099B2-CA00-424D-9762-E5E2C60C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16B60-09C3-4BBF-BE31-568753D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E9123-4374-4E99-9C77-E0E5836D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1B227-8DDA-411C-9248-67FE1C2D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F38-2633-4387-9472-D5CF90B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7E68C-7282-48D0-B7DA-FE9301F1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9E828-53AF-4C10-BE20-E2082D3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1AFB-4F56-4E49-A66D-5B7643DE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E576E-EE15-49EB-8BC5-1198249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878A-1899-4289-A84C-CE11FD9A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38405-5481-4316-9A1E-8BC8628F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59CAA-F8D4-4208-B067-A36AE280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B46C-03DC-4DCD-9218-0FC0C13C746B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E35-B239-46EB-AA15-5433CAB9A1BF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6ec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6ec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6ec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4B67-B2C8-4C0C-B5AA-7C9D0BAC8291}" type="slidenum">
              <a:rPr b="0" lang="ru-RU" sz="1400" spc="-1" strike="noStrike">
                <a:solidFill>
                  <a:srgbClr val="d6ec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2EF5-B728-4788-AE6A-4F17B459AFF5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1B52-C73E-4450-9186-079393CF61FA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C1C4-CE5F-4C92-844A-AA92FF9748D2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6ec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6ec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6ec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F309-0A7D-43B3-A1D0-A49401082042}" type="slidenum">
              <a:rPr b="0" lang="ru-RU" sz="1400" spc="-1" strike="noStrike">
                <a:solidFill>
                  <a:srgbClr val="d6ec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75DC-C0B4-4E3D-ADAA-7693A5A2DF20}" type="slidenum">
              <a:rPr b="0" lang="ru-RU" sz="1400" spc="-1" strike="noStrike">
                <a:solidFill>
                  <a:srgbClr val="4e5b6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petsktime.ru/photo/news/1_120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056.radikal.ru/0909/d3/839688d5541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petsktime.ru/photo.news/1-1200.jpg" TargetMode="External"/><Relationship Id="rId2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3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4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5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6" Type="http://schemas.openxmlformats.org/officeDocument/2006/relationships/hyperlink" Target="http://images.yandex.ru/search?p=42&amp;ed=1&amp;text" TargetMode="External"/><Relationship Id="rId7" Type="http://schemas.openxmlformats.org/officeDocument/2006/relationships/hyperlink" Target="http://images.yandex.ru/search?p=42&amp;ed=1&amp;text" TargetMode="External"/><Relationship Id="rId8" Type="http://schemas.openxmlformats.org/officeDocument/2006/relationships/hyperlink" Target="http://images.yandex.ru/search?p=75&amp;ed=1&amp;text=&#1096;&#1082;&#1086;&#1083;&#1072;&amp;spsite=fake-053-749345.ru&amp;img_url=www/file/henderson/k12.nc.us/Teachers/mhaney-web/014755E4-000F5C5C.32/protractor/jpg&amp;rpt=simade" TargetMode="External"/><Relationship Id="rId9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0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1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2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3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4" Type="http://schemas.openxmlformats.org/officeDocument/2006/relationships/hyperlink" Target="http://images.yandex.ru/search?p=42&amp;ed=1&amp;text=&#1096;&#1082;&#1086;&#1083;&#1072;&amp;spsite=fake-d5-581494.ru&amp;img_url=s49radikal.ru/i125/0808/11/03a5b123776c.jpg&amp;rpt=simage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75&amp;ed=1&amp;text=&#1096;&#1082;&#1086;&#1083;&#1072;&amp;spsite=fake-053-749345.ru&amp;img_url=www.fle.henderson.k12.nc.us/Teachers/mhaney-web/014755E4-000F5C5C.32/protractor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55.radikal.ru/i148/0909/58/2dfab92a244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42&amp;ed=1&amp;text=&#1096;&#1082;&#1086;&#1083;&#1072;&amp;spsite=fake-015-581494.ru&amp;img_url=s49.radikal.ru/i125/0808/11/03a5b123776c.jpg&amp;rpt=s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8944_c410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3642840"/>
            <a:ext cx="6858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33"/>
                </a:solidFill>
                <a:latin typeface="Cambria"/>
              </a:rPr>
              <a:t>КАК ДОСТИЧЬ УСПЕХА В УЧЕБЕ?</a:t>
            </a:r>
            <a:endParaRPr b="0" lang="en-US" sz="44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354" name="i-main-pic" descr="Картинка 5 из 23688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43120" y="285840"/>
            <a:ext cx="44053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гда кажется, что тебя по рукам  и ногам сковали требования родителей и учителей, используй три инструмента, о которых здесь говорилось. Тогда ты повысишь успеваемость в учебе и увидишь, что трудился не зря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7" name="i-main-pic" descr="Картинка 33 из 23688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3357720"/>
            <a:ext cx="2928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5b6f"/>
                </a:solidFill>
                <a:latin typeface="Trebuchet MS"/>
              </a:rPr>
              <a:t>Используемые источники: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http://www.lipetsktime.ru/photo.news/1-1200.jp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4"/>
              </a:rPr>
              <a:t>images.yandex.ru/search?p=75&amp;ed=1&amp;text=%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5"/>
              </a:rPr>
              <a:t>D1%88%D0%BA%D0%BE%D0%BB%D0%B0&amp;spsite=fake-053-749345.ru&amp;img_url=www/file/henderson/k12.nc.us/Teachers/mhaney-web/014755E4-000F5C5C.32/protractor/jpg&amp;rpt=sima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6"/>
              </a:rPr>
              <a:t>http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7"/>
              </a:rPr>
              <a:t>://</a:t>
            </a: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s55.radikal.ru/i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8"/>
              </a:rPr>
              <a:t>1</a:t>
            </a: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48/0909/58/2dfab92a244c.jp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9"/>
              </a:rPr>
              <a:t>http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0"/>
              </a:rPr>
              <a:t>://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1"/>
              </a:rPr>
              <a:t>images.yandex.ru/search?p=42&amp;ed=1&amp;text=%D1%88%D0%BA%D0%BE%D0%BB%D0%B0&amp;spsite=fake-d5-581494.ru&amp;img_url=s49radikal.ru/i125/0808/11/03a5b123776c.jpg&amp;rpt=sima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2"/>
              </a:rPr>
              <a:t>http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3"/>
              </a:rPr>
              <a:t>://</a:t>
            </a: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allday.ru/uploads/posts/ </a:t>
            </a:r>
            <a:r>
              <a:rPr b="0" lang="en-US" sz="20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4"/>
              </a:rPr>
              <a:t>1191</a:t>
            </a: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268944_c4104.jp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18219"/>
                </a:solidFill>
                <a:uFillTx/>
                <a:latin typeface="Times New Roman"/>
                <a:ea typeface="Times New Roman"/>
              </a:rPr>
              <a:t>http://i056.radikal.ru/0909/d3/839688d55411.jp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214200"/>
            <a:ext cx="8229600" cy="39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СТАВЬ, что ты очутился в непроходимых джунглях. Сквозь листву не пробивается ни единого луча света. Плотные заросли стеснили тебя со всех сторон, трудно даже двинуться с места. Чтобы выбраться, ты вынужден пробивать себе путь с помощью острого мачет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е напоминает ли это тебе учебу в школе? Днем ты на занятиях, вечером за уроками – никакой свободы, точно в западне! Знакомое ощущени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7" name="Рисунок 3" descr="http://im7-tub.yandex.net/i?id=22648902-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4286160"/>
            <a:ext cx="235728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1142640"/>
            <a:ext cx="60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одители и учителя, наверное, уговаривают тебя взяться за учебу как следует. Это не для того, чтобы просто усложнить тебе жизнь. Они хотят полностью раскрыть твой потенциал. Как быть, если кажется, что планка чересчур завышена, и у тебя опускаются руки? Прорубить себе путь! В этом тебе помогут некоторые инструменты. Какие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0" name="i-main-pic" descr="Картинка 40 из 23688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571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1. Правильное отношение к учебе.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ряд ли у тебя будет желание учиться, если ты не видишь в этом смысла. Поэтому загляни немного вперед. Может показаться, что из школьной программы тебе пригодится далеко не все, - во всяком случае сейчас. Однако, получив общие знания по разным предметам, ты будешь лучше разбираться в окружающем тебя мире. Благодаря этому ты сможешь стать настоящим собеседником. Так или иначе, ты заостришь свой ум, и в последствии это тебе очень и очень пригоди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e5b6f"/>
                </a:solidFill>
                <a:latin typeface="Trebuchet MS"/>
              </a:rPr>
              <a:t>Знаешь ли ты… </a:t>
            </a:r>
            <a:endParaRPr b="0" lang="en-US" sz="6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Шпаргалки и прочие хитрости подрывают доверие к человеку и тормозят его развитие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5" name="Рисунок 3" descr="http://im6-tub.yandex.net/i?id=98493377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3571920"/>
            <a:ext cx="1643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2. Вера в свои силы.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6329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Школа может обнаружить твои скрытые таланты. В школе ты научишься их развивать и даже сможешь раскрыть те способности, о которых и не подозрева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обрекай сам себя на неудачу, думая, что учиться лучше тебе не по силам. Когда лезут мысли, будто ты ни к чему не способен, старайся думать о том, что у тебя получается хорош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8" name="i-main-pic" descr="Картинка 115 из 2368856">
            <a:hlinkClick r:id="rId1"/>
          </p:cNvPr>
          <p:cNvPicPr/>
          <p:nvPr/>
        </p:nvPicPr>
        <p:blipFill>
          <a:blip r:embed="rId2"/>
          <a:srcRect l="0" t="0" r="5380" b="5622"/>
          <a:stretch/>
        </p:blipFill>
        <p:spPr>
          <a:xfrm>
            <a:off x="6786720" y="3046320"/>
            <a:ext cx="200016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3. Хорошая организованность.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 успеху в учебе нет легких путей. Рано или поздно взяться за учебу придется. Возможно, от одной лишь мысли об учебе становится тоскливо. И все же учиться стоит. Немного усилий – и тебе это, возможно, понравитс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бы хорошо организовать себя, нужно правильно распределять время. Не забывай: пока ты школьник, учеба для тебя – ГЛАВНО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откладывай важные дела на потом. Не волнуйся, ты найдешь время и на учебу, и на развлечения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Как делать уроки?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оздай себе место для занят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бери все, что отвлекает. Если возможно, сиди     за письменным столом. Не включай телевизо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начала главн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еба – важное дело, поэтому твердо реши, что не будешь смотреть телевизор или сидеть за компьютером, пока не сделаешь уро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Не тяни резин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тавь четкое расписание для домашних заданий и придерживайся ег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mbria"/>
              </a:rPr>
              <a:t>Как делать уроки?</a:t>
            </a:r>
            <a:endParaRPr b="0" lang="en-US" sz="36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оставь план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умай, с какого предмета начать, какой будет вторым и так далее. Составь список и отведи и отведи на каждый предмет определенное время. Вычеркивай то, что сделан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Делай перерыв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сли чувствуешь, что устал, сделай небольшой перерыв. Но как можно скорее возвращайся к урока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ерь в свои сил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ороший ученик отличается от плохого не умом, а трудолюбием. Ты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можешь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добиться успеха! Постарайся и убедишься в этом са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5:45:12Z</dcterms:created>
  <dc:creator>андрей</dc:creator>
  <dc:description/>
  <dc:language>en-US</dc:language>
  <cp:lastModifiedBy>Андрей</cp:lastModifiedBy>
  <dcterms:modified xsi:type="dcterms:W3CDTF">2013-01-13T14:58:57Z</dcterms:modified>
  <cp:revision>10</cp:revision>
  <dc:subject/>
  <dc:title>КАК ДОСТИЧЬ УСПЕХА В УЧЕБЕ?</dc:title>
</cp:coreProperties>
</file>