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8.wmf" ContentType="image/x-wmf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2C8D-3D39-4729-9783-D9A1BDCCEF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5456-D8C6-4C66-9634-263BF9530A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D4C0-59B3-4DFA-9B21-CACEA6048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101D-7BE8-43EC-BD71-1607C690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8881-F553-41D9-BD70-0C7B9E13B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52E7-77A3-4B9A-B420-347F91318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421C-B845-4F99-BBF7-B2833413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1C94-3633-4653-B3AD-767069A1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A466-FA98-4461-AC9C-04E85927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2AAE-375A-40FB-B405-FB3B48B9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43EF-0A58-4B57-8522-C654316C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4C9D-40AD-48FD-96E8-9CB9862E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702B-7ED2-4154-BD96-973176E2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6841-E23B-4682-8E67-3877E9D9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3AF2-9BFD-4368-BC35-48CB474D05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intel.com/business/community/index.php?act=attach&amp;type=blogentry&amp;id=2508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hit.ro/lib/uploads/image/an_2009/luna_02/zi_06/kasp2.jpg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www.3dnews.ru/_imgdata/img/2008/08/13/91636.gif" TargetMode="External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static-p3.fotolia.com/jpg/00/03/24/76/400_F_3247691_fQRxpiEFldVWX4woBCj6yzVWYhyvxK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c01.rambler.ru/f/bc9dd693d7e32ef464f305bc2a9b6cd3/img15.nnm.ru/a/e/9/9/f/2424dd943ed169e30807be56310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social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27628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Bookman Old Style"/>
              </a:rPr>
              <a:t>Нормально ли дружить через ИНТЕРНЕТ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14200" y="214200"/>
            <a:ext cx="73090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a300"/>
                </a:solidFill>
                <a:latin typeface="Bookman Old Style"/>
              </a:rPr>
              <a:t>Будь осмотрителен при деловых операция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Картинка 5 из 37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3789360"/>
            <a:ext cx="3038400" cy="3068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Картинка 118 из 374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4120" y="3724200"/>
            <a:ext cx="3809880" cy="3133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Картинка 68 из 374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451640" y="214200"/>
            <a:ext cx="1692360" cy="1541520"/>
          </a:xfrm>
          <a:prstGeom prst="rect">
            <a:avLst/>
          </a:prstGeom>
          <a:ln w="0">
            <a:noFill/>
          </a:ln>
        </p:spPr>
      </p:pic>
      <p:sp>
        <p:nvSpPr>
          <p:cNvPr id="86" name="TextBox 7"/>
          <p:cNvSpPr/>
          <p:nvPr/>
        </p:nvSpPr>
        <p:spPr>
          <a:xfrm>
            <a:off x="642960" y="1857240"/>
            <a:ext cx="7143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Особенно осторожным нужно быть, когда даешь личные сведения. Иначе можешь стать жертвой мошенничества или чего-то поху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f7f7f"/>
                </a:solidFill>
                <a:latin typeface="Bookman Old Style"/>
              </a:rPr>
              <a:t>? Знаешь ли ты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324000" y="1700280"/>
            <a:ext cx="8399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Стоит только сообщить в Интернете личные данные, например, фамилию, номер школы или телефона, и злоумышленн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сможет тебя на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1211113284_150big"/>
          <p:cNvPicPr/>
          <p:nvPr/>
        </p:nvPicPr>
        <p:blipFill>
          <a:blip r:embed="rId1"/>
          <a:stretch/>
        </p:blipFill>
        <p:spPr>
          <a:xfrm>
            <a:off x="5000760" y="3214800"/>
            <a:ext cx="372240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71360" y="714240"/>
            <a:ext cx="735804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Bookman Old Style"/>
              </a:rPr>
              <a:t>Как и при личном общени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71680" y="1857240"/>
            <a:ext cx="8177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прекрати разгово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если он уходит не т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857160" y="3214800"/>
            <a:ext cx="757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Bookman Old Style"/>
              </a:rPr>
              <a:t>Пользуйся Интернетом на виду у друг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571680" y="4714920"/>
            <a:ext cx="8072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Если тебе приходится «скрывать свою сущность» от родителей, это ненорма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31816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Bookman Old Style"/>
              </a:rPr>
              <a:t>«Хорошо, что я не поторопилс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981080" y="3357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357120" y="1052640"/>
            <a:ext cx="8607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Тебе хочется иметь друзей. Это естественно. Мы созданы с потребностью в близком общении. Такие чувства заложены в нас при рождении. Но при выборе друзей нужно быть осторож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Будь уверен, что ты обязательно найдешь хороших друзе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2463840" y="4249800"/>
            <a:ext cx="6500880" cy="2226960"/>
          </a:xfrm>
          <a:prstGeom prst="rect">
            <a:avLst/>
          </a:prstGeom>
          <a:solidFill>
            <a:srgbClr val="badde1"/>
          </a:solidFill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«Друзей, которые бы любили и уважали тебя найти нелегко. Но когда их находишь, понимаешь, хорошо, что я не поторопился с выбором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BD06662_"/>
          <p:cNvPicPr/>
          <p:nvPr/>
        </p:nvPicPr>
        <p:blipFill>
          <a:blip r:embed="rId1"/>
          <a:stretch/>
        </p:blipFill>
        <p:spPr>
          <a:xfrm>
            <a:off x="357120" y="5000760"/>
            <a:ext cx="17938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502457972984cc28220667fa95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5"/>
          <p:cNvSpPr/>
          <p:nvPr/>
        </p:nvSpPr>
        <p:spPr>
          <a:xfrm>
            <a:off x="500040" y="4286160"/>
            <a:ext cx="835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Bookman Old Style"/>
              </a:rPr>
              <a:t>Дружите, но бдительность не теряй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уемые 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826920" y="1557360"/>
            <a:ext cx="806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taticp3/fotolia.com/jpg/00/03/24/76/400_F_3247691_fQRxpiEFIdVWX4woBCj6yzVWYhyvxk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c01.rambler.ru/f/bc9dd693d7e32ef464f305dc2a9b6cd3/img15.nnm.ru/a/e/9/9/f/2424dd943ed169e30807be5631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3dnews.ru/_imgdata/img/2008/08/13/91636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ru.intel.com/business/commublogentry&amp;id=25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hit.ru/lib/uploads/image/an_2009/luna_02/zi_06/kasp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5572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51" name="Picture 4" descr="3edd3179b00bb87021"/>
          <p:cNvPicPr/>
          <p:nvPr/>
        </p:nvPicPr>
        <p:blipFill>
          <a:blip r:embed="rId1"/>
          <a:stretch/>
        </p:blipFill>
        <p:spPr>
          <a:xfrm>
            <a:off x="5821200" y="642960"/>
            <a:ext cx="3322800" cy="2214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298"/>
          <p:cNvPicPr/>
          <p:nvPr/>
        </p:nvPicPr>
        <p:blipFill>
          <a:blip r:embed="rId2"/>
          <a:stretch/>
        </p:blipFill>
        <p:spPr>
          <a:xfrm>
            <a:off x="5850000" y="3548160"/>
            <a:ext cx="3294000" cy="2523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214200" y="857160"/>
          <a:ext cx="5643720" cy="5029200"/>
        </p:xfrm>
        <a:graphic>
          <a:graphicData uri="http://schemas.openxmlformats.org/drawingml/2006/table">
            <a:tbl>
              <a:tblPr/>
              <a:tblGrid>
                <a:gridCol w="2143080"/>
                <a:gridCol w="3500640"/>
              </a:tblGrid>
              <a:tr h="19227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тебе больше всего нравится общаться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buClr>
                          <a:srgbClr val="336699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лич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6699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о телефон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6699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о Интернет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15570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кем тебе проще всего общаться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buClr>
                          <a:srgbClr val="ff00ff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с одноклассника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00ff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с родны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00ff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с кем-то из социальных сет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5570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де ты чувствуешь себя менее скованн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buClr>
                          <a:srgbClr val="d6a3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6a3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d6a300"/>
                          </a:solidFill>
                          <a:latin typeface="Arial"/>
                        </a:rPr>
                        <a:t>в школ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d6a3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6a3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d6a300"/>
                          </a:solidFill>
                          <a:latin typeface="Arial"/>
                        </a:rPr>
                        <a:t>до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d6a3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6a3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d6a300"/>
                          </a:solidFill>
                          <a:latin typeface="Arial"/>
                        </a:rPr>
                        <a:t>в се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CAS1YNW5"/>
          <p:cNvPicPr/>
          <p:nvPr/>
        </p:nvPicPr>
        <p:blipFill>
          <a:blip r:embed="rId1"/>
          <a:stretch/>
        </p:blipFill>
        <p:spPr>
          <a:xfrm>
            <a:off x="214200" y="4071960"/>
            <a:ext cx="3017880" cy="24573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214800" y="189000"/>
            <a:ext cx="59292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Давай обсудим первый вопрос. Если ты отметил, что тебе больше нравится общаться по Интернету, то ты не один такой. Многие молодые люди ищут друзей в Сети. Девушка по имени Елена рассказала: «Через Интернет можно знакомиться с людьми из разных уголков Земли. Конечно, это интересно. Где еще найдешь такую возможность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Сергей указал на одну заманчивую сторону такого общения: «Тут ты можешь моделировать свой образ. А в личном общении, если ты не нравишься человеку, то не нравишься – и с этим ничего не поделаеш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Картинка 75 из 17455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857160"/>
            <a:ext cx="352260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"/>
          <p:cNvPicPr/>
          <p:nvPr/>
        </p:nvPicPr>
        <p:blipFill>
          <a:blip r:embed="rId1"/>
          <a:srcRect l="1218" t="15207" r="67656" b="69493"/>
          <a:stretch/>
        </p:blipFill>
        <p:spPr>
          <a:xfrm>
            <a:off x="4929120" y="214200"/>
            <a:ext cx="4071960" cy="142884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5072040" y="2143080"/>
            <a:ext cx="3929040" cy="3110400"/>
          </a:xfrm>
          <a:prstGeom prst="rect">
            <a:avLst/>
          </a:prstGeom>
          <a:noFill/>
          <a:ln w="28440">
            <a:solidFill>
              <a:srgbClr val="35c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Учитывая все это, вполне естественно, что тебе хочется общаться со сверстниками по Интернету. Тимофей так и поступал. Он говорит: «Все ребята общались по Интернету, и я не хотел отстава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85840" y="230400"/>
            <a:ext cx="4643280" cy="344556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Теперь давай поговорим о втором и третьем вопросах. Ничего удивительного, что тебе проще вести диалог с одноклассниками. Ангелина поделилась: «Куда легче общаться с теми, у кого те же интересы и трудности, что и тебя. Поэтому в школе скорее найдешь друзей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214200" y="3857760"/>
            <a:ext cx="4714920" cy="2775240"/>
          </a:xfrm>
          <a:prstGeom prst="rect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Наталья создала веб – страницу, чтобы поддерживать отношения с друзьями. Вот ее мнение: «Технологии идут вперед. Появляются новые средства коммуникации. Это одно из них, и мне оно нравится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 вправо 5"/>
          <p:cNvSpPr/>
          <p:nvPr/>
        </p:nvSpPr>
        <p:spPr>
          <a:xfrm rot="2016600">
            <a:off x="5153040" y="1424160"/>
            <a:ext cx="928800" cy="57132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336699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право 6"/>
          <p:cNvSpPr/>
          <p:nvPr/>
        </p:nvSpPr>
        <p:spPr>
          <a:xfrm rot="9232800">
            <a:off x="5078160" y="5460480"/>
            <a:ext cx="928440" cy="5716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336699"/>
          </a:solidFill>
          <a:ln w="381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57120" y="214200"/>
            <a:ext cx="621504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cbb9"/>
                </a:solidFill>
                <a:latin typeface="Bookman Old Style"/>
              </a:rPr>
              <a:t>Чем ты рискуешь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social1"/>
          <p:cNvPicPr/>
          <p:nvPr/>
        </p:nvPicPr>
        <p:blipFill>
          <a:blip r:embed="rId1"/>
          <a:stretch/>
        </p:blipFill>
        <p:spPr>
          <a:xfrm>
            <a:off x="5286240" y="714240"/>
            <a:ext cx="3560760" cy="308628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357120" y="785880"/>
            <a:ext cx="4857840" cy="2775240"/>
          </a:xfrm>
          <a:prstGeom prst="rect">
            <a:avLst/>
          </a:prstGeom>
          <a:noFill/>
          <a:ln w="38160">
            <a:solidFill>
              <a:srgbClr val="d6a3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Бесспорно, некоторым дружба онлайн нравится больше. «Только  в Интернете ты можешь чувствовать себя уверенно. Виртуальное общение дает застенчивому человеку возможность обдумывать, что он хочет сказать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642960" y="4071960"/>
            <a:ext cx="8143920" cy="1769760"/>
          </a:xfrm>
          <a:prstGeom prst="rect">
            <a:avLst/>
          </a:prstGeom>
          <a:noFill/>
          <a:ln w="38160">
            <a:solidFill>
              <a:srgbClr val="33cc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Но общение в Сети таит в себе и опасность, которую было бы глупо игнорировать. Разве ты стал бы ходить по опасному району с завязанными глазами? Стоит ли тогда бродить по Интернету, не принимая во внимание то, чем ты рискуешь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1674358_8efebb69"/>
          <p:cNvPicPr/>
          <p:nvPr/>
        </p:nvPicPr>
        <p:blipFill>
          <a:blip r:embed="rId1"/>
          <a:stretch/>
        </p:blipFill>
        <p:spPr>
          <a:xfrm>
            <a:off x="5072040" y="4429080"/>
            <a:ext cx="3643200" cy="2162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5726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Чем же опасно искать друзей через онлай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v_kontakte"/>
          <p:cNvPicPr/>
          <p:nvPr/>
        </p:nvPicPr>
        <p:blipFill>
          <a:blip r:embed="rId2"/>
          <a:stretch/>
        </p:blipFill>
        <p:spPr>
          <a:xfrm>
            <a:off x="0" y="4299120"/>
            <a:ext cx="4716360" cy="255888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214200" y="1214280"/>
            <a:ext cx="8715600" cy="1434600"/>
          </a:xfrm>
          <a:prstGeom prst="rect">
            <a:avLst/>
          </a:prstGeom>
          <a:noFill/>
          <a:ln w="38160">
            <a:solidFill>
              <a:srgbClr val="35cbb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Запомни, в Интернете можно легко скрыть свою сущность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Легко можно наткнуться на сомнительных личностей. Иногда уже через пару минут сыплются непристой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1000080" y="2928960"/>
            <a:ext cx="7929720" cy="1434600"/>
          </a:xfrm>
          <a:prstGeom prst="rect">
            <a:avLst/>
          </a:prstGeom>
          <a:noFill/>
          <a:ln w="3816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А может быть это ты скрываешь свою сущность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Иван рассказал: «Я начинал беседу с людьми и притворялся кем угодно, чтобы меня приняли за «своего человека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00080" y="214200"/>
            <a:ext cx="76075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Bookman Old Style"/>
              </a:rPr>
              <a:t>Меры предосторож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3500280" y="1214280"/>
            <a:ext cx="5429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Конечно, общение через Интернет может быть вполне уместным. Многие люди, в том числе и взрослые, таким способом поддерживают связь с друзьями. Если это относится и к тебе, то надо принять некоторые меры предосторож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Как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CKAEpu1Nij"/>
          <p:cNvPicPr/>
          <p:nvPr/>
        </p:nvPicPr>
        <p:blipFill>
          <a:blip r:embed="rId1"/>
          <a:stretch/>
        </p:blipFill>
        <p:spPr>
          <a:xfrm>
            <a:off x="428760" y="1857240"/>
            <a:ext cx="3073320" cy="30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Bookman Old Style"/>
              </a:rPr>
              <a:t>Следи, сколько времени уходит на переписку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571680" y="1785960"/>
            <a:ext cx="8072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и не позволяй, чтобы она отвлекала тебя от более важных дел, например, от с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Некоторые ребята рассказывают в школе, как до трех утра сидят в Интерне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714240" y="3643200"/>
            <a:ext cx="3214800" cy="70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</a:rPr>
              <a:t>С О В Е 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4071960" y="3749760"/>
            <a:ext cx="4857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Интернете время летит незаметно! Поэтому определяй, сколько ты потратишь времени, и придерживайся своего решения. Если надо ставь будильни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j108_1264712001"/>
          <p:cNvPicPr/>
          <p:nvPr/>
        </p:nvPicPr>
        <p:blipFill>
          <a:blip r:embed="rId1"/>
          <a:stretch/>
        </p:blipFill>
        <p:spPr>
          <a:xfrm>
            <a:off x="785880" y="4429080"/>
            <a:ext cx="29160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Картинка 1 из 12154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28920" y="3429000"/>
            <a:ext cx="4095720" cy="30718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428760" y="714240"/>
            <a:ext cx="842940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Bookman Old Style"/>
              </a:rPr>
              <a:t>Общайся только тогда, когда знаешь человека лично, или можешь проверить, с кем переписываешь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9:40:40Z</dcterms:created>
  <dc:creator>Татьяна</dc:creator>
  <dc:description/>
  <dc:language>en-US</dc:language>
  <cp:lastModifiedBy>Андрей</cp:lastModifiedBy>
  <dcterms:modified xsi:type="dcterms:W3CDTF">2013-01-13T15:23:20Z</dcterms:modified>
  <cp:revision>22</cp:revision>
  <dc:subject/>
  <dc:title>Социальные сети </dc:title>
</cp:coreProperties>
</file>