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85A-5FEE-4706-B8C5-D032D07F4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853-ECB0-4630-ACC1-EC7871CE0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A09-6A89-4476-BF9F-A02AFD5C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519-9F46-4FDF-A7C6-3B4B8C9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707-D357-4C31-B998-80C51666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105-CBB9-480A-A5A6-464A3C1C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4DD-D7C7-4D96-B4A9-3C4CE82A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EA9-18F9-4467-B1E8-8CE858C4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0BC-C5C0-454F-A155-F1E9DC2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6E8-38D9-4FF1-97C4-C2B7E5E4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A3E-BCFA-479C-9C8D-13EF6CC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A54-EB8A-4F60-A6D6-72648A0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33C-93F2-4857-9AE1-F5E9AFA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21F-63D7-4069-AE3F-822F5627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A3D-26ED-4DB6-A680-9D4385840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intel.com/business/community/index.php?act=attach&amp;type=blogentry&amp;id=250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hit.ro/lib/uploads/image/an_2009/luna_02/zi_06/kasp2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3dnews.ru/_imgdata/img/2008/08/13/91636.gif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static-p3.fotolia.com/jpg/00/03/24/76/400_F_3247691_fQRxpiEFldVWX4woBCj6yzVWYhyvxK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c01.rambler.ru/f/bc9dd693d7e32ef464f305bc2a9b6cd3/img15.nnm.ru/a/e/9/9/f/2424dd943ed169e30807be5631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ocial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Нормально ли дружить через ИНТЕРНЕ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14200" y="214200"/>
            <a:ext cx="7309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a300"/>
                </a:solidFill>
                <a:latin typeface="Bookman Old Style"/>
              </a:rPr>
              <a:t>Будь осмотрителен при деловых операц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Картинка 5 из 3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789360"/>
            <a:ext cx="3038400" cy="306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Картинка 118 из 37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724200"/>
            <a:ext cx="3809880" cy="313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Картинка 68 из 37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51640" y="214200"/>
            <a:ext cx="1692360" cy="1541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642960" y="1857240"/>
            <a:ext cx="714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обенно осторожным нужно быть, когда даешь личные сведения. Иначе можешь стать жертвой мошенничества или чего-то поху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Bookman Old Style"/>
              </a:rPr>
              <a:t>? Знаешь ли ты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24000" y="1700280"/>
            <a:ext cx="839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тоит только сообщить в Интернете личные данные, например, фамилию, номер школы или телефона, и злоумышлен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может тебя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11113284_150big"/>
          <p:cNvPicPr/>
          <p:nvPr/>
        </p:nvPicPr>
        <p:blipFill>
          <a:blip r:embed="rId1"/>
          <a:stretch/>
        </p:blipFill>
        <p:spPr>
          <a:xfrm>
            <a:off x="5000760" y="3214800"/>
            <a:ext cx="37224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735804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Bookman Old Style"/>
              </a:rPr>
              <a:t>Как и при личном общен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680" y="1857240"/>
            <a:ext cx="817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рекрати разгов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если он уходит не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857160" y="32148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Bookman Old Style"/>
              </a:rPr>
              <a:t>Пользуйся Интернетом на виду у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71680" y="471492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Если тебе приходится «скрывать свою сущность» от родителей, это ненорм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«Хорошо, что я не поторопил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981080" y="3357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57120" y="1052640"/>
            <a:ext cx="86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ебе хочется иметь друзей. Это естественно. Мы созданы с потребностью в близком общении. Такие чувства заложены в нас при рождении. Но при выборе друзей нужно быть осторо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удь уверен, что ты обязательно найдешь хороших друз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463840" y="4249800"/>
            <a:ext cx="6500880" cy="2226960"/>
          </a:xfrm>
          <a:prstGeom prst="rect">
            <a:avLst/>
          </a:prstGeom>
          <a:solidFill>
            <a:srgbClr val="badde1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«Друзей, которые бы любили и уважали тебя найти нелегко. Но когда их находишь, понимаешь, хорошо, что я не поторопился с выбор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D06662_"/>
          <p:cNvPicPr/>
          <p:nvPr/>
        </p:nvPicPr>
        <p:blipFill>
          <a:blip r:embed="rId1"/>
          <a:stretch/>
        </p:blipFill>
        <p:spPr>
          <a:xfrm>
            <a:off x="357120" y="5000760"/>
            <a:ext cx="179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502457972984cc28220667fa95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500040" y="428616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Дружите, но бдительность не теря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826920" y="1557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aticp3/fotolia.com/jpg/00/03/24/76/400_F_3247691_fQRxpiEFIdVWX4woBCj6yzVWYhyvx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01.rambler.ru/f/bc9dd693d7e32ef464f305dc2a9b6cd3/img15.nnm.ru/a/e/9/9/f/2424dd943ed169e30807be563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3dnews.ru/_imgdata/img/2008/08/13/91636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intel.com/business/commublogentry&amp;id=2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it.ru/lib/uploads/image/an_2009/luna_02/zi_06/kasp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5572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" name="Picture 4" descr="3edd3179b00bb87021"/>
          <p:cNvPicPr/>
          <p:nvPr/>
        </p:nvPicPr>
        <p:blipFill>
          <a:blip r:embed="rId1"/>
          <a:stretch/>
        </p:blipFill>
        <p:spPr>
          <a:xfrm>
            <a:off x="5821200" y="642960"/>
            <a:ext cx="3322800" cy="221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98"/>
          <p:cNvPicPr/>
          <p:nvPr/>
        </p:nvPicPr>
        <p:blipFill>
          <a:blip r:embed="rId2"/>
          <a:stretch/>
        </p:blipFill>
        <p:spPr>
          <a:xfrm>
            <a:off x="5850000" y="3548160"/>
            <a:ext cx="329400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14200" y="857160"/>
          <a:ext cx="5643720" cy="5029200"/>
        </p:xfrm>
        <a:graphic>
          <a:graphicData uri="http://schemas.openxmlformats.org/drawingml/2006/table">
            <a:tbl>
              <a:tblPr/>
              <a:tblGrid>
                <a:gridCol w="2143080"/>
                <a:gridCol w="3500640"/>
              </a:tblGrid>
              <a:tr h="1922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тебе больше всего нравится общать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buClr>
                          <a:srgbClr val="336699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ли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99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 телеф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99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 Интерн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557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кем тебе проще всего общать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buClr>
                          <a:srgbClr val="ff00ff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с одноклассни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ff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с род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ff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с кем-то из социальных с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557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ты чувствуешь себя менее скованн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buClr>
                          <a:srgbClr val="d6a3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в шко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d6a3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д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d6a3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в се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CAS1YNW5"/>
          <p:cNvPicPr/>
          <p:nvPr/>
        </p:nvPicPr>
        <p:blipFill>
          <a:blip r:embed="rId1"/>
          <a:stretch/>
        </p:blipFill>
        <p:spPr>
          <a:xfrm>
            <a:off x="214200" y="4071960"/>
            <a:ext cx="3017880" cy="2457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14800" y="189000"/>
            <a:ext cx="59292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авай обсудим первый вопрос. Если ты отметил, что тебе больше нравится общаться по Интернету, то ты не один такой. Многие молодые люди ищут друзей в Сети. Девушка по имени Елена рассказала: «Через Интернет можно знакомиться с людьми из разных уголков Земли. Конечно, это интересно. Где еще найдешь такую возможнос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ергей указал на одну заманчивую сторону такого общения: «Тут ты можешь моделировать свой образ. А в личном общении, если ты не нравишься человеку, то не нравишься – и с этим ничего не поделаеш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инка 75 из 1745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857160"/>
            <a:ext cx="35226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1218" t="15207" r="67656" b="69493"/>
          <a:stretch/>
        </p:blipFill>
        <p:spPr>
          <a:xfrm>
            <a:off x="4929120" y="214200"/>
            <a:ext cx="407196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072040" y="2143080"/>
            <a:ext cx="3929040" cy="3110400"/>
          </a:xfrm>
          <a:prstGeom prst="rect">
            <a:avLst/>
          </a:prstGeom>
          <a:noFill/>
          <a:ln w="28440">
            <a:solidFill>
              <a:srgbClr val="35c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Учитывая все это, вполне естественно, что тебе хочется общаться со сверстниками по Интернету. Тимофей так и поступал. Он говорит: «Все ребята общались по Интернету, и я не хотел отстав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5840" y="230400"/>
            <a:ext cx="4643280" cy="3445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Теперь давай поговорим о втором и третьем вопросах. Ничего удивительного, что тебе проще вести диалог с одноклассниками. Ангелина поделилась: «Куда легче общаться с теми, у кого те же интересы и трудности, что и тебя. Поэтому в школе скорее найдешь друзе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14200" y="3857760"/>
            <a:ext cx="4714920" cy="27752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аталья создала веб – страницу, чтобы поддерживать отношения с друзьями. Вот ее мнение: «Технологии идут вперед. Появляются новые средства коммуникации. Это одно из них, и мне оно нравитс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5"/>
          <p:cNvSpPr/>
          <p:nvPr/>
        </p:nvSpPr>
        <p:spPr>
          <a:xfrm rot="2016600">
            <a:off x="5153040" y="1424160"/>
            <a:ext cx="928800" cy="57132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336699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6"/>
          <p:cNvSpPr/>
          <p:nvPr/>
        </p:nvSpPr>
        <p:spPr>
          <a:xfrm rot="9232800">
            <a:off x="5078160" y="5460480"/>
            <a:ext cx="928440" cy="5716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6699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57120" y="214200"/>
            <a:ext cx="6215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cbb9"/>
                </a:solidFill>
                <a:latin typeface="Bookman Old Style"/>
              </a:rPr>
              <a:t>Чем ты рискуеш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ocial1"/>
          <p:cNvPicPr/>
          <p:nvPr/>
        </p:nvPicPr>
        <p:blipFill>
          <a:blip r:embed="rId1"/>
          <a:stretch/>
        </p:blipFill>
        <p:spPr>
          <a:xfrm>
            <a:off x="5286240" y="714240"/>
            <a:ext cx="3560760" cy="308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357120" y="785880"/>
            <a:ext cx="4857840" cy="2775240"/>
          </a:xfrm>
          <a:prstGeom prst="rect">
            <a:avLst/>
          </a:prstGeom>
          <a:noFill/>
          <a:ln w="38160">
            <a:solidFill>
              <a:srgbClr val="d6a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Бесспорно, некоторым дружба онлайн нравится больше. «Только  в Интернете ты можешь чувствовать себя уверенно. Виртуальное общение дает застенчивому человеку возможность обдумывать, что он хочет сказат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42960" y="4071960"/>
            <a:ext cx="8143920" cy="1769760"/>
          </a:xfrm>
          <a:prstGeom prst="rect">
            <a:avLst/>
          </a:prstGeom>
          <a:noFill/>
          <a:ln w="38160">
            <a:solidFill>
              <a:srgbClr val="33cc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о общение в Сети таит в себе и опасность, которую было бы глупо игнорировать. Разве ты стал бы ходить по опасному району с завязанными глазами? Стоит ли тогда бродить по Интернету, не принимая во внимание то, чем ты рискуе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674358_8efebb69"/>
          <p:cNvPicPr/>
          <p:nvPr/>
        </p:nvPicPr>
        <p:blipFill>
          <a:blip r:embed="rId1"/>
          <a:stretch/>
        </p:blipFill>
        <p:spPr>
          <a:xfrm>
            <a:off x="5072040" y="4429080"/>
            <a:ext cx="3643200" cy="2162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72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Чем же опасно искать друзей через онлай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v_kontakte"/>
          <p:cNvPicPr/>
          <p:nvPr/>
        </p:nvPicPr>
        <p:blipFill>
          <a:blip r:embed="rId2"/>
          <a:stretch/>
        </p:blipFill>
        <p:spPr>
          <a:xfrm>
            <a:off x="0" y="4299120"/>
            <a:ext cx="4716360" cy="2558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14200" y="1214280"/>
            <a:ext cx="8715600" cy="1434600"/>
          </a:xfrm>
          <a:prstGeom prst="rect">
            <a:avLst/>
          </a:prstGeom>
          <a:noFill/>
          <a:ln w="38160">
            <a:solidFill>
              <a:srgbClr val="35cb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Запомни, в Интернете можно легко скрыть свою сущнос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Легко можно наткнуться на сомнительных личностей. Иногда уже через пару минут сыплются непристой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000080" y="2928960"/>
            <a:ext cx="7929720" cy="1434600"/>
          </a:xfrm>
          <a:prstGeom prst="rect">
            <a:avLst/>
          </a:prstGeom>
          <a:noFill/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А может быть это ты скрываешь свою сущ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ван рассказал: «Я начинал беседу с людьми и притворялся кем угодно, чтобы меня приняли за «своего человек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607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man Old Style"/>
              </a:rPr>
              <a:t>Меры предосторож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500280" y="1214280"/>
            <a:ext cx="542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нечно, общение через Интернет может быть вполне уместным. Многие люди, в том числе и взрослые, таким способом поддерживают связь с друзьями. Если это относится и к тебе, то надо принять некоторые меры предостор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KAEpu1Nij"/>
          <p:cNvPicPr/>
          <p:nvPr/>
        </p:nvPicPr>
        <p:blipFill>
          <a:blip r:embed="rId1"/>
          <a:stretch/>
        </p:blipFill>
        <p:spPr>
          <a:xfrm>
            <a:off x="428760" y="1857240"/>
            <a:ext cx="30733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Bookman Old Style"/>
              </a:rPr>
              <a:t>Следи, сколько времени уходит на перепис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71680" y="178596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не позволяй, чтобы она отвлекала тебя от более важных дел, например, от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екоторые ребята рассказывают в школе, как до трех утра сидят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714240" y="3643200"/>
            <a:ext cx="32148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С О В Е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071960" y="3749760"/>
            <a:ext cx="485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Интернете время летит незаметно! Поэтому определяй, сколько ты потратишь времени, и придерживайся своего решения. Если надо ставь будиль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j108_1264712001"/>
          <p:cNvPicPr/>
          <p:nvPr/>
        </p:nvPicPr>
        <p:blipFill>
          <a:blip r:embed="rId1"/>
          <a:stretch/>
        </p:blipFill>
        <p:spPr>
          <a:xfrm>
            <a:off x="785880" y="442908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Картинка 1 из 1215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4290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428760" y="714240"/>
            <a:ext cx="84294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Bookman Old Style"/>
              </a:rPr>
              <a:t>Общайся только тогда, когда знаешь человека лично, или можешь проверить, с кем переписываеш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9:40:40Z</dcterms:created>
  <dc:creator>Татьяна</dc:creator>
  <dc:description/>
  <dc:language>en-US</dc:language>
  <cp:lastModifiedBy>Андрей</cp:lastModifiedBy>
  <dcterms:modified xsi:type="dcterms:W3CDTF">2013-01-13T15:23:20Z</dcterms:modified>
  <cp:revision>22</cp:revision>
  <dc:subject/>
  <dc:title>Социальные сети </dc:title>
</cp:coreProperties>
</file>