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8103-55F2-4351-8119-E84363B20B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77DE-F324-4FF6-A2FC-06535B0043A7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D5A-D407-4E12-8ECE-746E0C47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2DE-C639-4812-8BC3-383AD900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B1D-01FE-48EF-91AB-28B81324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D5F-B79F-4636-B034-CB9178131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C8C2-B88C-4A68-9824-B17884BA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B033-6E8F-42BF-9A45-4205BC79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3533-0C2C-46C9-9288-DCDB1A62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CB5A-7FA2-471C-A471-F3249FBD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EA16-A5CC-487B-8938-80A0D11D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4527-6B54-4BA6-A600-E9ECDF3E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6669-07F2-4D40-B74D-BFC46E2F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1E2-82BD-4366-8E72-E2FBB398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D91E-05E7-43E2-B2F6-78EAE486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AD71-7B0E-4611-8064-A7268D28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DAC1-07F0-449C-9F0D-A20FE250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1332-7417-4F13-96CB-D40B7E5F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06A5-047A-402C-8B12-10A2483F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25A-9BDE-47DB-83E6-8EC8447C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34B-4C10-4FD9-828E-7A01B21E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107-E1E1-4575-8132-B7C9A1D6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9585-4E14-4C2E-B621-526AF2FC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D26-15A3-4B97-9308-84F8A902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7996-B720-4406-8C68-182B7DAF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957C-62CA-4A8F-90F6-BF17930C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733D-1FFC-4884-96F0-30535D5EE839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8222-5510-4020-99D1-25F2C18E59C0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1371600" y="1981080"/>
            <a:ext cx="7162920" cy="762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9" name="WordArt 9"/>
          <p:cNvSpPr txBox="1"/>
          <p:nvPr/>
        </p:nvSpPr>
        <p:spPr>
          <a:xfrm rot="21592800">
            <a:off x="1218960" y="1066320"/>
            <a:ext cx="769932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6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Impact"/>
              </a:rPr>
              <a:t>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6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Прямоугольник 10" descr=""/>
          <p:cNvPicPr/>
          <p:nvPr/>
        </p:nvPicPr>
        <p:blipFill>
          <a:blip r:embed="rId1"/>
          <a:stretch/>
        </p:blipFill>
        <p:spPr>
          <a:xfrm>
            <a:off x="1152360" y="1054080"/>
            <a:ext cx="7339320" cy="487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143000" y="714240"/>
            <a:ext cx="77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ВЫСЛУШАЙ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Не начинай сразу же оправдываться или доказывать свою невиновность.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Прояви самообладание и выслушай, что говорят тебе родители: </a:t>
            </a:r>
            <a:r>
              <a:rPr b="0" i="1" lang="ru-RU" sz="2800" spc="-1" strike="noStrike">
                <a:solidFill>
                  <a:srgbClr val="660066"/>
                </a:solidFill>
                <a:latin typeface="Times New Roman"/>
              </a:rPr>
              <a:t>«будь скорым на слышание, медленным на слова и еще более медленным на гнев»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Если ты начнешь пререкаться, они подумают, что ты их не слушаешь, и тебе влетит еще </a:t>
            </a:r>
            <a:r>
              <a:rPr b="0" i="1" lang="ru-RU" sz="2800" spc="-1" strike="noStrike">
                <a:solidFill>
                  <a:srgbClr val="660066"/>
                </a:solidFill>
                <a:latin typeface="Times New Roman"/>
              </a:rPr>
              <a:t>больше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1143000" y="428760"/>
            <a:ext cx="77151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ОАНАЛИЗИРУЙ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Иногда может казаться, что замечание сделано не очень-то любезно. Однако лучше сосредоточиться не на том, </a:t>
            </a: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как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тебе сказали, а на том, </a:t>
            </a: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что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тебе сказали. Спроси себя: «Что в этих придирках действительно обоснованно? Получал ли я подобное замечание раньше? Что мне стоит выполнить их просьбу?»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Не забывай, что их беспокойство продиктовано любовью, даже если в данный момент тебе так не кажется. Ведь если бы они тебя не любили, то вообще бы не замечали тебя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Times New Roman"/>
              </a:rPr>
              <a:t>«Послушает мудрый и лучше усвоит наставления»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071720" y="357120"/>
            <a:ext cx="785808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ЕРЕФРАЗИРУЙ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Times New Roman"/>
              </a:rPr>
              <a:t>Как родители поймут, что до тебя доходят их слова? Уважительно перескажи  суть их замечания. Например, мама говорит: «В твоей комнате всегда беспорядок. Если не приберешься, будешь сидеть дома!» </a:t>
            </a:r>
            <a:endParaRPr b="0" lang="en-US" sz="2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Times New Roman"/>
              </a:rPr>
              <a:t>Предположим, ты не согласен, что в комнате всегда  беспорядок. Однако перечить вряд ли имеет смысл. </a:t>
            </a:r>
            <a:endParaRPr b="0" lang="en-US" sz="2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Times New Roman"/>
              </a:rPr>
              <a:t>Постарайся взглянуть на ситуацию ее глазами. Избегая иронии, можно ответить: «Согласен, сейчас там беспорядок. Когда мне прибраться – сразу или после обеда?» </a:t>
            </a:r>
            <a:endParaRPr b="0" lang="en-US" sz="2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66"/>
                </a:solidFill>
                <a:latin typeface="Times New Roman"/>
              </a:rPr>
              <a:t>Соглашаясь с беспокойством родителей, ты снимаешь напряжение. Конечно, не забудь сделать то, что тебе сказали.</a:t>
            </a:r>
            <a:endParaRPr b="0" lang="en-US" sz="2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1285920" y="714240"/>
            <a:ext cx="76438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ДОЖДИ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Прежде чем что-то говорить с свое оправдание, лучше сначала выполнить просьбу родителей. 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Times New Roman"/>
              </a:rPr>
              <a:t>«Кто сдерживает свои уста, поступает благоразумно»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Если родители видят, что ты слушаешь их, они, скорее всего, внимательнее отнесутся и к твоим словам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1785960" y="357120"/>
            <a:ext cx="4929120" cy="916920"/>
          </a:xfrm>
          <a:prstGeom prst="rect">
            <a:avLst/>
          </a:prstGeom>
          <a:solidFill>
            <a:srgbClr val="56005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Impact"/>
              </a:rPr>
              <a:t>С о в е т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357200" y="2000160"/>
            <a:ext cx="75726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Чтобы советы от родителей принимать было легче..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цени похвалу, которую родители высказывают наряду с замечаниями;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переспрашивай, если тебе непонятно, в чем именно проблема и как ее исправить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1071720" y="285840"/>
            <a:ext cx="785808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ОБИРАЙ КРУПИЦЫ МУДРОСТИ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Если бы ты знал, что в большой груде песка есть много крупиц золота. То был бы ты готов претерпеть неудобства и трудности, чтобы их добыть?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Но есть то, что ценнее любого сокровища. Это мудрость. Как ее приобрести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Times New Roman"/>
              </a:rPr>
              <a:t>«Слушай совет и принимай наставление, чтобы в будущем ты стал мудрым»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Надо признать, что получать совет и наставление не очень приятно. Но если в придирках и замечаниях находить крупицы мудрости и потом применять их, то ты раздобудешь намного более ценное сокровище, чем золото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36"/>
          <p:cNvSpPr txBox="1"/>
          <p:nvPr/>
        </p:nvSpPr>
        <p:spPr>
          <a:xfrm>
            <a:off x="1066680" y="5181480"/>
            <a:ext cx="6172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УДАЧИ 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4" name="Picture 37" descr=""/>
          <p:cNvPicPr/>
          <p:nvPr/>
        </p:nvPicPr>
        <p:blipFill>
          <a:blip r:embed="rId3"/>
          <a:stretch/>
        </p:blipFill>
        <p:spPr>
          <a:xfrm>
            <a:off x="228600" y="838080"/>
            <a:ext cx="2509920" cy="36291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"/>
          <p:cNvSpPr/>
          <p:nvPr/>
        </p:nvSpPr>
        <p:spPr>
          <a:xfrm>
            <a:off x="2714760" y="214200"/>
            <a:ext cx="621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Знай, что в твоей жизни будет еще много советов, замечаний и придирок. Сейчас ты их слышишь от родителей и учителей. Потом – от работодателей и других людей. Учась правильно на них реагировать, ты преуспеешь в учебе, станешь более ценным работником и вообще более зрелой личностью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А это стоит любых жертв и неудобств!!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2239920" cy="31114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1306440" y="620640"/>
            <a:ext cx="7500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Tahoma"/>
                <a:ea typeface="Tahoma"/>
              </a:rPr>
              <a:t>«Мне кажется, что моя мама – прирожденный сыщик. Она только и выискивает, где я дал маху. Еще я не успею выполнить порученную мне работу по дому, как она уже смотрит, где что не так»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3143160" y="3500280"/>
            <a:ext cx="55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«Родители постоянно твердят, что я расхлябанный. По учебе – пилят, по дому – пилят. Не дают свободно вздохнуть – вечные нотации!»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AMCONFUS"/>
          <p:cNvPicPr/>
          <p:nvPr/>
        </p:nvPicPr>
        <p:blipFill>
          <a:blip r:embed="rId1"/>
          <a:stretch/>
        </p:blipFill>
        <p:spPr>
          <a:xfrm>
            <a:off x="7072200" y="2643120"/>
            <a:ext cx="182412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1214280" y="857160"/>
            <a:ext cx="742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Считаешь ли ты, что, как ни старайся, родителям не угодить? Кажется ли тебе, будто они все проверяют под лупой: всегда следят, придираются по мелочам и обязательно находят, что у тебя не в порядке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143000" y="3071880"/>
            <a:ext cx="59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33"/>
                </a:solidFill>
                <a:latin typeface="Times New Roman"/>
              </a:rPr>
              <a:t>Что тебе приходится слышать чаще всего?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285920" y="4286160"/>
            <a:ext cx="55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Приберись в комнате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Выключи телевизор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Ложись спать!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Ты никогда не встаешь вовремя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571760" y="285840"/>
            <a:ext cx="739116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Надо признать, что когда тебя донимают придирками, это действует на нервы. Но посмотри на ситуацию в другом свете: если бы родители никогда тебя не исправляли. Разве можно было бы сказать, что они о тебе заботятся?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Радуйся, что родители к тебе неравнодушны!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На самом деле замечания – 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признак того, что родители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тебя любят!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19" name="Picture 6" descr="AMIDEA"/>
          <p:cNvPicPr/>
          <p:nvPr/>
        </p:nvPicPr>
        <p:blipFill>
          <a:blip r:embed="rId1"/>
          <a:stretch/>
        </p:blipFill>
        <p:spPr>
          <a:xfrm>
            <a:off x="285840" y="2084400"/>
            <a:ext cx="15238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ext Box 5" descr=""/>
          <p:cNvPicPr/>
          <p:nvPr/>
        </p:nvPicPr>
        <p:blipFill>
          <a:blip r:embed="rId1"/>
          <a:stretch/>
        </p:blipFill>
        <p:spPr>
          <a:xfrm>
            <a:off x="2494080" y="298440"/>
            <a:ext cx="6381720" cy="1000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AMORGANI"/>
          <p:cNvPicPr/>
          <p:nvPr/>
        </p:nvPicPr>
        <p:blipFill>
          <a:blip r:embed="rId2"/>
          <a:stretch/>
        </p:blipFill>
        <p:spPr>
          <a:xfrm>
            <a:off x="0" y="2571840"/>
            <a:ext cx="2405160" cy="4032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2500200" y="1285920"/>
            <a:ext cx="664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Конечно, любое наказание в настоящее время кажется не радостью, а печалью. Это особенно верно в юности. Почему? Твоя личность еще в процессе формирования, ты только познаешь себя, поэтому любая критика в твой адрес – пусть даже обоснованная и высказанная тактично – тебя сразу же задевает. Это понятно. Самооценка обычно строится на том, что о тебе говорят другие, особенно родители. Упреки и недовольства действуют на тебя угнетающе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j0299125"/>
          <p:cNvPicPr/>
          <p:nvPr/>
        </p:nvPicPr>
        <p:blipFill>
          <a:blip r:embed="rId1"/>
          <a:stretch/>
        </p:blipFill>
        <p:spPr>
          <a:xfrm>
            <a:off x="357120" y="3571920"/>
            <a:ext cx="2233800" cy="28908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2511360" y="1000080"/>
            <a:ext cx="6286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Если родители указали тебе на пару недостатков, стоит ли думать, что они </a:t>
            </a:r>
            <a:r>
              <a:rPr b="0" i="1" lang="ru-RU" sz="2800" spc="-1" strike="noStrike">
                <a:solidFill>
                  <a:srgbClr val="660066"/>
                </a:solidFill>
                <a:latin typeface="Times New Roman"/>
              </a:rPr>
              <a:t>всегда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 тобой недовольны и что ты неумеха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Нет. Идеальных людей не бывает. И мы все учимся на своих ошибках. Также бывает, что родители щедро раздают подзатыльники, но скупятся на похвалу. Это неприятно, однако и в таком случае не стоит думать, что ты законченный неудачник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j0217698"/>
          <p:cNvPicPr/>
          <p:nvPr/>
        </p:nvPicPr>
        <p:blipFill>
          <a:blip r:embed="rId1"/>
          <a:stretch/>
        </p:blipFill>
        <p:spPr>
          <a:xfrm>
            <a:off x="214200" y="4929120"/>
            <a:ext cx="1747800" cy="169380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" descr=""/>
          <p:cNvPicPr/>
          <p:nvPr/>
        </p:nvPicPr>
        <p:blipFill>
          <a:blip r:embed="rId2"/>
          <a:stretch/>
        </p:blipFill>
        <p:spPr>
          <a:xfrm>
            <a:off x="2895480" y="554040"/>
            <a:ext cx="5748480" cy="890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2071800" y="1428840"/>
            <a:ext cx="6572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Порой родители придираются не только потому, что ты где-то оплошал, а потому, что они сегодня не в настроении. Может у мамы был тяжелый день? Или ее изматывает болезнь? Тогда, если комната у тебя не сверкает чистотой, мама, вероятно, выразит недовольство. Если папу гложет беспокойство о финансах, у него может вырваться необдуманное замечание, которое больно ранит. Конечно тяжело, когда к тебе необоснованно придираются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8"/>
          <p:cNvSpPr/>
          <p:nvPr/>
        </p:nvSpPr>
        <p:spPr>
          <a:xfrm>
            <a:off x="1143000" y="214200"/>
            <a:ext cx="75722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Однако, постоянно думая, что с тобой обошлись несправедливо, ты еще больше расстроишься. Не придавай слишком большого значения родительским промахам (еще не известно, каким родителем будешь ты сам)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омни, мы все часто оступаемся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2143080" y="2706840"/>
            <a:ext cx="5786640" cy="8251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Times New Roman"/>
              </a:rPr>
              <a:t>?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 ЗНАЕШЬ ЛИ ТЫ…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357200" y="4500720"/>
            <a:ext cx="6572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500040" y="3643200"/>
            <a:ext cx="8429760" cy="3020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900"/>
                </a:solidFill>
                <a:latin typeface="Times New Roman"/>
              </a:rPr>
              <a:t>НЕКОТОРЫМ РОДИТЕЛЯМ ТРУДНО ПРОЯВЛЯТЬ ЛЮБОВЬ К СВОИМ ДЕТЯМ, ПОТОМУ ЧТО ОНИ САМИ НЕ ПОЛУЧАЛИ ДОСТАТОЧНО ЛЮБВИ И ПОНИМАНИЯ ОТ СВОИХ РОДИТЕЛЕЙ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900"/>
                </a:solidFill>
                <a:latin typeface="Times New Roman"/>
              </a:rPr>
              <a:t>Твою неудачу они могут воспринимать как </a:t>
            </a:r>
            <a:r>
              <a:rPr b="0" i="1" lang="ru-RU" sz="2400" spc="-1" strike="noStrike">
                <a:solidFill>
                  <a:srgbClr val="002900"/>
                </a:solidFill>
                <a:latin typeface="Times New Roman"/>
              </a:rPr>
              <a:t>свою.</a:t>
            </a:r>
            <a:r>
              <a:rPr b="0" lang="ru-RU" sz="2400" spc="-1" strike="noStrike">
                <a:solidFill>
                  <a:srgbClr val="002900"/>
                </a:solidFill>
                <a:latin typeface="Times New Roman"/>
              </a:rPr>
              <a:t> Бывает мама ругается из-за плохих отметок, но при этом думает: «Наверно, я плохая мать, потому что не могу привить своей дочери интерес к учебе»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MONEYBAG"/>
          <p:cNvPicPr/>
          <p:nvPr/>
        </p:nvPicPr>
        <p:blipFill>
          <a:blip r:embed="rId1"/>
          <a:stretch/>
        </p:blipFill>
        <p:spPr>
          <a:xfrm>
            <a:off x="0" y="4643280"/>
            <a:ext cx="1139760" cy="1700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COINS"/>
          <p:cNvPicPr/>
          <p:nvPr/>
        </p:nvPicPr>
        <p:blipFill>
          <a:blip r:embed="rId2"/>
          <a:stretch/>
        </p:blipFill>
        <p:spPr>
          <a:xfrm>
            <a:off x="7086600" y="5318280"/>
            <a:ext cx="137160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1143000" y="78588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Невозмутимость перед перекрестным огнем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1214280" y="1571760"/>
            <a:ext cx="7500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Что бы ни стояло за критикой, на нее надо правильно реагировать. Прежде всего, не давай воли своему возмущению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Times New Roman"/>
              </a:rPr>
              <a:t>«Кто сдержан в словах, тот обладает знанием, и проницательный человек невозмутим духом»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Но как сохранять невозмутимость перед перекрестным огнем родительских замечаний? Вот несколько советов.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18:02:56Z</dcterms:created>
  <dc:creator>User</dc:creator>
  <dc:description/>
  <dc:language>en-US</dc:language>
  <cp:lastModifiedBy>Андрей</cp:lastModifiedBy>
  <dcterms:modified xsi:type="dcterms:W3CDTF">2013-01-13T12:16:44Z</dcterms:modified>
  <cp:revision>42</cp:revision>
  <dc:subject/>
  <dc:title>Заголовок слайда отсутствует</dc:title>
</cp:coreProperties>
</file>