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1.png" ContentType="image/png"/>
  <Override PartName="/ppt/media/image2.png" ContentType="image/png"/>
  <Override PartName="/ppt/media/image3.wmf" ContentType="image/x-wmf"/>
  <Override PartName="/ppt/media/image13.jpeg" ContentType="image/jpe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4.wmf" ContentType="image/x-wmf"/>
  <Override PartName="/ppt/media/image9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move the slide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D339F-D229-4669-BD48-350E54D09AF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C7249-7CB1-4EAE-9CB6-38B413187C5E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2120-4964-4CFB-B528-1EE4703F9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3D8C-D847-425A-A160-63BA00079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B420-7607-45B4-A915-5AA6B6B46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A21B-A9C2-489F-B038-8048BAEDB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15ACB-2548-4056-8717-70A8CE288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C4711-3696-459A-A439-152A2AB05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A88CE-4482-4FFC-BA99-166B24A4F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5B36E-3532-403D-AD7D-DAE7B4ECE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32B76-DDD1-4ADF-B254-A26E9BFAC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E8EDC-5451-48C5-B8F2-007117C1D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54A35-C5B6-4FE9-9D32-7D6B39875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F3A7-DC2A-4759-8576-89FEC554E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F4825-5F59-471E-B337-829AC97B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F9F27-93A0-479F-B570-19D21C1D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93E7E-2BB6-4896-BC9A-1FD339C42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37D28-0967-49A4-83B8-BEFBBC4EC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8AEDB-62F6-4790-897C-97D9A02EE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51DB-CF4E-49F1-B974-4691DBEA3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492C-6E37-42E5-A82E-83EEB90D7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E25F-4F04-4431-AE58-A07BBF21F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99A4-35A9-4E9C-9A9F-79B7DE032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C97A-F085-4C02-922D-37C0E660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40F3-1AB8-4107-97ED-109314328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29D6-EF60-4111-8A8D-7A5CD820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Picture 7" descr="grapes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Group 8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Rectangle 9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Rectangle 10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Rectangle 11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0CA89-BC6F-4333-B573-8667BE260C6C}" type="slidenum">
              <a:rPr b="0" lang="ru-RU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Rectangle 4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Rectangle 5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Picture 6" descr="grapes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Group 7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Rectangle 8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Rectangle 10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ffcc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135B5-2AF5-4019-8450-7A0AD1D9AA33}" type="slidenum">
              <a:rPr b="0" lang="ru-RU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3"/>
          <p:cNvSpPr/>
          <p:nvPr/>
        </p:nvSpPr>
        <p:spPr>
          <a:xfrm>
            <a:off x="1371600" y="1981080"/>
            <a:ext cx="7162920" cy="7621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9" name="WordArt 9"/>
          <p:cNvSpPr txBox="1"/>
          <p:nvPr/>
        </p:nvSpPr>
        <p:spPr>
          <a:xfrm rot="21592800">
            <a:off x="1218960" y="1066320"/>
            <a:ext cx="7699320" cy="13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6000"/>
                </a:gradFill>
                <a:effectLst>
                  <a:outerShdw dist="53966" dir="2700000" blurRad="0" rotWithShape="0">
                    <a:srgbClr val="000000"/>
                  </a:outerShdw>
                </a:effectLst>
                <a:latin typeface="Impact"/>
              </a:rPr>
              <a:t> 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6000"/>
              </a:gradFill>
              <a:effectLst>
                <a:outerShdw dist="53966" dir="2700000" blurRad="0" rotWithShape="0">
                  <a:srgbClr val="00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0" name="Прямоугольник 10" descr=""/>
          <p:cNvPicPr/>
          <p:nvPr/>
        </p:nvPicPr>
        <p:blipFill>
          <a:blip r:embed="rId1"/>
          <a:stretch/>
        </p:blipFill>
        <p:spPr>
          <a:xfrm>
            <a:off x="1152360" y="1054080"/>
            <a:ext cx="7339320" cy="487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1"/>
          <p:cNvSpPr/>
          <p:nvPr/>
        </p:nvSpPr>
        <p:spPr>
          <a:xfrm>
            <a:off x="1143000" y="714240"/>
            <a:ext cx="7786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ВЫСЛУШАЙ.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Не начинай сразу же оправдываться или доказывать свою невиновность. 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Прояви самообладание и выслушай, что говорят тебе родители: </a:t>
            </a:r>
            <a:r>
              <a:rPr b="0" i="1" lang="ru-RU" sz="2800" spc="-1" strike="noStrike">
                <a:solidFill>
                  <a:srgbClr val="660066"/>
                </a:solidFill>
                <a:latin typeface="Times New Roman"/>
              </a:rPr>
              <a:t>«будь скорым на слышание, медленным на слова и еще более медленным на гнев».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Если ты начнешь пререкаться, они подумают, что ты их не слушаешь, и тебе влетит еще </a:t>
            </a:r>
            <a:r>
              <a:rPr b="0" i="1" lang="ru-RU" sz="2800" spc="-1" strike="noStrike">
                <a:solidFill>
                  <a:srgbClr val="660066"/>
                </a:solidFill>
                <a:latin typeface="Times New Roman"/>
              </a:rPr>
              <a:t>больше.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1"/>
          <p:cNvSpPr/>
          <p:nvPr/>
        </p:nvSpPr>
        <p:spPr>
          <a:xfrm>
            <a:off x="1143000" y="428760"/>
            <a:ext cx="7715160" cy="60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ПРОАНАЛИЗИРУЙ.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Иногда может казаться, что замечание сделано не очень-то любезно. Однако лучше сосредоточиться не на том, </a:t>
            </a:r>
            <a:r>
              <a:rPr b="1" i="1" lang="ru-RU" sz="2800" spc="-1" strike="noStrike">
                <a:solidFill>
                  <a:srgbClr val="660066"/>
                </a:solidFill>
                <a:latin typeface="Times New Roman"/>
              </a:rPr>
              <a:t>как</a:t>
            </a: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 тебе сказали, а на том, </a:t>
            </a:r>
            <a:r>
              <a:rPr b="1" i="1" lang="ru-RU" sz="2800" spc="-1" strike="noStrike">
                <a:solidFill>
                  <a:srgbClr val="660066"/>
                </a:solidFill>
                <a:latin typeface="Times New Roman"/>
              </a:rPr>
              <a:t>что</a:t>
            </a: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 тебе сказали. Спроси себя: «Что в этих придирках действительно обоснованно? Получал ли я подобное замечание раньше? Что мне стоит выполнить их просьбу?» 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Не забывай, что их беспокойство продиктовано любовью, даже если в данный момент тебе так не кажется. Ведь если бы они тебя не любили, то вообще бы не замечали тебя.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0066"/>
                </a:solidFill>
                <a:latin typeface="Times New Roman"/>
              </a:rPr>
              <a:t>«Послушает мудрый и лучше усвоит наставления».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1"/>
          <p:cNvSpPr/>
          <p:nvPr/>
        </p:nvSpPr>
        <p:spPr>
          <a:xfrm>
            <a:off x="1071720" y="357120"/>
            <a:ext cx="7858080" cy="60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ПЕРЕФРАЗИРУЙ.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60066"/>
                </a:solidFill>
                <a:latin typeface="Times New Roman"/>
              </a:rPr>
              <a:t>Как родители поймут, что до тебя доходят их слова? Уважительно перескажи  суть их замечания. Например, мама говорит: «В твоей комнате всегда беспорядок. Если не приберешься, будешь сидеть дома!» </a:t>
            </a:r>
            <a:endParaRPr b="0" lang="en-US" sz="26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60066"/>
                </a:solidFill>
                <a:latin typeface="Times New Roman"/>
              </a:rPr>
              <a:t>Предположим, ты не согласен, что в комнате всегда  беспорядок. Однако перечить вряд ли имеет смысл. </a:t>
            </a:r>
            <a:endParaRPr b="0" lang="en-US" sz="26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60066"/>
                </a:solidFill>
                <a:latin typeface="Times New Roman"/>
              </a:rPr>
              <a:t>Постарайся взглянуть на ситуацию ее глазами. Избегая иронии, можно ответить: «Согласен, сейчас там беспорядок. Когда мне прибраться – сразу или после обеда?» </a:t>
            </a:r>
            <a:endParaRPr b="0" lang="en-US" sz="26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60066"/>
                </a:solidFill>
                <a:latin typeface="Times New Roman"/>
              </a:rPr>
              <a:t>Соглашаясь с беспокойством родителей, ты снимаешь напряжение. Конечно, не забудь сделать то, что тебе сказали.</a:t>
            </a:r>
            <a:endParaRPr b="0" lang="en-US" sz="26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1"/>
          <p:cNvSpPr/>
          <p:nvPr/>
        </p:nvSpPr>
        <p:spPr>
          <a:xfrm>
            <a:off x="1285920" y="714240"/>
            <a:ext cx="764388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ПОДОЖДИ.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Прежде чем что-то говорить с свое оправдание, лучше сначала выполнить просьбу родителей. </a:t>
            </a:r>
            <a:br>
              <a:rPr sz="2800"/>
            </a:b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66"/>
                </a:solidFill>
                <a:latin typeface="Times New Roman"/>
              </a:rPr>
              <a:t>«Кто сдерживает свои уста, поступает благоразумно».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Если родители видят, что ты слушаешь их, они, скорее всего, внимательнее отнесутся и к твоим словам.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Box 1"/>
          <p:cNvSpPr/>
          <p:nvPr/>
        </p:nvSpPr>
        <p:spPr>
          <a:xfrm>
            <a:off x="1785960" y="357120"/>
            <a:ext cx="4929120" cy="916920"/>
          </a:xfrm>
          <a:prstGeom prst="rect">
            <a:avLst/>
          </a:prstGeom>
          <a:solidFill>
            <a:srgbClr val="56005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Impact"/>
              </a:rPr>
              <a:t>    </a:t>
            </a:r>
            <a:r>
              <a:rPr b="1" lang="ru-RU" sz="5400" spc="-1" strike="noStrike">
                <a:solidFill>
                  <a:srgbClr val="ffffff"/>
                </a:solidFill>
                <a:latin typeface="Impact"/>
              </a:rPr>
              <a:t>С о в е т</a:t>
            </a:r>
            <a:endParaRPr b="0" lang="en-US" sz="5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1" name="TextBox 2"/>
          <p:cNvSpPr/>
          <p:nvPr/>
        </p:nvSpPr>
        <p:spPr>
          <a:xfrm>
            <a:off x="1357200" y="2000160"/>
            <a:ext cx="7572600" cy="42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Чтобы советы от родителей принимать было легче...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</a:rPr>
              <a:t>цени похвалу, которую родители высказывают наряду с замечаниями;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b050"/>
                </a:solidFill>
                <a:latin typeface="Times New Roman"/>
              </a:rPr>
              <a:t>переспрашивай, если тебе непонятно, в чем именно проблема и как ее исправить.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Box 1"/>
          <p:cNvSpPr/>
          <p:nvPr/>
        </p:nvSpPr>
        <p:spPr>
          <a:xfrm>
            <a:off x="1071720" y="285840"/>
            <a:ext cx="7858080" cy="60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СОБИРАЙ КРУПИЦЫ МУДРОСТИ.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Если бы ты знал, что в большой груде песка есть много крупиц золота. То был бы ты готов претерпеть неудобства и трудности, чтобы их добыть? 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Но есть то, что ценнее любого сокровища. Это мудрость. Как ее приобрести?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0066"/>
                </a:solidFill>
                <a:latin typeface="Times New Roman"/>
              </a:rPr>
              <a:t>«Слушай совет и принимай наставление, чтобы в будущем ты стал мудрым».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Надо признать, что получать совет и наставление не очень приятно. Но если в придирках и замечаниях находить крупицы мудрости и потом применять их, то ты раздобудешь намного более ценное сокровище, чем золото.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WordArt 36"/>
          <p:cNvSpPr txBox="1"/>
          <p:nvPr/>
        </p:nvSpPr>
        <p:spPr>
          <a:xfrm>
            <a:off x="1066680" y="5181480"/>
            <a:ext cx="6172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УДАЧИ !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44" name="Picture 37" descr=""/>
          <p:cNvPicPr/>
          <p:nvPr/>
        </p:nvPicPr>
        <p:blipFill>
          <a:blip r:embed="rId3"/>
          <a:stretch/>
        </p:blipFill>
        <p:spPr>
          <a:xfrm>
            <a:off x="228600" y="838080"/>
            <a:ext cx="2509920" cy="3629160"/>
          </a:xfrm>
          <a:prstGeom prst="rect">
            <a:avLst/>
          </a:prstGeom>
          <a:ln w="0">
            <a:noFill/>
          </a:ln>
        </p:spPr>
      </p:pic>
      <p:sp>
        <p:nvSpPr>
          <p:cNvPr id="145" name="TextBox 4"/>
          <p:cNvSpPr/>
          <p:nvPr/>
        </p:nvSpPr>
        <p:spPr>
          <a:xfrm>
            <a:off x="2714760" y="214200"/>
            <a:ext cx="62150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Знай, что в твоей жизни будет еще много советов, замечаний и придирок. Сейчас ты их слышишь от родителей и учителей. Потом – от работодателей и других людей. Учась правильно на них реагировать, ты преуспеешь в учебе, станешь более ценным работником и вообще более зрелой личностью.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66"/>
                </a:solidFill>
                <a:latin typeface="Times New Roman"/>
              </a:rPr>
              <a:t>А это стоит любых жертв и неудобств!!!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609480" y="3429000"/>
            <a:ext cx="2239920" cy="3111480"/>
          </a:xfrm>
          <a:prstGeom prst="rect">
            <a:avLst/>
          </a:prstGeom>
          <a:ln w="0">
            <a:noFill/>
          </a:ln>
        </p:spPr>
      </p:pic>
      <p:sp>
        <p:nvSpPr>
          <p:cNvPr id="112" name="TextBox 7"/>
          <p:cNvSpPr/>
          <p:nvPr/>
        </p:nvSpPr>
        <p:spPr>
          <a:xfrm>
            <a:off x="1306440" y="620640"/>
            <a:ext cx="75009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0066"/>
                </a:solidFill>
                <a:latin typeface="Tahoma"/>
                <a:ea typeface="Tahoma"/>
              </a:rPr>
              <a:t>«Мне кажется, что моя мама – прирожденный сыщик. Она только и выискивает, где я дал маху. Еще я не успею выполнить порученную мне работу по дому, как она уже смотрит, где что не так».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3" name="TextBox 9"/>
          <p:cNvSpPr/>
          <p:nvPr/>
        </p:nvSpPr>
        <p:spPr>
          <a:xfrm>
            <a:off x="3143160" y="3500280"/>
            <a:ext cx="5500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70c0"/>
                </a:solidFill>
                <a:latin typeface="Tahoma"/>
                <a:ea typeface="Tahoma"/>
              </a:rPr>
              <a:t>«Родители постоянно твердят, что я расхлябанный. По учебе – пилят, по дому – пилят. Не дают свободно вздохнуть – вечные нотации!»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AMCONFUS"/>
          <p:cNvPicPr/>
          <p:nvPr/>
        </p:nvPicPr>
        <p:blipFill>
          <a:blip r:embed="rId1"/>
          <a:stretch/>
        </p:blipFill>
        <p:spPr>
          <a:xfrm>
            <a:off x="7072200" y="2643120"/>
            <a:ext cx="1824120" cy="3733920"/>
          </a:xfrm>
          <a:prstGeom prst="rect">
            <a:avLst/>
          </a:prstGeom>
          <a:ln w="0">
            <a:noFill/>
          </a:ln>
        </p:spPr>
      </p:pic>
      <p:sp>
        <p:nvSpPr>
          <p:cNvPr id="115" name="TextBox 4"/>
          <p:cNvSpPr/>
          <p:nvPr/>
        </p:nvSpPr>
        <p:spPr>
          <a:xfrm>
            <a:off x="1214280" y="857160"/>
            <a:ext cx="7429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Считаешь ли ты, что, как ни старайся, родителям не угодить? Кажется ли тебе, будто они все проверяют под лупой: всегда следят, придираются по мелочам и обязательно находят, что у тебя не в порядке?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1143000" y="3071880"/>
            <a:ext cx="5929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9933"/>
                </a:solidFill>
                <a:latin typeface="Times New Roman"/>
              </a:rPr>
              <a:t>Что тебе приходится слышать чаще всего?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7" name="TextBox 6"/>
          <p:cNvSpPr/>
          <p:nvPr/>
        </p:nvSpPr>
        <p:spPr>
          <a:xfrm>
            <a:off x="1285920" y="4286160"/>
            <a:ext cx="5500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Приберись в комнате!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Выключи телевизор!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Ложись спать!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Ты никогда не встаешь вовремя</a:t>
            </a: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1571760" y="285840"/>
            <a:ext cx="739116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Надо признать, что когда тебя донимают придирками, это действует на нервы. Но посмотри на ситуацию в другом свете: если бы родители никогда тебя не исправляли. Разве можно было бы сказать, что они о тебе заботятся? 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Радуйся, что родители к тебе неравнодушны! 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</a:rPr>
              <a:t>На самом деле замечания – 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</a:rPr>
              <a:t>признак того, что родители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c00000"/>
                </a:solidFill>
                <a:latin typeface="Times New Roman"/>
              </a:rPr>
              <a:t>тебя любят!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19" name="Picture 6" descr="AMIDEA"/>
          <p:cNvPicPr/>
          <p:nvPr/>
        </p:nvPicPr>
        <p:blipFill>
          <a:blip r:embed="rId1"/>
          <a:stretch/>
        </p:blipFill>
        <p:spPr>
          <a:xfrm>
            <a:off x="285840" y="2084400"/>
            <a:ext cx="1523880" cy="477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Text Box 5" descr=""/>
          <p:cNvPicPr/>
          <p:nvPr/>
        </p:nvPicPr>
        <p:blipFill>
          <a:blip r:embed="rId1"/>
          <a:stretch/>
        </p:blipFill>
        <p:spPr>
          <a:xfrm>
            <a:off x="2494080" y="298440"/>
            <a:ext cx="6381720" cy="1000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AMORGANI"/>
          <p:cNvPicPr/>
          <p:nvPr/>
        </p:nvPicPr>
        <p:blipFill>
          <a:blip r:embed="rId2"/>
          <a:stretch/>
        </p:blipFill>
        <p:spPr>
          <a:xfrm>
            <a:off x="0" y="2571840"/>
            <a:ext cx="2405160" cy="403200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2500200" y="1285920"/>
            <a:ext cx="66438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Конечно, любое наказание в настоящее время кажется не радостью, а печалью. Это особенно верно в юности. Почему? Твоя личность еще в процессе формирования, ты только познаешь себя, поэтому любая критика в твой адрес – пусть даже обоснованная и высказанная тактично – тебя сразу же задевает. Это понятно. Самооценка обычно строится на том, что о тебе говорят другие, особенно родители. Упреки и недовольства действуют на тебя угнетающе</a:t>
            </a: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6" descr="j0299125"/>
          <p:cNvPicPr/>
          <p:nvPr/>
        </p:nvPicPr>
        <p:blipFill>
          <a:blip r:embed="rId1"/>
          <a:stretch/>
        </p:blipFill>
        <p:spPr>
          <a:xfrm>
            <a:off x="357120" y="3571920"/>
            <a:ext cx="2233800" cy="2890800"/>
          </a:xfrm>
          <a:prstGeom prst="rect">
            <a:avLst/>
          </a:prstGeom>
          <a:ln w="0">
            <a:noFill/>
          </a:ln>
        </p:spPr>
      </p:pic>
      <p:sp>
        <p:nvSpPr>
          <p:cNvPr id="124" name="TextBox 4"/>
          <p:cNvSpPr/>
          <p:nvPr/>
        </p:nvSpPr>
        <p:spPr>
          <a:xfrm>
            <a:off x="2511360" y="1000080"/>
            <a:ext cx="62866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Если родители указали тебе на пару недостатков, стоит ли думать, что они </a:t>
            </a:r>
            <a:r>
              <a:rPr b="0" i="1" lang="ru-RU" sz="2800" spc="-1" strike="noStrike">
                <a:solidFill>
                  <a:srgbClr val="660066"/>
                </a:solidFill>
                <a:latin typeface="Times New Roman"/>
              </a:rPr>
              <a:t>всегда</a:t>
            </a: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 тобой недовольны и что ты неумеха?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Нет. Идеальных людей не бывает. И мы все учимся на своих ошибках. Также бывает, что родители щедро раздают подзатыльники, но скупятся на похвалу. Это неприятно, однако и в таком случае не стоит думать, что ты законченный неудачник.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1" descr="j0217698"/>
          <p:cNvPicPr/>
          <p:nvPr/>
        </p:nvPicPr>
        <p:blipFill>
          <a:blip r:embed="rId1"/>
          <a:stretch/>
        </p:blipFill>
        <p:spPr>
          <a:xfrm>
            <a:off x="214200" y="4929120"/>
            <a:ext cx="1747800" cy="1693800"/>
          </a:xfrm>
          <a:prstGeom prst="rect">
            <a:avLst/>
          </a:prstGeom>
          <a:ln w="0">
            <a:noFill/>
          </a:ln>
        </p:spPr>
      </p:pic>
      <p:pic>
        <p:nvPicPr>
          <p:cNvPr id="126" name="TextBox 4" descr=""/>
          <p:cNvPicPr/>
          <p:nvPr/>
        </p:nvPicPr>
        <p:blipFill>
          <a:blip r:embed="rId2"/>
          <a:stretch/>
        </p:blipFill>
        <p:spPr>
          <a:xfrm>
            <a:off x="2895480" y="554040"/>
            <a:ext cx="5748480" cy="890640"/>
          </a:xfrm>
          <a:prstGeom prst="rect">
            <a:avLst/>
          </a:prstGeom>
          <a:ln w="0">
            <a:noFill/>
          </a:ln>
        </p:spPr>
      </p:pic>
      <p:sp>
        <p:nvSpPr>
          <p:cNvPr id="127" name="TextBox 5"/>
          <p:cNvSpPr/>
          <p:nvPr/>
        </p:nvSpPr>
        <p:spPr>
          <a:xfrm>
            <a:off x="2071800" y="1428840"/>
            <a:ext cx="65721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Порой родители придираются не только потому, что ты где-то оплошал, а потому, что они сегодня не в настроении. Может у мамы был тяжелый день? Или ее изматывает болезнь? Тогда, если комната у тебя не сверкает чистотой, мама, вероятно, выразит недовольство. Если папу гложет беспокойство о финансах, у него может вырваться необдуманное замечание, которое больно ранит. Конечно тяжело, когда к тебе необоснованно придираются.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8"/>
          <p:cNvSpPr/>
          <p:nvPr/>
        </p:nvSpPr>
        <p:spPr>
          <a:xfrm>
            <a:off x="1143000" y="214200"/>
            <a:ext cx="757224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Однако, постоянно думая, что с тобой обошлись несправедливо, ты еще больше расстроишься. Не придавай слишком большого значения родительским промахам (еще не известно, каким родителем будешь ты сам).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Помни, мы все часто оступаемся.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9" name="TextBox 6"/>
          <p:cNvSpPr/>
          <p:nvPr/>
        </p:nvSpPr>
        <p:spPr>
          <a:xfrm>
            <a:off x="2143080" y="2706840"/>
            <a:ext cx="5786640" cy="82512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00"/>
                </a:solidFill>
                <a:latin typeface="Times New Roman"/>
              </a:rPr>
              <a:t>?</a:t>
            </a: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  ЗНАЕШЬ ЛИ ТЫ…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0" name="TextBox 7"/>
          <p:cNvSpPr/>
          <p:nvPr/>
        </p:nvSpPr>
        <p:spPr>
          <a:xfrm>
            <a:off x="1357200" y="4500720"/>
            <a:ext cx="65725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1" name="TextBox 4"/>
          <p:cNvSpPr/>
          <p:nvPr/>
        </p:nvSpPr>
        <p:spPr>
          <a:xfrm>
            <a:off x="500040" y="3643200"/>
            <a:ext cx="8429760" cy="30200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900"/>
                </a:solidFill>
                <a:latin typeface="Times New Roman"/>
              </a:rPr>
              <a:t>НЕКОТОРЫМ РОДИТЕЛЯМ ТРУДНО ПРОЯВЛЯТЬ ЛЮБОВЬ К СВОИМ ДЕТЯМ, ПОТОМУ ЧТО ОНИ САМИ НЕ ПОЛУЧАЛИ ДОСТАТОЧНО ЛЮБВИ И ПОНИМАНИЯ ОТ СВОИХ РОДИТЕЛЕЙ.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900"/>
                </a:solidFill>
                <a:latin typeface="Times New Roman"/>
              </a:rPr>
              <a:t>Твою неудачу они могут воспринимать как </a:t>
            </a:r>
            <a:r>
              <a:rPr b="0" i="1" lang="ru-RU" sz="2400" spc="-1" strike="noStrike">
                <a:solidFill>
                  <a:srgbClr val="002900"/>
                </a:solidFill>
                <a:latin typeface="Times New Roman"/>
              </a:rPr>
              <a:t>свою.</a:t>
            </a:r>
            <a:r>
              <a:rPr b="0" lang="ru-RU" sz="2400" spc="-1" strike="noStrike">
                <a:solidFill>
                  <a:srgbClr val="002900"/>
                </a:solidFill>
                <a:latin typeface="Times New Roman"/>
              </a:rPr>
              <a:t> Бывает мама ругается из-за плохих отметок, но при этом думает: «Наверно, я плохая мать, потому что не могу привить своей дочери интерес к учебе».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MONEYBAG"/>
          <p:cNvPicPr/>
          <p:nvPr/>
        </p:nvPicPr>
        <p:blipFill>
          <a:blip r:embed="rId1"/>
          <a:stretch/>
        </p:blipFill>
        <p:spPr>
          <a:xfrm>
            <a:off x="0" y="4643280"/>
            <a:ext cx="1139760" cy="1700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COINS"/>
          <p:cNvPicPr/>
          <p:nvPr/>
        </p:nvPicPr>
        <p:blipFill>
          <a:blip r:embed="rId2"/>
          <a:stretch/>
        </p:blipFill>
        <p:spPr>
          <a:xfrm>
            <a:off x="7086600" y="5318280"/>
            <a:ext cx="1371600" cy="1309680"/>
          </a:xfrm>
          <a:prstGeom prst="rect">
            <a:avLst/>
          </a:prstGeom>
          <a:ln w="0">
            <a:noFill/>
          </a:ln>
        </p:spPr>
      </p:pic>
      <p:sp>
        <p:nvSpPr>
          <p:cNvPr id="134" name="TextBox 8"/>
          <p:cNvSpPr/>
          <p:nvPr/>
        </p:nvSpPr>
        <p:spPr>
          <a:xfrm>
            <a:off x="1143000" y="785880"/>
            <a:ext cx="77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660066"/>
                </a:solidFill>
                <a:uFillTx/>
                <a:latin typeface="Times New Roman"/>
              </a:rPr>
              <a:t>Невозмутимость перед перекрестным огнем.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5" name="TextBox 9"/>
          <p:cNvSpPr/>
          <p:nvPr/>
        </p:nvSpPr>
        <p:spPr>
          <a:xfrm>
            <a:off x="1214280" y="1571760"/>
            <a:ext cx="75009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Что бы ни стояло за критикой, на нее надо правильно реагировать. Прежде всего, не давай воли своему возмущению.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0066"/>
                </a:solidFill>
                <a:latin typeface="Times New Roman"/>
              </a:rPr>
              <a:t>«Кто сдержан в словах, тот обладает знанием, и проницательный человек невозмутим духом».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Но как сохранять невозмутимость перед перекрестным огнем родительских замечаний? Вот несколько советов.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3T18:02:56Z</dcterms:created>
  <dc:creator>User</dc:creator>
  <dc:description/>
  <dc:language>en-US</dc:language>
  <cp:lastModifiedBy>Андрей</cp:lastModifiedBy>
  <dcterms:modified xsi:type="dcterms:W3CDTF">2013-01-13T12:16:44Z</dcterms:modified>
  <cp:revision>42</cp:revision>
  <dc:subject/>
  <dc:title>Заголовок слайда отсутствует</dc:title>
</cp:coreProperties>
</file>