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BD9-25E4-4EFA-8578-371D0957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238-F59D-41B0-A83A-5906B5AB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EFF-BC78-481F-B52E-F9981143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20D-2118-4FA6-A62C-B468B12D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9C3E-9333-4CE9-B3F2-8E508288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C349-F07C-4311-A9C5-35E35B6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10DE-3134-4D70-8E7E-DB4E33E8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B4A0-0757-4D07-9F3C-12231AB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35DC-C7C1-46E5-805D-FB40460E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A74A-1537-43A4-9B77-8F169584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C5E8-47BC-4668-8D63-5BB73AD2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C72-D799-4CE8-A708-3B92B0EB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273-C3C2-4F36-B28C-EE6C646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A603-ABE3-4F13-8F58-99576DE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818-756D-4998-8AED-BDB26EFE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718-E32F-4987-89FA-8011900C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4F53-1F94-4C37-B520-B5A43DA9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C11-77E1-4A43-8668-7210290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D67-D02A-42F0-B908-ACDF708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B07-B53A-4BA5-91F4-E395061A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464-5BFA-45FD-9BBB-3A80475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52B-E16A-4FB1-A93E-6911759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B5D-25F7-478D-B0C0-E2CF4EE3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A25-639B-4872-B9B8-7366B93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F96F-1C18-4DDF-83E8-8FB0566B1A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E082-2B09-4E2B-B1F4-1376487D85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668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Жизнь-подвиг А.Берест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360" y="2205000"/>
            <a:ext cx="6346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 высшей категории ДЭБЦ г.Ростова-на-Д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ивненко Т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ител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4- «А» класса лицея №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язникова Оксана и Штарева И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992160" y="376200"/>
            <a:ext cx="7158240" cy="938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3606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Copperplate Gothic Bold"/>
              </a:rPr>
              <a:t>Берест Алексей Прокопьевич (9 марта 1921 — 3 ноября 1970) — советский офицер, участник Великой Отечественной Вой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opperplate Gothic Bold"/>
              </a:rPr>
              <a:t>. Во время штурма рейхстага, совместно с М. А. Егоровым и М. В. Контария выполнил боевую задачу по водружению Знамени Победы над рейхста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opperplate Gothic Bold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533760" cy="4496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04640"/>
            <a:ext cx="8209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4839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н был героем на войн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гиб он в мирной жизни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зятие Рейхста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pperplate Gothic Bold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Copperplate Gothic Bold"/>
              </a:rPr>
              <a:t>30 апреля 1945 года по приказу первого коменданта рейхстага, командира 756-го стрелкового полка, полковника Зинченко Ф. М., младший лейтенант Берест Алексей Прокопьевич возглавил выполнение боевой задачи по водружению знамени Военного совета 3-й ударной армии на куполе рейхстага. За участие в этой операции был награждён Орденом Красного Знам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Рисунок 4" descr="C:\Users\ПАПА\Pictures\5623220_A000915F_resize.jpg"/>
          <p:cNvPicPr/>
          <p:nvPr/>
        </p:nvPicPr>
        <p:blipFill>
          <a:blip r:embed="rId1"/>
          <a:stretch/>
        </p:blipFill>
        <p:spPr>
          <a:xfrm>
            <a:off x="4572000" y="1773360"/>
            <a:ext cx="4176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pperplate Gothic Bold"/>
              </a:rPr>
              <a:t>6 мая 2005 года за боевую отвагу в Великой Отечественной войне 1941—1945 годов, личное мужество и героизм, проявленные в Берлинской операции, и водружение Знамени Победы над рейхстагом, указом Президента Украины Алексею Бересту присвоено звание Герой Украины (посмертн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31640" y="47628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После освобождения вернулся в Ростов-на-Дону. Работал пескоструйщиком в сталелитейном цехе на заводе «Ростсельмаш». Погиб 3 ноября 1970 года, спасая девочку из под колёс поез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Награ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Красного Знам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Отечественной войны I степ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Красной Звез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«Золотая Звезда» Героя Украины (посмертн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3" descr="C:\Users\ПАПА\Pictures\P5292708.jpg"/>
          <p:cNvPicPr/>
          <p:nvPr/>
        </p:nvPicPr>
        <p:blipFill>
          <a:blip r:embed="rId1"/>
          <a:stretch/>
        </p:blipFill>
        <p:spPr>
          <a:xfrm>
            <a:off x="900000" y="400536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ПАПА\Desktop\DSC04609.JPG"/>
          <p:cNvPicPr/>
          <p:nvPr/>
        </p:nvPicPr>
        <p:blipFill>
          <a:blip r:embed="rId2"/>
          <a:stretch/>
        </p:blipFill>
        <p:spPr>
          <a:xfrm>
            <a:off x="5148360" y="4149720"/>
            <a:ext cx="22143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ПАПА\Pictures\viewimg.jpeg"/>
          <p:cNvPicPr/>
          <p:nvPr/>
        </p:nvPicPr>
        <p:blipFill>
          <a:blip r:embed="rId1"/>
          <a:stretch/>
        </p:blipFill>
        <p:spPr>
          <a:xfrm>
            <a:off x="539640" y="1773360"/>
            <a:ext cx="280368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стов помнит героя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Содержимое 6" descr="C:\Users\ПАПА\Pictures\жэх.jpeg"/>
          <p:cNvPicPr/>
          <p:nvPr/>
        </p:nvPicPr>
        <p:blipFill>
          <a:blip r:embed="rId2"/>
          <a:stretch/>
        </p:blipFill>
        <p:spPr>
          <a:xfrm>
            <a:off x="6084720" y="2276640"/>
            <a:ext cx="15465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на  «Аллее Славы» в Ростове – на - До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7600" y="2828880"/>
            <a:ext cx="2857680" cy="203832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3" descr="C:\Users\ПАПА\Pictures\56236033_berest1.jpg"/>
          <p:cNvPicPr/>
          <p:nvPr/>
        </p:nvPicPr>
        <p:blipFill>
          <a:blip r:embed="rId2"/>
          <a:stretch/>
        </p:blipFill>
        <p:spPr>
          <a:xfrm>
            <a:off x="4572000" y="1773360"/>
            <a:ext cx="3429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40:32Z</dcterms:created>
  <dc:creator>ПАПА</dc:creator>
  <dc:description/>
  <dc:language>en-US</dc:language>
  <cp:lastModifiedBy>Таня</cp:lastModifiedBy>
  <dcterms:modified xsi:type="dcterms:W3CDTF">2013-01-13T09:35:26Z</dcterms:modified>
  <cp:revision>23</cp:revision>
  <dc:subject/>
  <dc:title>Берест Алексей Прокопьевич</dc:title>
</cp:coreProperties>
</file>