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1AB-8D6E-42E3-932A-B5B15237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BB1-7913-4728-A973-0348AE3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353-16C7-4F33-B355-E767881F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58ED-E767-41A0-A825-58AC9B69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79CC-DE6B-4F9F-AE3A-0BBB4C4F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8DA0-623E-454A-AA5B-D3C5EA91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BF88-131B-446C-B04C-A1AC3DE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52EE-228C-47E3-8CF8-323844B8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BBB3-E2E8-4DBF-93F4-282CC563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ED9B-5140-45E0-98C2-AF8DE1C3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EA7F-E97E-437A-9FA2-56BD6465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44F-79C1-49A7-9821-C13A32C1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3E3E-B145-499B-9771-B2449E8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98CC-78E9-4079-BED3-A6D68875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3DF-4514-4B50-BD4A-CFEFBBBB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9D6B-AB2C-407A-A294-6B653D25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6A8A-64AA-4966-A369-C9C4ADAC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D0B-78F0-486F-AA8F-018F459D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1A5-CF56-4345-9136-F627A26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CA2-A799-4EF9-B651-08BF3E31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EC0-4875-4DAC-A2D0-1B82297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7F9-C63D-4083-8E97-9E863DC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F6E-2014-4CA6-9D98-AF58258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EBB-03FC-4B71-A7BB-AF1B93E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FBAD-B6A0-4BFA-9AA3-E3EE2D9E6A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5A52-75F7-4C1C-BE82-D31ADD1391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668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Жизнь-подвиг А.Берест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92360" y="2205000"/>
            <a:ext cx="6346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дагог высшей категории ДЭБЦ г.Ростова-на-Д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ивненко Т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ы 4- «А» класса лицея №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язникова Оксана и Штарева И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992160" y="376200"/>
            <a:ext cx="7158240" cy="9381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3606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Берест Алексей Прокопьевич (9 марта 1921 — 3 ноября 1970) — советский офицер, участник Великой Отечественной Вой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. Во время штурма рейхстага, совместно с М. А. Егоровым и М. В. Контария выполнил боевую задачу по водружению Знамени Победы над рейхста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Copperplate Gothic Bold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533760" cy="449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04640"/>
            <a:ext cx="8209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14839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н был героем на войне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гиб он в мирной жизни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зятие Рейхстаг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pperplate Gothic Bold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Copperplate Gothic Bold"/>
              </a:rPr>
              <a:t>30 апреля 1945 года по приказу первого коменданта рейхстага, командира 756-го стрелкового полка, полковника Зинченко Ф. М., младший лейтенант Берест Алексей Прокопьевич возглавил выполнение боевой задачи по водружению знамени Военного совета 3-й ударной армии на куполе рейхстага. За участие в этой операции был награждён Орденом Красного Знам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Рисунок 4" descr="C:\Users\ПАПА\Pictures\5623220_A000915F_resize.jpg"/>
          <p:cNvPicPr/>
          <p:nvPr/>
        </p:nvPicPr>
        <p:blipFill>
          <a:blip r:embed="rId1"/>
          <a:stretch/>
        </p:blipFill>
        <p:spPr>
          <a:xfrm>
            <a:off x="457200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pperplate Gothic Bold"/>
              </a:rPr>
              <a:t>6 мая 2005 года за боевую отвагу в Великой Отечественной войне 1941—1945 годов, личное мужество и героизм, проявленные в Берлинской операции, и водружение Знамени Победы над рейхстагом, указом Президента Украины Алексею Бересту присвоено звание Герой Украины (посмерт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92720" y="69228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31640" y="47628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После освобождения вернулся в Ростов-на-Дону. Работал пескоструйщиком в сталелитейном цехе на заводе «Ростсельмаш». Погиб 3 ноября 1970 года, спасая девочку из под колёс поез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Награ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Красного Знам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Отечественной войны I степе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Красной Звез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4a9"/>
                </a:solidFill>
                <a:latin typeface="Tahoma"/>
              </a:rPr>
              <a:t>Орден «Золотая Звезда» Героя Украины (посмертн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3" descr="C:\Users\ПАПА\Pictures\P5292708.jpg"/>
          <p:cNvPicPr/>
          <p:nvPr/>
        </p:nvPicPr>
        <p:blipFill>
          <a:blip r:embed="rId1"/>
          <a:stretch/>
        </p:blipFill>
        <p:spPr>
          <a:xfrm>
            <a:off x="900000" y="400536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ПАПА\Desktop\DSC04609.JPG"/>
          <p:cNvPicPr/>
          <p:nvPr/>
        </p:nvPicPr>
        <p:blipFill>
          <a:blip r:embed="rId2"/>
          <a:stretch/>
        </p:blipFill>
        <p:spPr>
          <a:xfrm>
            <a:off x="5148360" y="4149720"/>
            <a:ext cx="22143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ПАПА\Pictures\viewimg.jpeg"/>
          <p:cNvPicPr/>
          <p:nvPr/>
        </p:nvPicPr>
        <p:blipFill>
          <a:blip r:embed="rId1"/>
          <a:stretch/>
        </p:blipFill>
        <p:spPr>
          <a:xfrm>
            <a:off x="539640" y="1773360"/>
            <a:ext cx="280368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остов помнит героя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Содержимое 6" descr="C:\Users\ПАПА\Pictures\жэх.jpeg"/>
          <p:cNvPicPr/>
          <p:nvPr/>
        </p:nvPicPr>
        <p:blipFill>
          <a:blip r:embed="rId2"/>
          <a:stretch/>
        </p:blipFill>
        <p:spPr>
          <a:xfrm>
            <a:off x="6084720" y="2276640"/>
            <a:ext cx="15465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везда на  «Аллее Славы» в Ростове – на - Дон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7600" y="282888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3" descr="C:\Users\ПАПА\Pictures\56236033_berest1.jpg"/>
          <p:cNvPicPr/>
          <p:nvPr/>
        </p:nvPicPr>
        <p:blipFill>
          <a:blip r:embed="rId2"/>
          <a:stretch/>
        </p:blipFill>
        <p:spPr>
          <a:xfrm>
            <a:off x="4572000" y="1773360"/>
            <a:ext cx="3429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40:32Z</dcterms:created>
  <dc:creator>ПАПА</dc:creator>
  <dc:description/>
  <dc:language>en-US</dc:language>
  <cp:lastModifiedBy>Таня</cp:lastModifiedBy>
  <dcterms:modified xsi:type="dcterms:W3CDTF">2013-01-13T09:35:26Z</dcterms:modified>
  <cp:revision>23</cp:revision>
  <dc:subject/>
  <dc:title>Берест Алексей Прокопьевич</dc:title>
</cp:coreProperties>
</file>