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B43F-B34E-43EA-B24B-B1D72AC16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F7B2-F862-4975-B02E-E401431C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EF21-602B-47FC-A9C6-2D7ED1639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FD5F-80E9-4D30-B312-541D9BC19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C67E4-5CDC-407D-8D37-6D4B6941D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576A-2D0E-487D-AB5D-6AD33EE6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59A5-B973-4E85-AA93-980DF6E7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3519-91C3-4285-A611-EA306991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E226-0C19-4CEC-8894-CD0C4293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A67B-FA37-4402-8D2E-499D9AF9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4664-5D6D-4E04-9F3E-AB5AD069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E619-DCE0-4BA3-A0BE-303D3B27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A48E-2B0B-48EC-87E7-7BD30C8D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259F-50A7-4011-8C5E-91A312F3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CF0D-53A7-4E53-995F-55991D47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1516A-F127-4B37-8AEB-09348803F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6666-F801-435A-9C10-9F23FC49D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A94A-3689-425B-90F8-7989D90B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F7A9-81D8-4D4C-A326-823B245D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7BBF-AE1D-4402-A33D-AEF897D8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9B85-F0C5-4A27-A3FD-B2C33B5E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12A5-D7D8-4145-BFD0-EBA9DC6C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B020-7B35-4590-A566-014B392F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ABA0-BCEA-4BA8-AC49-2450F0F6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6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813E-9540-43F9-AD4E-81CD68E0F0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6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6BAD-02DF-4F9C-93CD-1E2DD65C9A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6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66"/>
                </a:solidFill>
                <a:latin typeface="Tahoma"/>
              </a:rPr>
              <a:t>Дикие животные поздней осенью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560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ahoma"/>
              </a:rPr>
              <a:t>Урок ознакомления с окружающим мир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Tahoma"/>
              </a:rPr>
              <a:t>во 2 классе школы 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I </a:t>
            </a:r>
            <a:r>
              <a:rPr b="0" lang="ru-RU" sz="1800" spc="-1" strike="noStrike">
                <a:solidFill>
                  <a:srgbClr val="990000"/>
                </a:solidFill>
                <a:latin typeface="Tahoma"/>
              </a:rPr>
              <a:t>ви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ahoma"/>
              </a:rPr>
              <a:t>составитель – Казакова И.М., учитель ГБС(К)ОУ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ahoma"/>
              </a:rPr>
              <a:t>школа – интернат ( 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I</a:t>
            </a:r>
            <a:r>
              <a:rPr b="0" lang="ru-RU" sz="1800" spc="-1" strike="noStrike">
                <a:solidFill>
                  <a:srgbClr val="990000"/>
                </a:solidFill>
                <a:latin typeface="Tahoma"/>
              </a:rPr>
              <a:t> вида) № 1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ahoma"/>
              </a:rPr>
              <a:t>Выборгского района Санкт - Петербург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6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17440" y="189000"/>
            <a:ext cx="840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Раздели картинки на две групп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04000" y="515772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2286000" cy="1428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250920" y="321300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24000" y="508464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724360" y="1557360"/>
            <a:ext cx="2095560" cy="1428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3203640" y="522936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rcRect l="14175" t="0" r="14175" b="0"/>
          <a:stretch/>
        </p:blipFill>
        <p:spPr>
          <a:xfrm>
            <a:off x="3419640" y="1484280"/>
            <a:ext cx="1763640" cy="1538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8"/>
          <a:stretch/>
        </p:blipFill>
        <p:spPr>
          <a:xfrm>
            <a:off x="6600960" y="2997360"/>
            <a:ext cx="2543040" cy="1428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9"/>
          <a:stretch/>
        </p:blipFill>
        <p:spPr>
          <a:xfrm>
            <a:off x="2268360" y="321300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7440" y="115920"/>
            <a:ext cx="889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…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,…,…,… - это дикие живот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…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,…,…,… - это домашние живот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0"/>
          <a:stretch/>
        </p:blipFill>
        <p:spPr>
          <a:xfrm>
            <a:off x="4500720" y="3716280"/>
            <a:ext cx="201600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6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8360" y="404640"/>
            <a:ext cx="45720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00"/>
                </a:solidFill>
                <a:latin typeface="Tahoma"/>
              </a:rPr>
              <a:t>Физминутка</a:t>
            </a:r>
            <a:r>
              <a:rPr b="0" lang="ru-RU" sz="4000" spc="-1" strike="noStrike">
                <a:solidFill>
                  <a:srgbClr val="99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03366"/>
                </a:solidFill>
                <a:latin typeface="Tahoma"/>
              </a:rPr>
              <a:t>Желтый листок по асфальту бежит 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03366"/>
                </a:solidFill>
                <a:latin typeface="Tahoma"/>
              </a:rPr>
              <a:t>Лишь только ветер подует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03366"/>
                </a:solidFill>
                <a:latin typeface="Tahoma"/>
              </a:rPr>
              <a:t>А временами как в танце кружит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03366"/>
                </a:solidFill>
                <a:latin typeface="Tahoma"/>
              </a:rPr>
              <a:t>Только он грустно танцует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995640" y="593640"/>
            <a:ext cx="488016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6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ahoma"/>
              </a:rPr>
              <a:t>Жизнь диких животных осенью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1125000"/>
            <a:ext cx="471636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( Кто?) … запасает осенью корм: …,…,…,…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( Кто?) …много ест, запасает жир на зиму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( Кто?) … никаких запасов не дела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У ( кого?) … отрастает густая шерсть, чтобы зимой ... …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У ( кого?) … меняется </a:t>
            </a:r>
            <a:r>
              <a:rPr b="1" i="1" lang="en-US" sz="2400" spc="-1" strike="noStrike">
                <a:solidFill>
                  <a:srgbClr val="003366"/>
                </a:solidFill>
                <a:latin typeface="Tahoma"/>
              </a:rPr>
              <a:t>цвет шерсти ( окраска).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Это называется</a:t>
            </a:r>
            <a:r>
              <a:rPr b="1" i="1" lang="en-US" sz="2400" spc="-1" strike="noStrike">
                <a:solidFill>
                  <a:srgbClr val="003366"/>
                </a:solidFill>
                <a:latin typeface="Tahoma"/>
              </a:rPr>
              <a:t> линь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( Кто?) … впадает  в спячк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932360" y="1989000"/>
            <a:ext cx="3924360" cy="2452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508720" y="2133720"/>
            <a:ext cx="2736720" cy="1866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292720" y="1989000"/>
            <a:ext cx="3240000" cy="2430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716360" y="2060640"/>
            <a:ext cx="4067280" cy="2284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4572000" y="3429000"/>
            <a:ext cx="4032360" cy="2687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5292720" y="1916280"/>
            <a:ext cx="3168720" cy="2977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4500720" y="1989000"/>
            <a:ext cx="4381200" cy="30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5:26:40Z</dcterms:created>
  <dc:creator>User</dc:creator>
  <dc:description/>
  <dc:language>en-US</dc:language>
  <cp:lastModifiedBy>User</cp:lastModifiedBy>
  <dcterms:modified xsi:type="dcterms:W3CDTF">2013-01-13T15:01:29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