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262-4DA4-4497-92A6-7D5F980A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B9C-8E41-4F66-8B7D-418C5B37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BF1-CEED-497F-8935-E75AE18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6BD-863F-4EF5-96D7-4689A0CE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D3A-75EF-4497-B173-E171B183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C649-3A09-480B-A329-075462F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280A-3227-4643-8E73-C8904D1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03D-B657-4455-A707-A21D1286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5A58-BCAF-4C5F-B77B-FDA8EF5D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18DA-4791-4542-B73B-B8E9C67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5E80-6D4D-412C-9033-4A8F3361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C83-B8B2-4285-B927-DE4C4D8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0EA-BFA1-4F90-9688-0D22D81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8F76-BEA6-40A0-9A58-EDA5276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89B-1007-4844-835B-005F4F47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1D7-8C14-47F1-9D12-C5E039AB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5CDF-3D5E-42A5-B0F0-73E3A3A8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199-F159-4EE9-9AF5-8209EA7C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8A6-C192-444A-8B1F-437BDBD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F91-3984-40A6-B692-BEA954D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B71-B591-46CD-BCFF-8FBF65F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5B7-5A63-46C8-B2EB-1272048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21D-E8AB-421B-9797-9EF66DFC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F5B-5FD2-4DE5-9CAE-4378F4E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08A-7647-4E0C-9AF6-8950B1C9B8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3F58-2FF2-4F8F-88A2-55E9F8BC6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Tahoma"/>
              </a:rPr>
              <a:t>Дикие животные поздней осень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5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Урок ознакомления с окружающим ми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во 2 классе школы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 </a:t>
            </a: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ви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составитель – Казакова И.М., учитель ГБС(К)О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школа – интернат (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 вида) № 1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ahoma"/>
              </a:rPr>
              <a:t>Выборгского района Санкт - 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7440" y="189000"/>
            <a:ext cx="84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Раздели картинки на две групп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04000" y="5157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09556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203640" y="522936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rcRect l="14175" t="0" r="14175" b="0"/>
          <a:stretch/>
        </p:blipFill>
        <p:spPr>
          <a:xfrm>
            <a:off x="3419640" y="1484280"/>
            <a:ext cx="1763640" cy="1538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6600960" y="2997360"/>
            <a:ext cx="254304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268360" y="3213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440" y="115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,…,…,… - это дик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…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,…,…,… - это домашние живот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4500720" y="3716280"/>
            <a:ext cx="20160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404640"/>
            <a:ext cx="4572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Tahoma"/>
              </a:rPr>
              <a:t>Физминутка</a:t>
            </a: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Желтый листок по асфальту бежит 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Лишь только ветер подуе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А временами как в танце кружит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Только он грустно танцует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95640" y="593640"/>
            <a:ext cx="4880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6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ahoma"/>
              </a:rPr>
              <a:t>Жизнь диких животных осенью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471636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 запасает осенью корм: …,…,…,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много ест, запасает жир на зиму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 никаких запасов не дел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У ( кого?) … отрастает густая шерсть, чтобы зимой ... …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У ( кого?) … меняется </a:t>
            </a:r>
            <a:r>
              <a:rPr b="1" i="1" lang="en-US" sz="2400" spc="-1" strike="noStrike">
                <a:solidFill>
                  <a:srgbClr val="003366"/>
                </a:solidFill>
                <a:latin typeface="Tahoma"/>
              </a:rPr>
              <a:t>цвет шерсти ( окраска).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Это называется</a:t>
            </a:r>
            <a:r>
              <a:rPr b="1" i="1" lang="en-US" sz="2400" spc="-1" strike="noStrike">
                <a:solidFill>
                  <a:srgbClr val="003366"/>
                </a:solidFill>
                <a:latin typeface="Tahoma"/>
              </a:rPr>
              <a:t> линь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( Кто?) … впадает  в спяч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24360" cy="2452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36720" cy="1866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4067280" cy="228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4032360" cy="2687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292720" y="1916280"/>
            <a:ext cx="3168720" cy="2977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4500720" y="1989000"/>
            <a:ext cx="438120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5:26:40Z</dcterms:created>
  <dc:creator>User</dc:creator>
  <dc:description/>
  <dc:language>en-US</dc:language>
  <cp:lastModifiedBy>User</cp:lastModifiedBy>
  <dcterms:modified xsi:type="dcterms:W3CDTF">2013-01-13T15:01:2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