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937-6885-46F2-A4DD-CA66B129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626-0588-406F-A0B2-4950FC31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A35-34AB-428D-93A3-394F1945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64A-3A00-4D6D-83FE-30E7B9D6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9F9-F811-4613-A385-25B8C6E6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020-7224-4CCC-B595-26A43AB4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EC1-058C-44FC-A244-E5185835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BF3-67EC-4D49-8105-B6E0194E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3E7-9143-4B17-9B99-9B28FC0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979-28AD-4F85-B1DF-E08ACF9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2A7-15DF-42FE-B601-C7F3981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B74-1990-43CF-B885-8734AE5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580F-6B55-497D-A5C5-FBE95657AF8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966-E9B3-40CB-8037-7D01861B2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ый подвиг юро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одивые святы с давних пор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имы как великие геро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х честь соборы в Златоглавой строя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ыслом вещим наделяют взд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19280" y="1719360"/>
            <a:ext cx="351468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ам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сной Площади Кремлёвс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лепный стоит хра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твы в нём Души блажен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усь Василий творит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17400" y="1600200"/>
            <a:ext cx="37180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27240"/>
            <a:ext cx="39718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4240080" cy="578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9680" y="571320"/>
            <a:ext cx="296532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1 из 466"/>
          <p:cNvPicPr/>
          <p:nvPr/>
        </p:nvPicPr>
        <p:blipFill>
          <a:blip r:embed="rId2"/>
          <a:stretch/>
        </p:blipFill>
        <p:spPr>
          <a:xfrm>
            <a:off x="5429160" y="1785960"/>
            <a:ext cx="3429000" cy="4071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2280" y="999720"/>
            <a:ext cx="35416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а с мощами Василия Блаженн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4257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8520" y="272520"/>
            <a:ext cx="51433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ая Ксения Петербургска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952720" cy="4286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5960"/>
            <a:ext cx="34290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286240" y="425520"/>
            <a:ext cx="29289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929120" y="1785960"/>
            <a:ext cx="328608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2040" y="4716360"/>
            <a:ext cx="25718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 блаженной Ксении Петербургской в Губк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 rot="10800000">
            <a:off x="1071000" y="49968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3008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ня  блаженной  Ксении Петербургской на Смоленском кладби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-main-pic" descr="Картинка 7 из 115"/>
          <p:cNvPicPr/>
          <p:nvPr/>
        </p:nvPicPr>
        <p:blipFill>
          <a:blip r:embed="rId1"/>
          <a:stretch/>
        </p:blipFill>
        <p:spPr>
          <a:xfrm>
            <a:off x="3643200" y="1428840"/>
            <a:ext cx="4819680" cy="3071880"/>
          </a:xfrm>
          <a:prstGeom prst="rect">
            <a:avLst/>
          </a:prstGeom>
          <a:ln w="0">
            <a:noFill/>
          </a:ln>
        </p:spPr>
      </p:pic>
      <p:pic>
        <p:nvPicPr>
          <p:cNvPr id="67" name="i-main-pic" descr="Картинка 1 из 1852"/>
          <p:cNvPicPr/>
          <p:nvPr/>
        </p:nvPicPr>
        <p:blipFill>
          <a:blip r:embed="rId2"/>
          <a:stretch/>
        </p:blipFill>
        <p:spPr>
          <a:xfrm>
            <a:off x="428760" y="2071800"/>
            <a:ext cx="3124080" cy="408132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4653000" y="5010120"/>
            <a:ext cx="3571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ая Матрона Москов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667320" cy="4583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500720" y="1500120"/>
            <a:ext cx="4186080" cy="42861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мощью к матушке Матро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603807224" descr="603807224"/>
          <p:cNvPicPr/>
          <p:nvPr/>
        </p:nvPicPr>
        <p:blipFill>
          <a:blip r:embed="rId2"/>
          <a:stretch/>
        </p:blipFill>
        <p:spPr>
          <a:xfrm>
            <a:off x="428760" y="928800"/>
            <a:ext cx="8286480" cy="514332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6:44:17Z</dcterms:created>
  <dc:creator>я</dc:creator>
  <dc:description/>
  <dc:language>en-US</dc:language>
  <cp:lastModifiedBy>я</cp:lastModifiedBy>
  <dcterms:modified xsi:type="dcterms:W3CDTF">2012-05-23T19:38:10Z</dcterms:modified>
  <cp:revision>22</cp:revision>
  <dc:subject/>
  <dc:title>Духовный подвиг юродства</dc:title>
</cp:coreProperties>
</file>