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277-74EA-468E-96D9-FDA942E8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F47-B6C1-426E-AFFB-1E7126C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DE6-1E17-4307-B522-23BFA5B5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99D-17E1-427C-8A6A-D9E9C7B0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557-49E6-4060-9B6B-6DCDDCA5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DED-D1C1-4AFC-9F62-3FC2CC2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902-D5A9-440D-91ED-07BE3527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549-D9BF-4F73-963F-86339365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1F4-76DE-4915-BA56-8C182CED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F04-018F-42AE-BFCA-C4BC8EEB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5BC-BA80-46C4-8C5A-C2A7DE1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24F-E65C-4AC8-AA8B-D717EEC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F6BF-4C58-42ED-AF48-CFFC430A41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0BDC-686E-4D85-824B-500A9FB81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ый подвиг юрод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одивые святы с давних пор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имы как великие геро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х честь соборы в Златоглавой строя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ыслом вещим наделяют взд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19280" y="1719360"/>
            <a:ext cx="351468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рам Василия Блаженн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сной Площади Кремлёвск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лепный стоит хра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твы в нём Души блажен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усь Василий творит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17400" y="1600200"/>
            <a:ext cx="37180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27240"/>
            <a:ext cx="39718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4240080" cy="578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9680" y="571320"/>
            <a:ext cx="296532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-main-pic" descr="Картинка 1 из 466"/>
          <p:cNvPicPr/>
          <p:nvPr/>
        </p:nvPicPr>
        <p:blipFill>
          <a:blip r:embed="rId2"/>
          <a:stretch/>
        </p:blipFill>
        <p:spPr>
          <a:xfrm>
            <a:off x="5429160" y="1785960"/>
            <a:ext cx="3429000" cy="4071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2280" y="999720"/>
            <a:ext cx="35416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а с мощами Василия Блаженн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4257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8520" y="272520"/>
            <a:ext cx="51433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женная Ксения Петербургска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952720" cy="4286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5960"/>
            <a:ext cx="34290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5286240" y="425520"/>
            <a:ext cx="29289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929120" y="1785960"/>
            <a:ext cx="328608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2040" y="4716360"/>
            <a:ext cx="25718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 блаженной Ксении Петербургской в Губк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 rot="10800000">
            <a:off x="1071000" y="49968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13880"/>
            <a:ext cx="300816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ня  блаженной  Ксении Петербургской на Смоленском кладби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-main-pic" descr="Картинка 7 из 115"/>
          <p:cNvPicPr/>
          <p:nvPr/>
        </p:nvPicPr>
        <p:blipFill>
          <a:blip r:embed="rId1"/>
          <a:stretch/>
        </p:blipFill>
        <p:spPr>
          <a:xfrm>
            <a:off x="3643200" y="1428840"/>
            <a:ext cx="4819680" cy="3071880"/>
          </a:xfrm>
          <a:prstGeom prst="rect">
            <a:avLst/>
          </a:prstGeom>
          <a:ln w="0">
            <a:noFill/>
          </a:ln>
        </p:spPr>
      </p:pic>
      <p:pic>
        <p:nvPicPr>
          <p:cNvPr id="67" name="i-main-pic" descr="Картинка 1 из 1852"/>
          <p:cNvPicPr/>
          <p:nvPr/>
        </p:nvPicPr>
        <p:blipFill>
          <a:blip r:embed="rId2"/>
          <a:stretch/>
        </p:blipFill>
        <p:spPr>
          <a:xfrm>
            <a:off x="428760" y="2071800"/>
            <a:ext cx="3124080" cy="4081320"/>
          </a:xfrm>
          <a:prstGeom prst="rect">
            <a:avLst/>
          </a:prstGeom>
          <a:ln w="0">
            <a:noFill/>
          </a:ln>
        </p:spPr>
      </p:pic>
      <p:sp>
        <p:nvSpPr>
          <p:cNvPr id="68" name="Содержимое 2"/>
          <p:cNvSpPr/>
          <p:nvPr/>
        </p:nvSpPr>
        <p:spPr>
          <a:xfrm>
            <a:off x="4653000" y="5010120"/>
            <a:ext cx="3571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тая Матрона Московск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667320" cy="4583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500720" y="1500120"/>
            <a:ext cx="4186080" cy="428616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мощью к матушке Матро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603807224" descr="603807224"/>
          <p:cNvPicPr/>
          <p:nvPr/>
        </p:nvPicPr>
        <p:blipFill>
          <a:blip r:embed="rId2"/>
          <a:stretch/>
        </p:blipFill>
        <p:spPr>
          <a:xfrm>
            <a:off x="428760" y="928800"/>
            <a:ext cx="8286480" cy="514332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ргеева Ирина Владимировна, учитель истории МБОУ "Ивановская ООШ", Губкинский рай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6:44:17Z</dcterms:created>
  <dc:creator>я</dc:creator>
  <dc:description/>
  <dc:language>en-US</dc:language>
  <cp:lastModifiedBy>я</cp:lastModifiedBy>
  <dcterms:modified xsi:type="dcterms:W3CDTF">2012-05-23T19:38:10Z</dcterms:modified>
  <cp:revision>22</cp:revision>
  <dc:subject/>
  <dc:title>Духовный подвиг юродства</dc:title>
</cp:coreProperties>
</file>