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0378-81C1-4D03-8972-562CCD0A8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29AF-D465-483D-82E1-28452A53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8A08-54AE-418A-B9DC-237C3717B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C3A4-C2A7-4513-9F78-4241BDAD5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E184-19F5-4656-B08B-4CC648809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F8A8-5FE4-481A-92A3-E84100E4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152B-AF15-46D4-9018-FCC2EC09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ED1C-FC0B-419F-A3FF-BAE2EB3F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3AFC-EDE2-45C8-90A7-5640CE9B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6A21-9B93-4DED-A62D-6DECF0EA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4125-B622-4C22-A007-2E7483DE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1665-BE74-4423-8D07-CACFF1ED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81EB-8BB6-44A1-A907-9F00EDC9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23B7-9478-46B6-9690-E65B0EA0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A7B5-4548-4DB7-91FD-03EBAE63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E4BE-AD6B-4B7E-90F2-BFA87DC66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7387-8C2B-463D-B986-5CCF0A067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F901-3722-4501-951A-60858DC9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8067-9BC2-40DA-8B13-6AA03450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5505-F932-49CE-B809-C07073C0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756E-44F1-42BC-81B3-EA1AFE18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C2F8-9865-4FF0-94E4-3032BF39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82F1-8866-48F3-8BC4-9811826B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F38D-CB98-44FD-BE3F-ED6C872D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706E-0838-4EF5-AD76-98CE393D19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D4B7-664B-4591-BC22-61A26D8833B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0" descr="1O_SCN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Экологическое воспитание.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временный ребено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ро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06 Дорожка 6.wma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5" descr="5570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Что такое Экология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147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В переводе с древнегреческого языка «экология» - это наука о доме, жилище («ойкос» -  дом, «логос» - наука). Возникнув еще в прошлом столетии как часть зоологии, экология определялась как наука о взаимоотношениях живых организмов с окружающей средой и друг с другом. Сейчас это направление называется биологической или классической экологие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По мере развития общества эта наука все больше приобретала социальное значение и в нашем столетии вышла за рамки естественных наук. В середине ХХ в. экология обрела широкую известность среди всех людей, независимо от их специальности. Она стала наукой, которая должна помочь людям выжить, сделать их среду обитания приемлемой для существования. К сожалению, общество осознало это, когда уже стали ощутимы отрицательные последствия потребительского отношения людей к природе, когда на планете практически не осталось уголков нетронутой природы, когда состояние среды обитания отрицательно сказалось на здоровье огромного количества людей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5" descr="SUMM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6840" y="333360"/>
            <a:ext cx="81471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ологические знания - это сведения о взаимосвязи конкретных растений и животных со средой обитания, об их приспособленности к ней. К знаниям экологического характера относятся и элементарные сведения об использовании людьми природных богатств, об охране природ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нания не самоцель в экологическом воспитании, но они необходимое условие выработки такого отношения к окружающему миру, которое носит эмоционально-действенный характер и выражается в форме познавательного интереса, гуманистических и эстетических переживаний, практической готовности созидать вокруг себя, бережно обращаться с вещами не только потому, что эта чей-то труд, но еще и потому, что затрачены материалы, взятые из приро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ущность экологии хорошо отражают «законы», сформулированные в популярной форме американским ученым Б. Коммонером: все связано со всем – все куда-нибудь девается – все что-нибудь да стоит – природа  знает лучше. Эти законы во многом определяют нашу жизнь, хотя мы об этом часто и не подозреваем. Любой человек сможет легко найти множество примеров из собственной жизни, своего окружения, подтверждающих перечисленные закон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ебенок и природ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1904760"/>
            <a:ext cx="52578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школьное детство - начальный этап становления человеческой личности. В этот период закладываются основы личностной культуры. Главная цель экологического воспитания ­формирование начал экологической культуры: правильного отношения ребенка к природе, его окружающей, к себе и людям как к части природы, к вещам и материалам природного происхождения, которыми он пользуется. Такое отношение строится на элементарных знаниях экологического характера. Эти знания помогают ребенку осмыслить, что рядом с ним находятся живые существа, к которым относится и человек, т. е. он с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14" descr="сканирование0005"/>
          <p:cNvPicPr/>
          <p:nvPr/>
        </p:nvPicPr>
        <p:blipFill>
          <a:blip r:embed="rId1"/>
          <a:stretch/>
        </p:blipFill>
        <p:spPr>
          <a:xfrm>
            <a:off x="6084720" y="1989000"/>
            <a:ext cx="2735280" cy="396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4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140"/>
                            </p:stCondLst>
                            <p:childTnLst>
                              <p:par>
                                <p:cTn id="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pereho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b0f0"/>
                </a:solidFill>
                <a:latin typeface="Arial"/>
              </a:rPr>
              <a:t>В наше время наблюдается процесс отчуждения ребенка от природы, которое проявляется в разных форм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b0f0"/>
                </a:solidFill>
                <a:latin typeface="Arial"/>
              </a:rPr>
              <a:t>Быстрый рост городов и, соответственно, численности городского населения привел к тому, что многие дети живут в практически искусственной среде, не имеют возможности общаться с природными объектами. Изо дня в день они видят серые монотонные здания, чувствуют под ногами асфальт, дышат выхлопными газами автомобилей, видят искусственные цветы дома и в детском саду, «воспитывают» электронных зверушек вместо собак и кош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b0f0"/>
                </a:solidFill>
                <a:latin typeface="Arial"/>
              </a:rPr>
              <a:t>Большинство детей представляют себе природу как что-то очень отвлеченное и отдаленное. «Природу», по их мнению, можно увидеть на даче, у бабушки в деревне, в лесу. Крайне редко дети отмечают парки, деревья, птиц в городе, хотя они находятся рядом с ними. Все это объясняется просто: никто не обратил внимание ребенка на то, что в городе вместе с людьми проживает большое количество разнообразных животных и растений, не предложил понаблюдать и пообщаться с ни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redwood_tre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476280"/>
            <a:ext cx="77662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ще одна проблема – замена реальной природы виртуальной. Ребенок все больше времени проводит за компьютерными играми, видеомагнитофоном, телевизором. В этом нет ничего плохого, однако, все хорошо в меру. Никакой, даже самый красивый видеофильм о природе не заменит живого общения с ней. Психологи отмечают, что в лесу, на лугу человек воспринимает природу комплексно: видит, слышит, чувствует запахи. Именно такое восприятие эффективно. При просмотре же видеофильма мы только пассивно смотри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бенок должен иметь возможность вдохнуть запах цветка, потрогать лист, кору, побегать босиком по траве, обнять дерево, самостоятельно открыть тайны природы. Общение с природой имеет не только познавательное, но и оздоровительное, релаксационное значен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временные городские дети нередко испытывают страх перед природой, для них она незнакомая и чужая. Но ведь экологическое образование – это, прежде всего, общение с природой, без этого невозможно воспитать человека, способного жить в гармонии с природой, бережно и эмоционально к ней относиться. Да и можно ли любить то, чего боишься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PINN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Принципы экологического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воспитания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нцип науч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принцип предполагает знакомство дошкольников с совокупностью элементарных экологических знаний, которые служат основой формирования мотивации действий ребенка, развития познавательного интереса, формирования основ его мировоззр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Принцип доступ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ение и воспитание ребенка осуществляется в доступной, привлекательной и соответствующей его возрасту форме: игры, наблюдения, чтение литературы, рисование, лепка, театрализованная деятельность и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Принцип гуманистич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 программы направлено на формирование человека с новой системой ценностей, воспринимающего природу как самоценный объект, а себя – как часть прир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Принцип прогностич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й принцип означает, чт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езультате экологического образования у детей формируются элементарные представления о существующих в природе взаимосвязях и на основе этих представлений – умение прогнозировать свои действия по отношению к окружающей среде во время отдыха, труда,  в природе и бытовых условия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360"/>
                            </p:stCondLst>
                            <p:childTnLst>
                              <p:par>
                                <p:cTn id="1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360"/>
                            </p:stCondLst>
                            <p:childTnLst>
                              <p:par>
                                <p:cTn id="1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360"/>
                            </p:stCondLst>
                            <p:childTnLst>
                              <p:par>
                                <p:cTn id="1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360"/>
                            </p:stCondLst>
                            <p:childTnLst>
                              <p:par>
                                <p:cTn id="1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Park2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497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c00"/>
                </a:solidFill>
                <a:latin typeface="Arial"/>
              </a:rPr>
              <a:t>5. Принцип деятель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cc00"/>
                </a:solidFill>
                <a:latin typeface="Arial"/>
              </a:rPr>
              <a:t>Экологические знания, которые ребенок усваивает в процессе обучения, становятся основой формирования мотивации его участия в различных посильных видах деятельности по сохранению окружающей сред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c00"/>
                </a:solidFill>
                <a:latin typeface="Arial"/>
              </a:rPr>
              <a:t>6. Принцип интегр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cc00"/>
                </a:solidFill>
                <a:latin typeface="Arial"/>
              </a:rPr>
              <a:t>Этот принцип проявляется в экологизации всей педагогической деятельности и различных видов деятельности дет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c00"/>
                </a:solidFill>
                <a:latin typeface="Arial"/>
              </a:rPr>
              <a:t>7. Принцип целост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cc00"/>
                </a:solidFill>
                <a:latin typeface="Arial"/>
              </a:rPr>
              <a:t>Отражает целостное восприятие окружающего мира ребенком и его единство с природо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c00"/>
                </a:solidFill>
                <a:latin typeface="Arial"/>
              </a:rPr>
              <a:t>8. Принцип конструктивизм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cc00"/>
                </a:solidFill>
                <a:latin typeface="Arial"/>
              </a:rPr>
              <a:t>Конструктивный подход означает, что в качестве примеров для дошкольников должна использоваться только нейтральная, положительная или отрицательно-положительная информац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c00"/>
                </a:solidFill>
                <a:latin typeface="Arial"/>
              </a:rPr>
              <a:t>9. Принцип регионализм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cc00"/>
                </a:solidFill>
                <a:latin typeface="Arial"/>
              </a:rPr>
              <a:t>Регионализм проявляется в том, что в качестве объектов для экологического образования предлагаются, прежде всего, объекты ближайшего окружения ребен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c00"/>
                </a:solidFill>
                <a:latin typeface="Arial"/>
              </a:rPr>
              <a:t>10. Принцип систем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cc00"/>
                </a:solidFill>
                <a:latin typeface="Arial"/>
              </a:rPr>
              <a:t>Материал, определенным образом упорядоченный в четкую целостную систему с простым принципом построения, легче усваивается, чем материал разрозненный, случайны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c00"/>
                </a:solidFill>
                <a:latin typeface="Arial"/>
              </a:rPr>
              <a:t>11. Принцип наглядного моделирова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cc00"/>
                </a:solidFill>
                <a:latin typeface="Arial"/>
              </a:rPr>
              <a:t>Использование модели помогает развивать у детей важнейшие операции мышл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c00"/>
                </a:solidFill>
                <a:latin typeface="Arial"/>
              </a:rPr>
              <a:t>12. Принцип преемствен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cc00"/>
                </a:solidFill>
                <a:latin typeface="Arial"/>
              </a:rPr>
              <a:t>Этот принцип предполагает, что дошкольное образование должно иметь тесную связь со всеми ступенями системы непрерывного образова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0"/>
                            </p:stCondLst>
                            <p:childTnLst>
                              <p:par>
                                <p:cTn id="2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6000"/>
                            </p:stCondLst>
                            <p:childTnLst>
                              <p:par>
                                <p:cTn id="2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12:25:08Z</dcterms:created>
  <dc:creator>Спартак</dc:creator>
  <dc:description/>
  <dc:language>en-US</dc:language>
  <cp:lastModifiedBy>Admin</cp:lastModifiedBy>
  <dcterms:modified xsi:type="dcterms:W3CDTF">2013-01-13T08:58:49Z</dcterms:modified>
  <cp:revision>7</cp:revision>
  <dc:subject/>
  <dc:title>Экологическое воспитание.</dc:title>
</cp:coreProperties>
</file>