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075-0FF9-43F9-A73C-8820A85A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23E-7BF7-4F70-85D9-C37E1A0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928-DBB0-489D-8436-10230E22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AE5-078F-4233-9A6C-394A1744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EF0B-5126-44B4-8662-46BCB524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9220-BB1E-4474-9B50-10C256BA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3769-C717-4FC1-9FD6-E26EA193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C26D-1B8B-41F2-A4CD-FC213D10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F15-3285-483B-8AE3-86AAC39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9D88-A4DD-4AEE-8C0F-9FCD8568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EAA-BBDD-4CBC-9D3D-11F5E42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8D4-0D9B-4F0D-A723-4185826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DAEC-D7F8-4883-A8C3-B1D394F6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2331-721F-472E-B6AD-5B9BBE98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7BAE-BB16-4629-9F0F-BCE7971F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E06C-F1D0-4707-A89C-78E5F6CA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5323-C1FB-4FE4-B0CF-94322670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C0C-C1A5-448E-A182-F0E2B592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E5D-7C9A-4F02-9535-128553E6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07C-326B-4223-93B6-BEFA2115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3DA-CF47-4066-9BB2-D87A78F3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304-F230-470C-89C5-57DD1B2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9D5-6CA8-4930-B12C-1DE57E7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FE8-6F11-47CE-8E1E-70B33468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59D0-9082-4CBE-B9A4-45A53DA64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CB6A-226E-4FD3-9249-3B8B8E84C5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0" descr="1O_SCN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Экологическое воспитани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ый ребе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06 Дорожка 6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5" descr="557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Что такое Эколог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14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переводе с древнегреческого языка «экология» - это наука о доме, жилище («ойкос» -  дом, «логос» - наука). Возникнув еще в прошлом столетии как часть зоологии, экология определялась как наука о взаимоотношениях живых организмов с окружающей средой и друг с другом. Сейчас это направление называется биологической или классической экологи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По мере развития общества эта наука все больше приобретала социальное значение и в нашем столетии вышла за рамки естественных наук. В середине ХХ в. экология обрела широкую известность среди всех людей, независимо от их специальности. Она стала наукой, которая должна помочь людям выжить, сделать их среду обитания приемлемой для существования. К сожалению, общество осознало это, когда уже стали ощутимы отрицательные последствия потребительского отношения людей к природе, когда на планете практически не осталось уголков нетронутой природы, когда состояние среды обитания отрицательно сказалось на здоровье огромного количества люде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SUMM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147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знания - это сведения о взаимосвязи конкретных растений и животных со средой обитания, об их приспособленности к ней. К знаниям экологического характера относятся и элементарные сведения об использовании людьми природных богатств, об охране прир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ния не самоцель в экологическом воспитании, но они необходимое условие выработки такого отношения к окружающему миру, которое носит эмоционально-действенный характер и выражается в форме познавательного интереса, гуманистических и эстетических переживаний, практической готовности созидать вокруг себя, бережно обращаться с вещами не только потому, что эта чей-то труд, но еще и потому, что затрачены материалы, взятые из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ность экологии хорошо отражают «законы», сформулированные в популярной форме американским ученым Б. Коммонером: все связано со всем – все куда-нибудь девается – все что-нибудь да стоит – природа  знает лучше. Эти законы во многом определяют нашу жизнь, хотя мы об этом часто и не подозреваем. Любой человек сможет легко найти множество примеров из собственной жизни, своего окружения, подтверждающих перечисленные зако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бенок и приро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5257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школьное детство - начальный этап становления человеческой личности. В этот период закладываются основы личностной культуры. Главная цель экологического воспитания ­формирование начал экологической культуры: правильного отношения ребенка к природе, его окружающей, к себе и людям как к части природы, к вещам и материалам природного происхождения, которыми он пользуется. Такое отношение строится на элементарных знаниях экологического характера. Эти знания помогают ребенку осмыслить, что рядом с ним находятся живые существа, к которым относится и человек, т. е. он 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4" descr="сканирование0005"/>
          <p:cNvPicPr/>
          <p:nvPr/>
        </p:nvPicPr>
        <p:blipFill>
          <a:blip r:embed="rId1"/>
          <a:stretch/>
        </p:blipFill>
        <p:spPr>
          <a:xfrm>
            <a:off x="6084720" y="1989000"/>
            <a:ext cx="273528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4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ereho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В наше время наблюдается процесс отчуждения ребенка от природы, которое проявляется в разных форм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Быстрый рост городов и, соответственно, численности городского населения привел к тому, что многие дети живут в практически искусственной среде, не имеют возможности общаться с природными объектами. Изо дня в день они видят серые монотонные здания, чувствуют под ногами асфальт, дышат выхлопными газами автомобилей, видят искусственные цветы дома и в детском саду, «воспитывают» электронных зверушек вместо собак и кош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Большинство детей представляют себе природу как что-то очень отвлеченное и отдаленное. «Природу», по их мнению, можно увидеть на даче, у бабушки в деревне, в лесу. Крайне редко дети отмечают парки, деревья, птиц в городе, хотя они находятся рядом с ними. Все это объясняется просто: никто не обратил внимание ребенка на то, что в городе вместе с людьми проживает большое количество разнообразных животных и растений, не предложил понаблюдать и пообщаться с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redwood_tr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77662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одна проблема – замена реальной природы виртуальной. Ребенок все больше времени проводит за компьютерными играми, видеомагнитофоном, телевизором. В этом нет ничего плохого, однако, все хорошо в меру. Никакой, даже самый красивый видеофильм о природе не заменит живого общения с ней. Психологи отмечают, что в лесу, на лугу человек воспринимает природу комплексно: видит, слышит, чувствует запахи. Именно такое восприятие эффективно. При просмотре же видеофильма мы только пассивно смотр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должен иметь возможность вдохнуть запах цветка, потрогать лист, кору, побегать босиком по траве, обнять дерево, самостоятельно открыть тайны природы. Общение с природой имеет не только познавательное, но и оздоровительное, релаксационное зна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ременные городские дети нередко испытывают страх перед природой, для них она незнакомая и чужая. Но ведь экологическое образование – это, прежде всего, общение с природой, без этого невозможно воспитать человека, способного жить в гармонии с природой, бережно и эмоционально к ней относиться. Да и можно ли любить то, чего боишьс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INN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инципы экологического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воспит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нау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инцип предполагает знакомство дошкольников с совокупностью элементарных экологических знаний, которые служат основой формирования мотивации действий ребенка, развития познавательного интереса, формирования основ его мировозз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ринцип доступ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и воспитание ребенка осуществляется в доступной, привлекательной и соответствующей его возрасту форме: игры, наблюдения, чтение литературы, рисование, лепка, театрализованная деятельность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инцип гуманист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программы направлено на формирование человека с новой системой ценностей, воспринимающего природу как самоценный объект, а себя – как часть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инцип прогност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принцип означает, чт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экологического образования у детей формируются элементарные представления о существующих в природе взаимосвязях и на основе этих представлений – умение прогнозировать свои действия по отношению к окружающей среде во время отдыха, труда,  в природе и бытовых услов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6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36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6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36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ark2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97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5. Принцип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Экологические знания, которые ребенок усваивает в процессе обучения, становятся основой формирования мотивации его участия в различных посильных видах деятельности по сохранению окружающей ср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6. Принцип интег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Этот принцип проявляется в экологизации всей педагогической деятельности и различных видов деятельности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7. Принцип целост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Отражает целостное восприятие окружающего мира ребенком и его единство с природ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8. Принцип конструктив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структивный подход означает, что в качестве примеров для дошкольников должна использоваться только нейтральная, положительная или отрицательно-положительная информа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9. Принцип регионал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Регионализм проявляется в том, что в качестве объектов для экологического образования предлагаются, прежде всего, объекты ближайшего окружения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10. Принцип систем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Материал, определенным образом упорядоченный в четкую целостную систему с простым принципом построения, легче усваивается, чем материал разрозненный, случай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11. Принцип наглядного моделир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Использование модели помогает развивать у детей важнейшие операции мыш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12. Принцип преемствен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Этот принцип предполагает, что дошкольное образование должно иметь тесную связь со всеми ступенями системы непрерывного 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2:25:08Z</dcterms:created>
  <dc:creator>Спартак</dc:creator>
  <dc:description/>
  <dc:language>en-US</dc:language>
  <cp:lastModifiedBy>Admin</cp:lastModifiedBy>
  <dcterms:modified xsi:type="dcterms:W3CDTF">2013-01-13T08:58:49Z</dcterms:modified>
  <cp:revision>7</cp:revision>
  <dc:subject/>
  <dc:title>Экологическое воспитание.</dc:title>
</cp:coreProperties>
</file>