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ED2-F338-42A7-B823-46330565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2A1-E918-47CE-B046-40A88747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9DD-CC3C-48E6-B809-85064601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630-EB9D-43E2-AFC1-92E35BCB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1D8-2095-4256-8A19-0D53CF3B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BA4-BE25-4FE0-9933-C032FD1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227-04F3-4FE1-9DDC-9C9499E7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DB9-2D0B-4DD2-B001-1301F08A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C9B-C184-49A9-9B08-CD9F62CE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B61-58FD-4F03-964F-E94DD90E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80B-8D78-493F-AF48-983753A5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5DD-B0E0-411C-86E1-6833489C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D536-50D0-418D-85CB-6579D5862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скиз и последовательность его выполн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черчения 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522936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тиш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 МОАУГ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34000" cy="4476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189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АНИЕ  (ста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4653000"/>
            <a:ext cx="62643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геометрической формы дет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ор главного ви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графического состава каждого в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параметров (габаритных размеров), их со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ор положения листа ученического фор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348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964720" cy="636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8964720" cy="635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8964720" cy="636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96472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79280" y="189000"/>
            <a:ext cx="8964720" cy="634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8964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4:21:10Z</dcterms:created>
  <dc:creator>Admin</dc:creator>
  <dc:description/>
  <dc:language>en-US</dc:language>
  <cp:lastModifiedBy>Admin</cp:lastModifiedBy>
  <dcterms:modified xsi:type="dcterms:W3CDTF">2013-01-13T10:59:27Z</dcterms:modified>
  <cp:revision>3</cp:revision>
  <dc:subject/>
  <dc:title>Эскиз и последовательность его выполнения </dc:title>
</cp:coreProperties>
</file>