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0E2-85BF-47E5-845F-9E97B0B7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B13-DB3F-46C5-8C94-D5DCCBD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769-68FC-46DA-8FA2-4A170311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B8F4-9D4F-41AD-9B9E-7575080A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CA9-9CB0-4D35-8B9E-CA9FB8F2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F1D-50C7-4E3A-A445-B9D46BF5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76E-C0A5-4964-AC3A-D3D5C52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88D-4659-4EC4-9E5F-E6D31ACF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45A-9B2E-4B88-B56A-BFDF56A4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887-43D2-4A82-AE84-D43D740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31E-E06E-4581-9085-77D02F0C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651-B8AF-4D82-A6DB-6256678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1DD0-66B3-4082-8200-2A4C2BB4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скиз и последовательность его выпол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черчения 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522936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йтишин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технологии МОАУГ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34000" cy="4476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189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Е  (ста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4653000"/>
            <a:ext cx="62643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геометрической формы де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главного ви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графического состава каждого 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параметров (габаритных размеров), их со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ор положения листа ученического фор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34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964720" cy="636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8964720" cy="635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964720" cy="6365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964720" cy="6324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9280" y="189000"/>
            <a:ext cx="8964720" cy="634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8964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4:21:10Z</dcterms:created>
  <dc:creator>Admin</dc:creator>
  <dc:description/>
  <dc:language>en-US</dc:language>
  <cp:lastModifiedBy>Admin</cp:lastModifiedBy>
  <dcterms:modified xsi:type="dcterms:W3CDTF">2013-01-13T10:59:27Z</dcterms:modified>
  <cp:revision>3</cp:revision>
  <dc:subject/>
  <dc:title>Эскиз и последовательность его выполнения </dc:title>
</cp:coreProperties>
</file>