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21.wmf" ContentType="image/x-wmf"/>
  <Override PartName="/ppt/media/image6.jpeg" ContentType="image/jpeg"/>
  <Override PartName="/ppt/media/image3.png" ContentType="image/png"/>
  <Override PartName="/ppt/media/image14.wmf" ContentType="image/x-wmf"/>
  <Override PartName="/ppt/media/image29.png" ContentType="image/png"/>
  <Override PartName="/ppt/media/image17.wmf" ContentType="image/x-wmf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973-F488-4651-AEDE-4E5E06E6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1B4-D183-407E-A6BD-21B4CAA9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333-7EF2-4727-9431-DF4D889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42-9F1F-4B2A-94A4-C6C8142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B92D-780E-4E97-9542-5D6E306E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A22-112F-4602-96A6-63562A7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961-C13A-4A8C-8F1E-C5A3627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107-A26B-49D0-815A-BF241D34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50CF-B75C-4F73-9C21-58E8B3B8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591D-0538-4E64-A9AC-4273488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AE6B-197B-4B4F-8F1A-FF4CEE5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D39-DC7B-4016-BED4-96FDA4C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739-4849-4025-B9E9-68FEEB6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D1BA-0052-4B19-91D5-1B65AD0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FA8-E015-4E88-B6A4-37CD8E88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2D5-7819-4A57-B25E-3BC1BCBC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FE86-5194-467C-B9C2-6FEFB18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D807-AFFC-44EB-8DA0-CECDD8E7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07B4-DB07-44DB-BABC-F927FF0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6D96-41D0-43B7-A39D-1940A46C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5278-A1D4-4F79-8901-B513D00F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AACB-0DB3-45AF-8F7F-06096F2C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344-B7E2-4832-B063-4F342FFB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9F4B-CE5F-481A-A2A2-56E851D5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51E6-11BB-414C-B88D-B039A06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1CE7-0CE8-4ED0-A004-8CE9309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3A0F-3A32-4D45-B957-54BA29E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8924-DCB5-479C-AB98-52677FC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FEB3-E5F2-46A1-A043-C82479C7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64C0-03BB-4BDB-926B-B8141697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ECB7-90BE-4615-A2C8-26FCC1A2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5F73-B0CE-45C1-919F-C5B19CC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26F9-164D-446F-B478-45F411A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54B-830A-402E-977B-1767D40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C4D7-04C0-4F29-8873-48CAD3F7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0C05-D211-4E2B-A379-2E0A68C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BF09-2DA1-4F12-A252-24B47A0A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DD85-E39B-4823-A27C-055AA8F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1D0D-3861-40D6-BAC2-F5099A3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8AF8-3A24-43DF-9072-BF8D839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D90A-7648-4C68-87CC-EFB8BBC9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A41E-C01A-48C3-A7B9-2C9C1CD9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1850-F2CA-498A-AAAF-C5BEC14C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A55-E11C-4DB0-B7C2-603D2C5E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7CD-9395-4A67-897D-1705790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2B1-A56E-420F-873B-39B81BA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41E-612C-4104-A1CE-1D17F23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A09-C653-457D-8778-D6BB492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C0E0-BF3D-459B-87E9-45C95FFB5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105-9F55-44E2-97E9-E5E45B7586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A839-9E83-493F-8946-FF8DA7B2F4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3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FC83-F1AB-4079-9649-CB9B518C10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ФОРМИРОВАНИЕ ТОЛЕРАНТНОСТИ В РАМКАХ ОБЛАСТНОЙ ЭКСПЕРИМЕНТАЛЬНОЙ ПЛОЩАДКИ </a:t>
            </a:r>
            <a:br>
              <a:rPr sz="3200"/>
            </a:br>
            <a:r>
              <a:rPr b="1" i="1" lang="ru-RU" sz="3200" spc="-1" strike="noStrike">
                <a:solidFill>
                  <a:srgbClr val="100785"/>
                </a:solidFill>
                <a:latin typeface="Blackadder ITC"/>
              </a:rPr>
              <a:t>«ШКОЛЬНАЯ МЕДИАЦИЯ КАК ОСНОВА ПОЗИТИВНОГО ВЗАИМОДЕЙСТВИЯ УЧАСТНИКОВ ОБРАЗОВАТЕЛЬНОГО ПРОЦЕССА»</a:t>
            </a: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                      педагог-психолог:</a:t>
            </a: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                      Нехлопочина О.В.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808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Результаты анкетирования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Роль конфликта в моей школьной жизни»</a:t>
            </a: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3" name="Текст 29"/>
          <p:cNvGraphicFramePr/>
          <p:nvPr/>
        </p:nvGraphicFramePr>
        <p:xfrm>
          <a:off x="250920" y="260280"/>
          <a:ext cx="8713800" cy="619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87138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Текст 29"/>
          <p:cNvGraphicFramePr/>
          <p:nvPr/>
        </p:nvGraphicFramePr>
        <p:xfrm>
          <a:off x="0" y="189000"/>
          <a:ext cx="91440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201600"/>
          <a:ext cx="777708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1600"/>
                    <a:ext cx="77770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9640" y="144360"/>
          <a:ext cx="7993080" cy="651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4360"/>
                    <a:ext cx="799308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Текст 29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7854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Текст 29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7138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Текст 29"/>
          <p:cNvGraphicFramePr/>
          <p:nvPr/>
        </p:nvGraphicFramePr>
        <p:xfrm>
          <a:off x="457200" y="0"/>
          <a:ext cx="822960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работка и внедрение психолого-педагогических технологий разрешения конфликтных ситуаций в образовательный процесс как условие гармоничного развития взаимоотношений участников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298440" y="404640"/>
            <a:ext cx="839484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Результаты диагностики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</a:t>
            </a: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Arial"/>
              </a:rPr>
              <a:t>Диагностика показателей и форм агрессии</a:t>
            </a:r>
            <a:br>
              <a:rPr sz="3600"/>
            </a:b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Arial"/>
              </a:rPr>
              <a:t> (А.Басса и А.Дарки)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Результаты диагностики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Arial"/>
              </a:rPr>
              <a:t>Стратегия поведения в конфликте (К.Томас)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»</a:t>
            </a: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842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Lucida Sans Unicode"/>
              </a:rPr>
              <a:t>Тест «Стратегия поведения в конфликте»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6000" y="1797120"/>
          <a:ext cx="6984720" cy="3998880"/>
        </p:xfrm>
        <a:graphic>
          <a:graphicData uri="http://schemas.openxmlformats.org/drawingml/2006/table">
            <a:tbl>
              <a:tblPr/>
              <a:tblGrid>
                <a:gridCol w="2328480"/>
                <a:gridCol w="2327760"/>
                <a:gridCol w="2328480"/>
              </a:tblGrid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Тест «Стратегия поведения в конфликте»</a:t>
            </a: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всем н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 балл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н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коре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3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4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полностью согласен - 5 баллов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Проведение теоретического анализа содержания понятия «медиация», методологических аспектов конфликтологии, психологических характеристик конфликтоустойчив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Выявление частоты возникновения и характера конфликтных ситуаций между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Исследование эмоционального отношения обучающихся к школе, к своим классным руководителям, наличия каких-либо неприятностей, связанных с обучением и посещением школы, возможных причин их возникнов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Исследование личностных характеристик обучающихся и педагогов, провоцирующих конфликтное поведение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Разработка и внедрение в практику новых методов и форм работы по профилактике бесконфликтного поведения и регулированию возникших конфликтных ситуа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Разработка учебно-методического комплекса по реализации метода школьной меди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6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62064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збегани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ффективно в условиях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трагиваемая проблема не столь важна для вас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ы чувствуете свою неправоту и правоту другого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ппонент имеет более высокий ранг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ы общаетесь со сложным собеседни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ам нужно выиграть врем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248200" cy="256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411280" y="4581360"/>
            <a:ext cx="14432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способление эффективно в условиях:</a:t>
            </a:r>
            <a:br>
              <a:rPr sz="2400"/>
            </a:b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вы чувствуете, что, немного уступая, вы теряете мало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надо смягчить ситуацию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вы понимаете, что итог намного важнее для другого, чем для вас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правота не на вашей сторон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искренне желание оказать поддержку оппонент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Соперничество эффективно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исход очень важен для вас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вы обладаете достаточным авторитетом и властью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когда вы находитесь в критической ситуации, которая требует быстрого, даже мгновенного реагирова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когда у вас нет иного выбор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вы точно уверены, что ваш вариант решения оптимален в данный момен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604000" y="5830560"/>
            <a:ext cx="82440" cy="176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76720" y="5373720"/>
            <a:ext cx="2520720" cy="12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020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ромисс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эффективен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у участников конфликта одинаковая власть и они имеют взаимоисключающие интерес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требуется быстрое или временное реш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другие подходы оказались неэффективны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компромисс позволяет сохранить взаимоотнош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24843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Сотрудничество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эффективно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решение проблемы очень важно для обеих сторон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у вас тесные и длительные взаимоотнош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у вас есть время поработать над проблем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обе стороны имеют одинаковую власть или хотят проигнорировать различия в обладании реальной властью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686440" y="6125760"/>
            <a:ext cx="206280" cy="111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338292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24000" y="1773360"/>
          <a:ext cx="8642160" cy="2643120"/>
        </p:xfrm>
        <a:graphic>
          <a:graphicData uri="http://schemas.openxmlformats.org/drawingml/2006/table">
            <a:tbl>
              <a:tblPr/>
              <a:tblGrid>
                <a:gridCol w="4986360"/>
                <a:gridCol w="365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Проигрыш - про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Выигрыш - про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ерн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Проигрыш - вы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способ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0 / 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Компроми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Выигрыш - вы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Сотрудн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900000" y="549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ратегии поведения в конфлик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0785"/>
                </a:solidFill>
                <a:latin typeface="Arial"/>
              </a:rPr>
              <a:t>Обучающий семинар педагогов-психологов, социальных педагогов и учителей  в рамках экспериментальной площадки по медиации  (январь 2010г.)</a:t>
            </a:r>
            <a:endParaRPr b="1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53" name="Текст 29" descr=""/>
          <p:cNvPicPr/>
          <p:nvPr/>
        </p:nvPicPr>
        <p:blipFill>
          <a:blip r:embed="rId1"/>
          <a:stretch/>
        </p:blipFill>
        <p:spPr>
          <a:xfrm>
            <a:off x="836640" y="148104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54" name="Текст 29" descr=""/>
          <p:cNvPicPr/>
          <p:nvPr/>
        </p:nvPicPr>
        <p:blipFill>
          <a:blip r:embed="rId2"/>
          <a:stretch/>
        </p:blipFill>
        <p:spPr>
          <a:xfrm>
            <a:off x="5027760" y="148104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5200" y="381960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5025960" y="381960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2858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Гипотеза: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Внедрение в образовательный процесс инновационных форм и методов разрешения конфликтных ситуаций позволит сформировать позитивное межличностное отношение и взаимодействие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ъект исследования: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индивидуально-психологические особенности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учащихся образовательных учреждений среднего и старшего звена, вызывающие конфликтные ситу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едмет исследован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школьная медиация как новая форма организации гармоничных взаимоотношений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роки экспериментального исслед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Начало – июнь 2008 г.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Окончание – декабрь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вый этап. Организационно-методический (июнь – октябрь 2008)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дготовка документации по ведению экспериментальной площадки;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должностных инструкций участников эксперимента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экспериментальной работы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поэтапное планирование экспериментальной деятельности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и подбор диагностических методик, их систематизация и апробация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 разработка элективного курса по конфликтологии для учащихся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повышения квалификации для педагогов «Психологические основы позитивного взаимодействия»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создание материально-технической базы эксперимента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семинаров по конфликтологии для педагогов и родителей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пилотажное исследование с целью выбора диагностических методов и методик для изучения психологических критериев конфликтности и их проявления в поведени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" name="Rectangle 2" descr=""/>
          <p:cNvPicPr/>
          <p:nvPr/>
        </p:nvPicPr>
        <p:blipFill>
          <a:blip r:embed="rId2"/>
          <a:stretch/>
        </p:blipFill>
        <p:spPr>
          <a:xfrm>
            <a:off x="255600" y="146160"/>
            <a:ext cx="843768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Второй этап. Диагностический (октябрь 2008 – январь 2009):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иагностика психологического климата школьной среды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мониторинг психологического взаимодействия педагогов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выявление факторов, способствующих возникновению конфликтных ситуаций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изучение конфликтности на трех уровнях: эмоциональном, когнитивном, поведенческом у участников экспериментальной групп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Методы исследования индивидуально-психологических особенностей  обучающихся, провоцирующих конфликтное поведение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. Метод теоретического анали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2. Наблюдени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3. Бесе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4. Экспериментальный метод (констатирующий, формирующий и контрольный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5. Методики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Анкета «Роль конфликта в моей школьной жизни» по выявлению конфликтных ситуаций для школьников, состоящая из 12 вопросов (разработана на кафедре психологии развития и коррекции личности ЛИРО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диагностики предрасположенности личности к конфликтному поведению К. Томас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диагностики показателей и форм агрессии А. Басса и А. Дарк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«Шкала реактивной и личностной тревожности Ч.Д. Спилбергера - Ю.Л. Ханина»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Экспресс-опросник «Индекс толерантности» Г.У. Солдатовой, О.А.Кравцовой, О.Е. Хухлаева, Л.А. Шайгеровой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Третий эта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азработка программы учебного курса для подростков «Медиация или как построить мир без конфликтов», в задачу которого входило ознакомление обучающихся с основными принципами современной конфликтологии, с концепцией культуры мира и толерантных отношений, ориентированных на взаимопонимание и мирное урегулирование конфлик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Четвертый этап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(с января 2009г – п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юнь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2010г) провед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формирующего эксперимента с внедрением в практику процедуры медиац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нгов бесконфликтного поведения, семинаров по обучению навыкам мирного разрешения конфликтов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мастерской психологического консультирования, проектной деятельности классного руководителя  и учебного курса для 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«Медиация или как построить мир без конфликтов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Пятый этап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– (с сентября 2010г. – по декабрь 2010г.)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итоговая</a:t>
            </a: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 диагностика конфликтности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на трёх уровнях: эмоциональном, когнитивном, поведенческом; количественный и качественный анализ эксперимента; отражение результатов экспериментальной работы в публикациях, выступлениях, отчётах; обобщение и распространение полученного опыта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000" spc="-1" strike="noStrike" u="sng">
                <a:solidFill>
                  <a:srgbClr val="da1f28"/>
                </a:solidFill>
                <a:uFillTx/>
                <a:latin typeface="Lucida Sans Unicode"/>
              </a:rPr>
              <a:t>Учебно-тематический план курса</a:t>
            </a:r>
            <a:br>
              <a:rPr sz="2000"/>
            </a:br>
            <a:r>
              <a:rPr b="1" lang="ru-RU" sz="2000" spc="-1" strike="noStrike" u="sng">
                <a:solidFill>
                  <a:srgbClr val="da1f28"/>
                </a:solidFill>
                <a:uFillTx/>
                <a:latin typeface="Lucida Sans Unicode"/>
              </a:rPr>
              <a:t>2009-2010 уч.г.</a:t>
            </a:r>
            <a:br>
              <a:rPr sz="20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1. 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Навыки общения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     </a:t>
            </a: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Общение. Структура и средства общения. Невербальные средства общения. Речевые средства общения. Стили общения. Этикет.</a:t>
            </a: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2. 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Конфликты и пути их разрешения.</a:t>
            </a: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Конфликт. Причины конфликтов. Виды, типы и последствия конфликтов. Структурные элементы конфликта. Стили поведения в конфликте. Процесс развития конфликта. Психологические защиты. Психологические защиты (продолжение). Истинные цели агрессии. Предотвращение конфликта. Правила поведения и общения в конфликтной ситуации.</a:t>
            </a: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    </a:t>
            </a:r>
            <a:br>
              <a:rPr sz="1800"/>
            </a:b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3. Медиация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Медиация. Как стать школьным медиатором? Медиаторы-ровесники и медиаторы-наставники – кто они? «Ура, медиации!» или как построить мир без ссор.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Итого: лекции-18ч.; практических занятий-16ч.</a:t>
            </a:r>
            <a:endParaRPr b="1" lang="en-US" sz="1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8:45:52Z</dcterms:created>
  <dc:creator>user</dc:creator>
  <dc:description/>
  <dc:language>en-US</dc:language>
  <cp:lastModifiedBy>дом</cp:lastModifiedBy>
  <dcterms:modified xsi:type="dcterms:W3CDTF">2012-09-10T15:25:35Z</dcterms:modified>
  <cp:revision>64</cp:revision>
  <dc:subject/>
  <dc:title>Психолого-педагогическое сопровождение и диагностика обучающихся как факторы  саморазвития и самоопределения личности по программе –инициативе  «Наша новая школа»</dc:title>
</cp:coreProperties>
</file>