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6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2.wmf" ContentType="image/x-wmf"/>
  <Override PartName="/ppt/media/image15.wmf" ContentType="image/x-wmf"/>
  <Override PartName="/ppt/media/image7.png" ContentType="image/png"/>
  <Override PartName="/ppt/media/image34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21.wmf" ContentType="image/x-wmf"/>
  <Override PartName="/ppt/media/image6.jpeg" ContentType="image/jpeg"/>
  <Override PartName="/ppt/media/image3.png" ContentType="image/png"/>
  <Override PartName="/ppt/media/image14.wmf" ContentType="image/x-wmf"/>
  <Override PartName="/ppt/media/image29.png" ContentType="image/png"/>
  <Override PartName="/ppt/media/image17.wmf" ContentType="image/x-wmf"/>
  <Override PartName="/ppt/media/image36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1F8-C83A-46AE-91C5-3EFEFECF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9DD-0985-4109-A68B-96AAC5F5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5BE-49A4-4850-A856-25534585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DB2-2157-490B-ACF4-AC6E9C21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45CC-436E-4AE0-952F-FAF27D74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CA33-743E-4947-A762-8BA7AD7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5781-D204-4701-845D-188F17E3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F1BC-4EB5-4E0B-A343-608D8A4A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00B6-5ABA-4423-ABA7-B86295EF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FE8A-19F6-46CB-9216-D7F006E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C35F-62F9-4A55-AD15-8234B88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978-9AF7-417A-8352-7C8D8125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A26A-22B8-4CC2-BAE7-4BF3416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AA82-5857-4EE0-BABF-64FE14BE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1BAB-F548-46F6-9435-43FF9923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FF21-A1EC-48A7-B809-ED2321D2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1187-A10C-4ECE-8E71-8FB0E7BC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4E13-9539-45E7-978D-D8CCF839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D65E8-FFDA-4942-ADD8-F6A7D731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B652-768C-4DAA-BDC2-C2A26C3E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55B0-7552-4B41-BCE4-4C50150E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0CB4-4013-4FF8-A36E-03E4FC2C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D60-FD17-4B29-809C-8BE18AB4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C1DC-93FF-4CFD-80BC-3BF8FD4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B5C51-DF13-4349-9887-1E615E74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9D77-EE22-425A-B1C5-E175D57F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A5BA-57DE-4969-883D-088AFAE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5ADD-187F-4545-A84E-6B1E22A3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9235-0463-4FB7-9561-81906F00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503E-611F-4CA0-9A16-78C7CB03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3F676-9037-4D26-9E51-CD21AAA1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DA41-D706-45E0-B2DE-D9136D79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60FB-A974-4E9C-BC62-2264B8F2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D61-B153-4665-A9B9-0656AF53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D3DF-A809-4F00-B383-89949D79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8CBA-9078-4BDF-94D5-8A203336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10674-48C4-48CA-AFF9-77042D19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7680-F17E-4237-B732-EE0A373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ECF7F-9620-4D0B-A7EB-B03620D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83580-B0B8-48F3-8CB3-35BB3A8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7478-F7B8-4B3D-872D-FD7E853E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3160-3D28-4C48-A20C-704CAD64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A3DF4-0FF9-4C1A-837B-F65E33AD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BBB-D29D-4650-8D82-41B6D7E2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1AE-FDF0-4EF7-AFB8-9C2C8151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C89-8B9C-42D5-8B3D-0E14961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517-54C4-40FC-9EAF-E31B811A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F12-EA64-431B-996B-20037D78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F5C4-FC1F-4B9E-BA98-D5F5F0CC22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4F5D-CC99-46DF-A8C1-E7827E23F8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2FB3-B3A7-4437-86ED-FD1A3BAE9E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3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74B5-D2FE-4778-9C85-6C7A727138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ФОРМИРОВАНИЕ ТОЛЕРАНТНОСТИ В РАМКАХ ОБЛАСТНОЙ ЭКСПЕРИМЕНТАЛЬНОЙ ПЛОЩАДКИ </a:t>
            </a:r>
            <a:br>
              <a:rPr sz="3200"/>
            </a:br>
            <a:r>
              <a:rPr b="1" i="1" lang="ru-RU" sz="3200" spc="-1" strike="noStrike">
                <a:solidFill>
                  <a:srgbClr val="100785"/>
                </a:solidFill>
                <a:latin typeface="Blackadder ITC"/>
              </a:rPr>
              <a:t>«ШКОЛЬНАЯ МЕДИАЦИЯ КАК ОСНОВА ПОЗИТИВНОГО ВЗАИМОДЕЙСТВИЯ УЧАСТНИКОВ ОБРАЗОВАТЕЛЬНОГО ПРОЦЕССА»</a:t>
            </a:r>
            <a:br>
              <a:rPr sz="3200"/>
            </a:b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                      педагог-психолог:</a:t>
            </a:r>
            <a:br>
              <a:rPr sz="3200"/>
            </a:br>
            <a:r>
              <a:rPr b="1" lang="ru-RU" sz="3200" spc="-1" strike="noStrike">
                <a:solidFill>
                  <a:srgbClr val="464646"/>
                </a:solidFill>
                <a:latin typeface="Arial"/>
              </a:rPr>
              <a:t>                       Нехлопочина О.В.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808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Результаты анкетирования обучающихся на втором и на пятом этапе экспериментального исследования</a:t>
            </a: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3600" spc="-1" strike="noStrike" u="sng">
                <a:solidFill>
                  <a:srgbClr val="100785"/>
                </a:solidFill>
                <a:uFillTx/>
                <a:latin typeface="Lucida Sans Unicode"/>
              </a:rPr>
              <a:t>«Роль конфликта в моей школьной жизни»</a:t>
            </a: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3" name="Текст 29"/>
          <p:cNvGraphicFramePr/>
          <p:nvPr/>
        </p:nvGraphicFramePr>
        <p:xfrm>
          <a:off x="250920" y="260280"/>
          <a:ext cx="8713800" cy="619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8713800" cy="61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Текст 29"/>
          <p:cNvGraphicFramePr/>
          <p:nvPr/>
        </p:nvGraphicFramePr>
        <p:xfrm>
          <a:off x="0" y="189000"/>
          <a:ext cx="914400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0" y="6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5640" y="201600"/>
          <a:ext cx="777708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1600"/>
                    <a:ext cx="777708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9640" y="144360"/>
          <a:ext cx="7993080" cy="651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4360"/>
                    <a:ext cx="799308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Текст 29"/>
          <p:cNvGraphicFramePr/>
          <p:nvPr/>
        </p:nvGraphicFramePr>
        <p:xfrm>
          <a:off x="179280" y="189000"/>
          <a:ext cx="878544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78544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Текст 29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87138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Текст 29"/>
          <p:cNvGraphicFramePr/>
          <p:nvPr/>
        </p:nvGraphicFramePr>
        <p:xfrm>
          <a:off x="457200" y="0"/>
          <a:ext cx="8229600" cy="666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зработка и внедрение психолого-педагогических технологий разрешения конфликтных ситуаций в образовательный процесс как условие гармоничного развития взаимоотношений участников образовательного процесс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1" name="Rectangle 2" descr=""/>
          <p:cNvPicPr/>
          <p:nvPr/>
        </p:nvPicPr>
        <p:blipFill>
          <a:blip r:embed="rId1"/>
          <a:stretch/>
        </p:blipFill>
        <p:spPr>
          <a:xfrm>
            <a:off x="298440" y="404640"/>
            <a:ext cx="8394840" cy="22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Результаты диагностики обучающихся на втором и на пятом этапе экспериментального исследования</a:t>
            </a:r>
            <a:br>
              <a:rPr sz="3700"/>
            </a:br>
            <a:r>
              <a:rPr b="1" lang="ru-RU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ru-RU" sz="3600" spc="-1" strike="noStrike" u="sng">
                <a:solidFill>
                  <a:srgbClr val="100785"/>
                </a:solidFill>
                <a:uFillTx/>
                <a:latin typeface="Lucida Sans Unicode"/>
              </a:rPr>
              <a:t>«</a:t>
            </a:r>
            <a:r>
              <a:rPr b="1" i="1" lang="ru-RU" sz="3600" spc="-1" strike="noStrike" u="sng">
                <a:solidFill>
                  <a:srgbClr val="100785"/>
                </a:solidFill>
                <a:uFillTx/>
                <a:latin typeface="Arial"/>
              </a:rPr>
              <a:t>Диагностика показателей и форм агрессии</a:t>
            </a:r>
            <a:br>
              <a:rPr sz="3600"/>
            </a:br>
            <a:r>
              <a:rPr b="1" i="1" lang="ru-RU" sz="3600" spc="-1" strike="noStrike" u="sng">
                <a:solidFill>
                  <a:srgbClr val="100785"/>
                </a:solidFill>
                <a:uFillTx/>
                <a:latin typeface="Arial"/>
              </a:rPr>
              <a:t> (А.Басса и А.Дарки)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Результаты диагностики обучающихся на втором и на пятом этапе экспериментального исследования</a:t>
            </a:r>
            <a:br>
              <a:rPr sz="3700"/>
            </a:b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3600" spc="-1" strike="noStrike" u="sng">
                <a:solidFill>
                  <a:srgbClr val="100785"/>
                </a:solidFill>
                <a:uFillTx/>
                <a:latin typeface="Lucida Sans Unicode"/>
              </a:rPr>
              <a:t>«</a:t>
            </a:r>
            <a:r>
              <a:rPr b="1" i="1" lang="en-US" sz="3600" spc="-1" strike="noStrike" u="sng">
                <a:solidFill>
                  <a:srgbClr val="100785"/>
                </a:solidFill>
                <a:uFillTx/>
                <a:latin typeface="Arial"/>
              </a:rPr>
              <a:t>Стратегия поведения в конфликте (К.Томас)</a:t>
            </a:r>
            <a:r>
              <a:rPr b="1" i="1" lang="en-US" sz="3600" spc="-1" strike="noStrike" u="sng">
                <a:solidFill>
                  <a:srgbClr val="100785"/>
                </a:solidFill>
                <a:uFillTx/>
                <a:latin typeface="Lucida Sans Unicode"/>
              </a:rPr>
              <a:t>»</a:t>
            </a: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Текст 2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8421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Lucida Sans Unicode"/>
              </a:rPr>
              <a:t>Тест «Стратегия поведения в конфликте»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6000" y="1797120"/>
          <a:ext cx="6984720" cy="3998880"/>
        </p:xfrm>
        <a:graphic>
          <a:graphicData uri="http://schemas.openxmlformats.org/drawingml/2006/table">
            <a:tbl>
              <a:tblPr/>
              <a:tblGrid>
                <a:gridCol w="2328480"/>
                <a:gridCol w="2327760"/>
                <a:gridCol w="2328480"/>
              </a:tblGrid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3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4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Тест «Стратегия поведения в конфликте»</a:t>
            </a: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овсем не согласен -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1 балл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не согласен -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2 балл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корее согласен -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3 балл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согласен -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4 балл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полностью согласен - 5 баллов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Проведение теоретического анализа содержания понятия «медиация», методологических аспектов конфликтологии, психологических характеристик конфликтоустойчив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Выявление частоты возникновения и характера конфликтных ситуаций между участниками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Исследование эмоционального отношения обучающихся к школе, к своим классным руководителям, наличия каких-либо неприятностей, связанных с обучением и посещением школы, возможных причин их возникнов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Исследование личностных характеристик обучающихся и педагогов, провоцирующих конфликтное поведение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Разработка и внедрение в практику новых методов и форм работы по профилактике бесконфликтного поведения и регулированию возникших конфликтных ситуаций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566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Lucida Sans Unicode"/>
              </a:rPr>
              <a:t>Разработка учебно-методического комплекса по реализации метода школьной медиац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61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4000" y="620640"/>
            <a:ext cx="835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збегани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эффективно в условиях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затрагиваемая проблема не столь важна для вас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ы чувствуете свою неправоту и правоту другого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оппонент имеет более высокий ранг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ы общаетесь со сложным собеседнико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вам нужно выиграть врем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2248200" cy="2568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411280" y="4581360"/>
            <a:ext cx="14432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способление эффективно в условиях:</a:t>
            </a:r>
            <a:br>
              <a:rPr sz="2400"/>
            </a:b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вы чувствуете, что, немного уступая, вы теряете мало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надо смягчить ситуацию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вы понимаете, что итог намного важнее для другого, чем для вас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правота не на вашей сторон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искренне желание оказать поддержку оппонент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Соперничество эффективно в условиях:</a:t>
            </a:r>
            <a:br>
              <a:rPr sz="2900"/>
            </a:b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42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исход очень важен для вас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вы обладаете достаточным авторитетом и властью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когда вы находитесь в критической ситуации, которая требует быстрого, даже мгновенного реагирования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когда у вас нет иного выбор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вы точно уверены, что ваш вариант решения оптимален в данный момент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604000" y="5830560"/>
            <a:ext cx="82440" cy="176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276720" y="5373720"/>
            <a:ext cx="2520720" cy="12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020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ромисс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эффективен в условиях:</a:t>
            </a:r>
            <a:br>
              <a:rPr sz="2900"/>
            </a:b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у участников конфликта одинаковая власть и они имеют взаимоисключающие интерес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требуется быстрое или временное решение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другие подходы оказались неэффективным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когда компромисс позволяет сохранить взаимоотнош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300720" y="4076640"/>
            <a:ext cx="24843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Сотрудничество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Lucida Sans Unicode"/>
              </a:rPr>
              <a:t>эффективно в условиях:</a:t>
            </a:r>
            <a:br>
              <a:rPr sz="2900"/>
            </a:br>
            <a:endParaRPr b="1" lang="en-US" sz="29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решение проблемы очень важно для обеих сторон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у вас тесные и длительные взаимоотношения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у вас есть время поработать над проблемой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обе стороны имеют одинаковую власть или хотят проигнорировать различия в обладании реальной властью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686440" y="6125760"/>
            <a:ext cx="206280" cy="111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3382920" cy="23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569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324000" y="1773360"/>
          <a:ext cx="8642160" cy="2643120"/>
        </p:xfrm>
        <a:graphic>
          <a:graphicData uri="http://schemas.openxmlformats.org/drawingml/2006/table">
            <a:tbl>
              <a:tblPr/>
              <a:tblGrid>
                <a:gridCol w="4986360"/>
                <a:gridCol w="365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Проигрыш - проигры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бег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Выигрыш - проигры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перн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Проигрыш - выигры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способ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50 / 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Компроми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Выигрыш - выигры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  <a:ea typeface="Times New Roman"/>
                        </a:rPr>
                        <a:t>Сотрудни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900000" y="5493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ратегии поведения в конфлик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00785"/>
                </a:solidFill>
                <a:latin typeface="Arial"/>
              </a:rPr>
              <a:t>Обучающий семинар педагогов-психологов, социальных педагогов и учителей  в рамках экспериментальной площадки по медиации  (январь 2010г.)</a:t>
            </a:r>
            <a:endParaRPr b="1" lang="en-US" sz="20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53" name="Текст 29" descr=""/>
          <p:cNvPicPr/>
          <p:nvPr/>
        </p:nvPicPr>
        <p:blipFill>
          <a:blip r:embed="rId1"/>
          <a:stretch/>
        </p:blipFill>
        <p:spPr>
          <a:xfrm>
            <a:off x="836640" y="148104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254" name="Текст 29" descr=""/>
          <p:cNvPicPr/>
          <p:nvPr/>
        </p:nvPicPr>
        <p:blipFill>
          <a:blip r:embed="rId2"/>
          <a:stretch/>
        </p:blipFill>
        <p:spPr>
          <a:xfrm>
            <a:off x="5027760" y="148104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835200" y="381960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5025960" y="381960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2858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Гипотеза: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Внедрение в образовательный процесс инновационных форм и методов разрешения конфликтных ситуаций позволит сформировать позитивное межличностное отношение и взаимодействие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Объект исследования: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индивидуально-психологические особенности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учащихся образовательных учреждений среднего и старшего звена, вызывающие конфликтные ситуац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Предмет исследования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школьная медиация как новая форма организации гармоничных взаимоотношений участников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роки экспериментального исследовани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Начало – июнь 2008 г.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Окончание – декабрь 201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вый этап. Организационно-методический (июнь – октябрь 2008)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подготовка документации по ведению экспериментальной площадки;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должностных инструкций участников эксперимента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программы экспериментальной работы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поэтапное планирование экспериментальной деятельности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и подбор диагностических методик, их систематизация и апробация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 разработка элективного курса по конфликтологии для учащихся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программы повышения квалификации для педагогов «Психологические основы позитивного взаимодействия»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создание материально-технической базы эксперимента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разработка программы семинаров по конфликтологии для педагогов и родителей;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- пилотажное исследование с целью выбора диагностических методов и методик для изучения психологических критериев конфликтности и их проявления в поведени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6" name="Rectangle 2" descr=""/>
          <p:cNvPicPr/>
          <p:nvPr/>
        </p:nvPicPr>
        <p:blipFill>
          <a:blip r:embed="rId2"/>
          <a:stretch/>
        </p:blipFill>
        <p:spPr>
          <a:xfrm>
            <a:off x="255600" y="146160"/>
            <a:ext cx="843768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Второй этап. Диагностический (октябрь 2008 – январь 2009):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диагностика психологического климата школьной среды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 мониторинг психологического взаимодействия педагогов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 выявление факторов, способствующих возникновению конфликтных ситуаций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- изучение конфликтности на трех уровнях: эмоциональном, когнитивном, поведенческом у участников экспериментальной группы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Методы исследования индивидуально-психологических особенностей  обучающихся, провоцирующих конфликтное поведение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1. Метод теоретического анализ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2. Наблюдение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3. Бесед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4. Экспериментальный метод (констатирующий, формирующий и контрольный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5. Методики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Анкета «Роль конфликта в моей школьной жизни» по выявлению конфликтных ситуаций для школьников, состоящая из 12 вопросов (разработана на кафедре психологии развития и коррекции личности ЛИРО)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Методика диагностики предрасположенности личности к конфликтному поведению К. Томаса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Методика диагностики показателей и форм агрессии А. Басса и А. Дарки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Методика «Шкала реактивной и личностной тревожности Ч.Д. Спилбергера - Ю.Л. Ханина»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ucida Sans Unicode"/>
              </a:rPr>
              <a:t>Экспресс-опросник «Индекс толерантности» Г.У. Солдатовой, О.А.Кравцовой, О.Е. Хухлаева, Л.А. Шайгеровой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Третий этап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азработка программы учебного курса для подростков «Медиация или как построить мир без конфликтов», в задачу которого входило ознакомление обучающихся с основными принципами современной конфликтологии, с концепцией культуры мира и толерантных отношений, ориентированных на взаимопонимание и мирное урегулирование конфликт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Четвертый этап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(с января 2009г – п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юнь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2010г) провед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 формирующего эксперимента с внедрением в практику процедуры медиаци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нингов бесконфликтного поведения, семинаров по обучению навыкам мирного разрешения конфликтов,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мастерской психологического консультирования, проектной деятельности классного руководителя  и учебного курса для подростков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«Медиация или как построить мир без конфликтов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464646"/>
                </a:solidFill>
                <a:uFillTx/>
                <a:latin typeface="Arial"/>
              </a:rPr>
              <a:t>Пятый этап 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– (с сентября 2010г. – по декабрь 2010г.) </a:t>
            </a:r>
            <a:br>
              <a:rPr sz="2400"/>
            </a:b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итоговая</a:t>
            </a:r>
            <a:r>
              <a:rPr b="1" lang="en-US" sz="2400" spc="-1" strike="noStrike" u="sng">
                <a:solidFill>
                  <a:srgbClr val="464646"/>
                </a:solidFill>
                <a:uFillTx/>
                <a:latin typeface="Arial"/>
              </a:rPr>
              <a:t> диагностика конфликтности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</a:rPr>
              <a:t> на трёх уровнях: эмоциональном, когнитивном, поведенческом; количественный и качественный анализ эксперимента; отражение результатов экспериментальной работы в публикациях, выступлениях, отчётах; обобщение и распространение полученного опыта</a:t>
            </a:r>
            <a:endParaRPr b="1" lang="en-US" sz="24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2000" spc="-1" strike="noStrike" u="sng">
                <a:solidFill>
                  <a:srgbClr val="da1f28"/>
                </a:solidFill>
                <a:uFillTx/>
                <a:latin typeface="Lucida Sans Unicode"/>
              </a:rPr>
              <a:t>Учебно-тематический план курса</a:t>
            </a:r>
            <a:br>
              <a:rPr sz="2000"/>
            </a:br>
            <a:r>
              <a:rPr b="1" lang="ru-RU" sz="2000" spc="-1" strike="noStrike" u="sng">
                <a:solidFill>
                  <a:srgbClr val="da1f28"/>
                </a:solidFill>
                <a:uFillTx/>
                <a:latin typeface="Lucida Sans Unicode"/>
              </a:rPr>
              <a:t>2009-2010 уч.г.</a:t>
            </a:r>
            <a:br>
              <a:rPr sz="2000"/>
            </a:b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  </a:t>
            </a:r>
            <a:r>
              <a:rPr b="1" i="1" lang="ru-RU" sz="1800" spc="-1" strike="noStrike">
                <a:solidFill>
                  <a:srgbClr val="ff3300"/>
                </a:solidFill>
                <a:latin typeface="Lucida Sans Unicode"/>
              </a:rPr>
              <a:t>Модуль 1. </a:t>
            </a:r>
            <a:r>
              <a:rPr b="1" lang="ru-RU" sz="1800" spc="-1" strike="noStrike">
                <a:solidFill>
                  <a:srgbClr val="ff3300"/>
                </a:solidFill>
                <a:latin typeface="Lucida Sans Unicode"/>
              </a:rPr>
              <a:t>Навыки общения. </a:t>
            </a:r>
            <a:br>
              <a:rPr sz="1800"/>
            </a:br>
            <a:r>
              <a:rPr b="1" lang="ru-RU" sz="1800" spc="-1" strike="noStrike">
                <a:solidFill>
                  <a:srgbClr val="ff3300"/>
                </a:solidFill>
                <a:latin typeface="Lucida Sans Unicode"/>
              </a:rPr>
              <a:t>     </a:t>
            </a: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Общение. Структура и средства общения. Невербальные средства общения. Речевые средства общения. Стили общения. Этикет.</a:t>
            </a: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br>
              <a:rPr sz="1800"/>
            </a:b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          </a:t>
            </a:r>
            <a:br>
              <a:rPr sz="1800"/>
            </a:b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Lucida Sans Unicode"/>
              </a:rPr>
              <a:t>Модуль 2. </a:t>
            </a:r>
            <a:r>
              <a:rPr b="1" lang="ru-RU" sz="1800" spc="-1" strike="noStrike">
                <a:solidFill>
                  <a:srgbClr val="ff3300"/>
                </a:solidFill>
                <a:latin typeface="Lucida Sans Unicode"/>
              </a:rPr>
              <a:t>Конфликты и пути их разрешения.</a:t>
            </a: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Конфликт. Причины конфликтов. Виды, типы и последствия конфликтов. Структурные элементы конфликта. Стили поведения в конфликте. Процесс развития конфликта. Психологические защиты. Психологические защиты (продолжение). Истинные цели агрессии. Предотвращение конфликта. Правила поведения и общения в конфликтной ситуации.</a:t>
            </a: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    </a:t>
            </a:r>
            <a:br>
              <a:rPr sz="1800"/>
            </a:br>
            <a:r>
              <a:rPr b="1" i="1" lang="ru-RU" sz="1800" spc="-1" strike="noStrike">
                <a:solidFill>
                  <a:srgbClr val="464646"/>
                </a:solidFill>
                <a:latin typeface="Lucida Sans Unicode"/>
              </a:rPr>
              <a:t>          </a:t>
            </a:r>
            <a:br>
              <a:rPr sz="1800"/>
            </a:br>
            <a:r>
              <a:rPr b="1" i="1" lang="ru-RU" sz="1800" spc="-1" strike="noStrike">
                <a:solidFill>
                  <a:srgbClr val="ff3300"/>
                </a:solidFill>
                <a:latin typeface="Lucida Sans Unicode"/>
              </a:rPr>
              <a:t>Модуль 3. Медиация</a:t>
            </a:r>
            <a:r>
              <a:rPr b="1" lang="ru-RU" sz="1800" spc="-1" strike="noStrike">
                <a:solidFill>
                  <a:srgbClr val="ff3300"/>
                </a:solidFill>
                <a:latin typeface="Lucida Sans Unicode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Медиация. Как стать школьным медиатором? Медиаторы-ровесники и медиаторы-наставники – кто они? «Ура, медиации!» или как построить мир без ссор.</a:t>
            </a:r>
            <a:br>
              <a:rPr sz="1800"/>
            </a:b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Итого: лекции-18ч.; практических занятий-16ч.</a:t>
            </a:r>
            <a:endParaRPr b="1" lang="en-US" sz="1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8:45:52Z</dcterms:created>
  <dc:creator>user</dc:creator>
  <dc:description/>
  <dc:language>en-US</dc:language>
  <cp:lastModifiedBy>дом</cp:lastModifiedBy>
  <dcterms:modified xsi:type="dcterms:W3CDTF">2012-09-10T15:25:35Z</dcterms:modified>
  <cp:revision>64</cp:revision>
  <dc:subject/>
  <dc:title>Психолого-педагогическое сопровождение и диагностика обучающихся как факторы  саморазвития и самоопределения личности по программе –инициативе  «Наша новая школа»</dc:title>
</cp:coreProperties>
</file>