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711-0EE9-4A59-8518-4AD019AE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001-A566-43CD-A123-47ABC970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17C-B94B-4F44-9140-A5CF8EE7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F29-3FD3-4BB2-A679-E7C4DD79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65A-8C76-4598-B12F-0F16596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164-7B09-4689-9496-E65680E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28F-2A30-418A-A6F8-7893C08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737-0A06-4414-9572-37C0B65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155-98DC-4C4F-BBB9-8405B3A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74E-2857-40CB-93D3-28EED9C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8D1-0E8A-4832-AF96-92ADFD3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A00-7437-46FF-899B-CCE92A7F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19D-B851-49D7-8E13-17E34A7DC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6F9D-CCC7-4358-B3F4-59C3D5ADF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гры для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Images\P19-04-12_13.3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отека «Прищеп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:\Images\P29-12-12_13.1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ще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:\Images\P29-12-12_13.15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ы из ковра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Images\P29-12-12_13.1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ну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:\Images\P29-12-12_13.2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за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:\Images\P29-12-12_13.2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жные мя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:\Images\P29-12-12_13.2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говицы, шну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:\Images\P29-12-12_13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19:07:39Z</dcterms:created>
  <dc:creator>User</dc:creator>
  <dc:description/>
  <dc:language>en-US</dc:language>
  <cp:lastModifiedBy>Бузмакова</cp:lastModifiedBy>
  <dcterms:modified xsi:type="dcterms:W3CDTF">2013-01-05T19:24:07Z</dcterms:modified>
  <cp:revision>3</cp:revision>
  <dc:subject/>
  <dc:title>Игры для развития мелкой моторики</dc:title>
</cp:coreProperties>
</file>