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C3F-98FB-4DDE-873F-DF2E1D0C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EEB-D0AB-4FDE-8789-372AB5FC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FA03-6014-4259-8BF8-ECFC5355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118-9E2A-4A1D-938A-08552F9C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4E4-2B0C-4C2C-BA90-CC25F560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644-A06C-4804-A762-738BE2C7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1DD-F502-4274-99BD-7C607DC6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1B8-3154-418D-AA2D-62965CD7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F10-85D9-4FC3-AAC5-8A5DBEBD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2E7A-98D1-44A4-95E2-482DFFE4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1B44-D55E-4FA1-8846-90D42164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8DC2-BD2A-4D26-B47E-F54B19AA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897C-53C1-487E-8671-A3A628A4BA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 г.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9ACE-909A-4388-918E-BF1ADF1A3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гры для развития мелкой мотор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:\Images\P19-04-12_13.37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 г.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отека «Прищеп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:\Images\P29-12-12_13.15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 г.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щеп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:\Images\P29-12-12_13.15[1]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 г.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ы из коврал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:\Images\P29-12-12_13.1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 г.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ну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:\Images\P29-12-12_13.2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 г.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за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:\Images\P29-12-12_13.23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 г.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ссажные мя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:\Images\P29-12-12_13.25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 г.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уговицы, шну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:\Images\P29-12-12_13.26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 г.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5T19:07:39Z</dcterms:created>
  <dc:creator>User</dc:creator>
  <dc:description/>
  <dc:language>en-US</dc:language>
  <cp:lastModifiedBy>Бузмакова</cp:lastModifiedBy>
  <dcterms:modified xsi:type="dcterms:W3CDTF">2013-01-05T19:24:07Z</dcterms:modified>
  <cp:revision>3</cp:revision>
  <dc:subject/>
  <dc:title>Игры для развития мелкой моторики</dc:title>
</cp:coreProperties>
</file>