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B81-6673-4198-8091-55627BF8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D20-3732-4890-B371-A0E72A84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0F9-6CE6-4A11-AF34-2077E93D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45E-4967-4D46-9957-6861F4F6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D02A-76A7-402C-8CEB-AC662348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158-643D-40D8-9ED8-6F26551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934-89B4-4522-B1F8-18FB8EBD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0A1-C8E6-4B1A-9FAC-89DAF60D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092-7AEC-45F3-9BE3-B1713620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CAA-4D9F-46A5-9C66-AF19D371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4F2-E9A9-44AB-88F9-D619164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484-3A0F-405A-91C1-3091483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E010-C7D1-440E-A1DC-E82DD0153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8E10-EE1F-46AA-8CC9-56AF9B67D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ские игры для развития речевого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дуй листоче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Images\P26-12-12_17.25.jpg"/>
          <p:cNvPicPr/>
          <p:nvPr/>
        </p:nvPicPr>
        <p:blipFill>
          <a:blip r:embed="rId1"/>
          <a:stretch/>
        </p:blipFill>
        <p:spPr>
          <a:xfrm>
            <a:off x="2819520" y="2143080"/>
            <a:ext cx="5689440" cy="387684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Images\P26-12-12_17.32[1].jpg"/>
          <p:cNvPicPr/>
          <p:nvPr/>
        </p:nvPicPr>
        <p:blipFill>
          <a:blip r:embed="rId1"/>
          <a:stretch/>
        </p:blipFill>
        <p:spPr>
          <a:xfrm>
            <a:off x="762120" y="762120"/>
            <a:ext cx="7859520" cy="5524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е дай лягушке поймать стрекоз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:\Images\P26-12-12_17.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дуй т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Images\P26-12-12_17.26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Флаж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Images\P26-12-12_17.27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Угадай кто спрятал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Images\P26-12-12_17.28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Горячий ч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Images\P26-12-12_17.28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е дай кошке поймать птич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Images\P26-12-12_17.2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омоги мишк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Images\P26-12-12_17.29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Images\P26-12-12_17.32.jpg"/>
          <p:cNvPicPr/>
          <p:nvPr/>
        </p:nvPicPr>
        <p:blipFill>
          <a:blip r:embed="rId1"/>
          <a:stretch/>
        </p:blipFill>
        <p:spPr>
          <a:xfrm>
            <a:off x="1117440" y="838080"/>
            <a:ext cx="6883560" cy="516276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8T19:34:32Z</dcterms:created>
  <dc:creator>User</dc:creator>
  <dc:description/>
  <dc:language>en-US</dc:language>
  <cp:lastModifiedBy>Бузмакова</cp:lastModifiedBy>
  <dcterms:modified xsi:type="dcterms:W3CDTF">2012-12-28T19:49:03Z</dcterms:modified>
  <cp:revision>2</cp:revision>
  <dc:subject/>
  <dc:title>Авторские игры для развития речевого дыхания</dc:title>
</cp:coreProperties>
</file>