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B00F-965F-4AC6-849D-7DFFB7FE2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4862-8F47-47AF-B9D4-6FBA873A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3269-B064-4095-AA9F-710A69915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11F7-11D4-41B7-BDC3-277509A70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E5C2-51FB-441E-9A46-D1A915EF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9AF6-EC11-40FB-839E-00A81E9F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2056-256B-4652-950B-6E716566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0357-BFB2-4039-9208-189ADAE3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3522-6071-4EA8-A829-E90DF29B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0258-0589-4084-88D1-3561E7F3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0856-8A47-480F-99CC-F774DC55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BD29-5261-480C-8202-E2D2C4C0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7E5F-98D3-46A5-A679-DCD77C901D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читель-логопед Бузмакова А.Ф. МАДОУ "Детский сад № 39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FB75-545E-4FBB-864B-AB8C9015C0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вторские игры для развития речевого дых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Сдуй листочек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:\Images\P26-12-12_17.25.jpg"/>
          <p:cNvPicPr/>
          <p:nvPr/>
        </p:nvPicPr>
        <p:blipFill>
          <a:blip r:embed="rId1"/>
          <a:stretch/>
        </p:blipFill>
        <p:spPr>
          <a:xfrm>
            <a:off x="2819520" y="2143080"/>
            <a:ext cx="5689440" cy="3876840"/>
          </a:xfrm>
          <a:prstGeom prst="rect">
            <a:avLst/>
          </a:prstGeom>
          <a:ln w="0">
            <a:noFill/>
          </a:ln>
        </p:spPr>
      </p:pic>
      <p:sp>
        <p:nvSpPr>
          <p:cNvPr id="4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читель-логопед Бузмакова А.Ф. МАДОУ "Детский сад № 39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:\Images\P26-12-12_17.32[1].jpg"/>
          <p:cNvPicPr/>
          <p:nvPr/>
        </p:nvPicPr>
        <p:blipFill>
          <a:blip r:embed="rId1"/>
          <a:stretch/>
        </p:blipFill>
        <p:spPr>
          <a:xfrm>
            <a:off x="762120" y="762120"/>
            <a:ext cx="7859520" cy="5524560"/>
          </a:xfrm>
          <a:prstGeom prst="rect">
            <a:avLst/>
          </a:prstGeom>
          <a:ln w="0">
            <a:noFill/>
          </a:ln>
        </p:spPr>
      </p:pic>
      <p:sp>
        <p:nvSpPr>
          <p:cNvPr id="69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читель-логопед Бузмакова А.Ф. МАДОУ "Детский сад № 39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Не дай лягушке поймать стрекозу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:\Images\P26-12-12_17.26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читель-логопед Бузмакова А.Ф. МАДОУ "Детский сад № 39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Сдуй тучк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:\Images\P26-12-12_17.26[1]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5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читель-логопед Бузмакова А.Ф. МАДОУ "Детский сад № 39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Флажк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:\Images\P26-12-12_17.27[2]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5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читель-логопед Бузмакова А.Ф. МАДОУ "Детский сад № 39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Угадай кто спряталс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:\Images\P26-12-12_17.28[1]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читель-логопед Бузмакова А.Ф. МАДОУ "Детский сад № 39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Горячий ча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:\Images\P26-12-12_17.28[2]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5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читель-логопед Бузмакова А.Ф. МАДОУ "Детский сад № 39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Не дай кошке поймать птичку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:\Images\P26-12-12_17.29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6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читель-логопед Бузмакова А.Ф. МАДОУ "Детский сад № 39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Помоги мишке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:\Images\P26-12-12_17.29[1]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6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читель-логопед Бузмакова А.Ф. МАДОУ "Детский сад № 39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:\Images\P26-12-12_17.32.jpg"/>
          <p:cNvPicPr/>
          <p:nvPr/>
        </p:nvPicPr>
        <p:blipFill>
          <a:blip r:embed="rId1"/>
          <a:stretch/>
        </p:blipFill>
        <p:spPr>
          <a:xfrm>
            <a:off x="1117440" y="838080"/>
            <a:ext cx="6883560" cy="5162760"/>
          </a:xfrm>
          <a:prstGeom prst="rect">
            <a:avLst/>
          </a:prstGeom>
          <a:ln w="0">
            <a:noFill/>
          </a:ln>
        </p:spPr>
      </p:pic>
      <p:sp>
        <p:nvSpPr>
          <p:cNvPr id="67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читель-логопед Бузмакова А.Ф. МАДОУ "Детский сад № 39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8T19:34:32Z</dcterms:created>
  <dc:creator>User</dc:creator>
  <dc:description/>
  <dc:language>en-US</dc:language>
  <cp:lastModifiedBy>Бузмакова</cp:lastModifiedBy>
  <dcterms:modified xsi:type="dcterms:W3CDTF">2012-12-28T19:49:03Z</dcterms:modified>
  <cp:revision>2</cp:revision>
  <dc:subject/>
  <dc:title>Авторские игры для развития речевого дыхания</dc:title>
</cp:coreProperties>
</file>