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drumroll.wav" ContentType="audio/x-wav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1F2-CEDA-4560-AF9E-F02079EA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C4E-597B-49EB-AF5C-854DD8A8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CD2-5931-4566-B2BE-4C335ACE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189-65C7-413E-886B-E2BC6F51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38B8-768B-43F2-AEAF-72AE6F38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049A-8869-41F9-BB7C-64B8C423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F5A8-703E-425D-98A6-CDB79DE9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BCCC-0E21-4A10-85DE-51459490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913B-6103-4410-95EF-50C11A9F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AF42-E53C-48AE-BA95-9B5DF43D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EC82-F529-4969-ACF5-4BF4CCFA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C03-8A5E-4AE8-8FD8-F1DDA866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7587-2673-4F59-B5D1-FE1E5F2A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EDAE-8016-4DB0-8B51-7DC202B2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FBA5-A093-4A5A-9B91-987EBF60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0AF6-07C3-486F-B26B-FB74B0F9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F7D2-FC5F-43C3-A2FA-99B3642B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402-6799-4302-9BC5-0963D29D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B19-C684-4CB9-98C6-8356257A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52C-994F-4714-A271-06D2C4EF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EF6-0CE4-4264-990D-2717701B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054-897B-40F7-9A4D-09981A8B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284-54E2-42F5-AE70-5E4F1F89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137-7CB3-48F2-921A-8F3FE27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20ED-6C08-4FEE-8459-CE8B32081E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C091-6F20-4310-9176-2ABD200DBC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4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5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6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7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6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7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8.pn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9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0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1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2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3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2" descr="Рисунок2"/>
          <p:cNvPicPr/>
          <p:nvPr/>
        </p:nvPicPr>
        <p:blipFill>
          <a:blip r:embed="rId1"/>
          <a:stretch/>
        </p:blipFill>
        <p:spPr>
          <a:xfrm>
            <a:off x="324000" y="476280"/>
            <a:ext cx="5973480" cy="5979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3" descr="Рисунок4"/>
          <p:cNvPicPr/>
          <p:nvPr/>
        </p:nvPicPr>
        <p:blipFill>
          <a:blip r:embed="rId2"/>
          <a:stretch/>
        </p:blipFill>
        <p:spPr>
          <a:xfrm>
            <a:off x="1258920" y="1413000"/>
            <a:ext cx="4164120" cy="4151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4"/>
          <p:cNvSpPr/>
          <p:nvPr/>
        </p:nvSpPr>
        <p:spPr>
          <a:xfrm>
            <a:off x="234000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5"/>
          <p:cNvSpPr/>
          <p:nvPr/>
        </p:nvSpPr>
        <p:spPr>
          <a:xfrm>
            <a:off x="471636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86"/>
          <p:cNvSpPr/>
          <p:nvPr/>
        </p:nvSpPr>
        <p:spPr>
          <a:xfrm>
            <a:off x="1187280" y="4797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7"/>
          <p:cNvSpPr/>
          <p:nvPr/>
        </p:nvSpPr>
        <p:spPr>
          <a:xfrm>
            <a:off x="5364000" y="371628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88"/>
          <p:cNvSpPr/>
          <p:nvPr/>
        </p:nvSpPr>
        <p:spPr>
          <a:xfrm>
            <a:off x="363528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9"/>
          <p:cNvSpPr/>
          <p:nvPr/>
        </p:nvSpPr>
        <p:spPr>
          <a:xfrm>
            <a:off x="611280" y="249228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90"/>
          <p:cNvSpPr/>
          <p:nvPr/>
        </p:nvSpPr>
        <p:spPr>
          <a:xfrm>
            <a:off x="4788000" y="4797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1"/>
          <p:cNvSpPr/>
          <p:nvPr/>
        </p:nvSpPr>
        <p:spPr>
          <a:xfrm>
            <a:off x="611280" y="3789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92"/>
          <p:cNvSpPr/>
          <p:nvPr/>
        </p:nvSpPr>
        <p:spPr>
          <a:xfrm>
            <a:off x="133200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3"/>
          <p:cNvSpPr/>
          <p:nvPr/>
        </p:nvSpPr>
        <p:spPr>
          <a:xfrm>
            <a:off x="234000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94"/>
          <p:cNvSpPr/>
          <p:nvPr/>
        </p:nvSpPr>
        <p:spPr>
          <a:xfrm>
            <a:off x="5364000" y="2565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5"/>
          <p:cNvSpPr/>
          <p:nvPr/>
        </p:nvSpPr>
        <p:spPr>
          <a:xfrm>
            <a:off x="370836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77080" y="333360"/>
          <a:ext cx="2050920" cy="604836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142"/>
          <p:cNvSpPr/>
          <p:nvPr/>
        </p:nvSpPr>
        <p:spPr>
          <a:xfrm>
            <a:off x="6877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4"/>
          <p:cNvSpPr/>
          <p:nvPr/>
        </p:nvSpPr>
        <p:spPr>
          <a:xfrm>
            <a:off x="6877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45"/>
          <p:cNvSpPr/>
          <p:nvPr/>
        </p:nvSpPr>
        <p:spPr>
          <a:xfrm>
            <a:off x="6877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49"/>
          <p:cNvSpPr/>
          <p:nvPr/>
        </p:nvSpPr>
        <p:spPr>
          <a:xfrm>
            <a:off x="7885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50"/>
          <p:cNvSpPr/>
          <p:nvPr/>
        </p:nvSpPr>
        <p:spPr>
          <a:xfrm>
            <a:off x="6877080" y="3357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1"/>
          <p:cNvSpPr/>
          <p:nvPr/>
        </p:nvSpPr>
        <p:spPr>
          <a:xfrm>
            <a:off x="6877080" y="4365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2"/>
          <p:cNvSpPr/>
          <p:nvPr/>
        </p:nvSpPr>
        <p:spPr>
          <a:xfrm>
            <a:off x="6877080" y="5373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3"/>
          <p:cNvSpPr/>
          <p:nvPr/>
        </p:nvSpPr>
        <p:spPr>
          <a:xfrm>
            <a:off x="7885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54"/>
          <p:cNvSpPr/>
          <p:nvPr/>
        </p:nvSpPr>
        <p:spPr>
          <a:xfrm>
            <a:off x="7885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55"/>
          <p:cNvSpPr/>
          <p:nvPr/>
        </p:nvSpPr>
        <p:spPr>
          <a:xfrm>
            <a:off x="7885080" y="3357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56"/>
          <p:cNvSpPr/>
          <p:nvPr/>
        </p:nvSpPr>
        <p:spPr>
          <a:xfrm>
            <a:off x="7885080" y="4365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1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7"/>
          <p:cNvSpPr/>
          <p:nvPr/>
        </p:nvSpPr>
        <p:spPr>
          <a:xfrm>
            <a:off x="7885080" y="5373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600000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0">
                                      <p:cBhvr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700000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9400000">
                                      <p:cBhvr>
                                        <p:cTn id="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0">
                                      <p:cBhvr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400000">
                                      <p:cBhvr>
                                        <p:cTn id="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200000">
                                      <p:cBhvr>
                                        <p:cTn id="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800000">
                                      <p:cBhvr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3600000">
                                      <p:cBhvr>
                                        <p:cTn id="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0">
                                      <p:cBhvr>
                                        <p:cTn id="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4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7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8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е  море  омывает  берега  территории  Краснодарского  края  на  северо-западе, имеет площад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8 тыс. км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, глубину 7-14 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41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63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64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40"/>
          <p:cNvSpPr/>
          <p:nvPr/>
        </p:nvSpPr>
        <p:spPr>
          <a:xfrm>
            <a:off x="755640" y="5500800"/>
            <a:ext cx="5759640" cy="80784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Азовское 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40" descr=""/>
          <p:cNvPicPr/>
          <p:nvPr/>
        </p:nvPicPr>
        <p:blipFill>
          <a:blip r:embed="rId26"/>
          <a:stretch/>
        </p:blipFill>
        <p:spPr>
          <a:xfrm>
            <a:off x="1785960" y="2857680"/>
            <a:ext cx="385776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80" dur="60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86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87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60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0000"/>
                            </p:stCondLst>
                            <p:childTnLst>
                              <p:par>
                                <p:cTn id="4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берегах  какой  незамерзающей  бухты  Черного  моря  расположен  город  Новороссийс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80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02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03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5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AutoShape 40"/>
          <p:cNvSpPr/>
          <p:nvPr/>
        </p:nvSpPr>
        <p:spPr>
          <a:xfrm>
            <a:off x="714240" y="5357880"/>
            <a:ext cx="5759640" cy="100800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Цемесская  бух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0" descr=""/>
          <p:cNvPicPr/>
          <p:nvPr/>
        </p:nvPicPr>
        <p:blipFill>
          <a:blip r:embed="rId26"/>
          <a:stretch/>
        </p:blipFill>
        <p:spPr>
          <a:xfrm>
            <a:off x="1285920" y="2357280"/>
            <a:ext cx="43164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16" dur="60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22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23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9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60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00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1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  город  является  географическим  центром  Краснодарского  кр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1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4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4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40"/>
          <p:cNvSpPr/>
          <p:nvPr/>
        </p:nvSpPr>
        <p:spPr>
          <a:xfrm>
            <a:off x="755640" y="5429160"/>
            <a:ext cx="5759640" cy="642960"/>
          </a:xfrm>
          <a:prstGeom prst="wedgeRectCallout">
            <a:avLst>
              <a:gd name="adj1" fmla="val -43995"/>
              <a:gd name="adj2" fmla="val 1286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Город  Коренов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Рисунок 39" descr="Кореновск 1.jpg"/>
          <p:cNvPicPr/>
          <p:nvPr/>
        </p:nvPicPr>
        <p:blipFill>
          <a:blip r:embed="rId26"/>
          <a:srcRect l="4299" t="7811" r="4299" b="7811"/>
          <a:stretch/>
        </p:blipFill>
        <p:spPr>
          <a:xfrm>
            <a:off x="1214280" y="2428920"/>
            <a:ext cx="38577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2" dur="60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58" dur="2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59" dur="2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60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5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8186760" cy="57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1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9968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 называются  неглубокие  водоемы, образовавшиеся  в  результате  разливов  степных  и  горных  рек,  скопления  дождевой  воды  в  низменных  мест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58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80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81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3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40"/>
          <p:cNvSpPr/>
          <p:nvPr/>
        </p:nvSpPr>
        <p:spPr>
          <a:xfrm>
            <a:off x="755640" y="5786280"/>
            <a:ext cx="5759640" cy="522360"/>
          </a:xfrm>
          <a:prstGeom prst="wedgeRectCallout">
            <a:avLst>
              <a:gd name="adj1" fmla="val -47777"/>
              <a:gd name="adj2" fmla="val 10887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Плав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Рисунок 39" descr="Плавни  в  низовьях  реки  Кубань.jpg"/>
          <p:cNvPicPr/>
          <p:nvPr/>
        </p:nvPicPr>
        <p:blipFill>
          <a:blip r:embed="rId26"/>
          <a:stretch/>
        </p:blipFill>
        <p:spPr>
          <a:xfrm>
            <a:off x="1643040" y="3000240"/>
            <a:ext cx="39290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9" dur="60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95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96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60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60000"/>
                            </p:stCondLst>
                            <p:childTnLst>
                              <p:par>
                                <p:cTn id="6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НТЕЛЛЕКТУАЛЬНАЯ  ИГР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500040" y="1571760"/>
            <a:ext cx="81439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d99"/>
                </a:solidFill>
                <a:latin typeface="Arial"/>
              </a:rPr>
              <a:t>«ЗНАТОКИ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d99"/>
                </a:solidFill>
                <a:latin typeface="Arial"/>
              </a:rPr>
              <a:t>ПРИРОДЫ  КУБАН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Рисунок 3" descr="Краснодарский край на глобусе.gif"/>
          <p:cNvPicPr/>
          <p:nvPr/>
        </p:nvPicPr>
        <p:blipFill>
          <a:blip r:embed="rId1"/>
          <a:stretch/>
        </p:blipFill>
        <p:spPr>
          <a:xfrm>
            <a:off x="500040" y="3643200"/>
            <a:ext cx="2857680" cy="2928960"/>
          </a:xfrm>
          <a:prstGeom prst="rect">
            <a:avLst/>
          </a:prstGeom>
          <a:ln w="0">
            <a:noFill/>
          </a:ln>
        </p:spPr>
      </p:pic>
      <p:sp>
        <p:nvSpPr>
          <p:cNvPr id="596" name="TextBox 4"/>
          <p:cNvSpPr/>
          <p:nvPr/>
        </p:nvSpPr>
        <p:spPr>
          <a:xfrm>
            <a:off x="4000680" y="378612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БУ  СОШ №7  ИМ. В.П. АД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  КОРЕНОВСКИЙ 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ЧЕНКО  ОЛЬГА 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4857840" y="6286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исок  источник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я  Кубани. Энциклопедический  словарь. – Майкоп: ОА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олиграфиздат  «Адыгея»,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пулярный  иллюстрированный  географический  словарь  Краснодарского  края /Сост. И.П. Лотышев.- Краснодар:  ОИПЦ  «Перспективы  образования», 200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овое поле (автор неизвестен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ймер- Важенин Сергей Валерьевич,  МОУ ООШ с. Закаринье Слободского района Кировской об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ра, высшая  точка  хребта Герцена  и   Краснодарского    края.   Высот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 345,9 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2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5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5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0"/>
          <p:cNvSpPr/>
          <p:nvPr/>
        </p:nvSpPr>
        <p:spPr>
          <a:xfrm>
            <a:off x="785880" y="4929120"/>
            <a:ext cx="5759280" cy="1443240"/>
          </a:xfrm>
          <a:prstGeom prst="wedgeRectCallout">
            <a:avLst>
              <a:gd name="adj1" fmla="val -43745"/>
              <a:gd name="adj2" fmla="val 55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Гора  Цахво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0" descr=""/>
          <p:cNvPicPr/>
          <p:nvPr/>
        </p:nvPicPr>
        <p:blipFill>
          <a:blip r:embed="rId26"/>
          <a:stretch/>
        </p:blipFill>
        <p:spPr>
          <a:xfrm>
            <a:off x="2000160" y="2428920"/>
            <a:ext cx="3429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8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194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95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60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каком  море  на  глубине  150-200 м вода   содержит  сероводород, концентрация   которого  у  дна  достигает  11-14  мг/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68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90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91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755640" y="5643720"/>
            <a:ext cx="5759640" cy="500040"/>
          </a:xfrm>
          <a:prstGeom prst="wedgeRectCallout">
            <a:avLst>
              <a:gd name="adj1" fmla="val -46768"/>
              <a:gd name="adj2" fmla="val 119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Черное 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1" descr=""/>
          <p:cNvPicPr/>
          <p:nvPr/>
        </p:nvPicPr>
        <p:blipFill>
          <a:blip r:embed="rId26"/>
          <a:srcRect l="0" t="2688" r="5158" b="0"/>
          <a:stretch/>
        </p:blipFill>
        <p:spPr>
          <a:xfrm>
            <a:off x="2460600" y="2643120"/>
            <a:ext cx="2197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5" dur="60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31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32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60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0"/>
                            </p:stCondLst>
                            <p:childTnLst>
                              <p:par>
                                <p:cTn id="2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1000080"/>
            <a:ext cx="6357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 равнина  занимает 2/3 терр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одарского  края, явл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олжением  Русской  равн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какой равнине идет реч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07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29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30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0"/>
          <p:cNvSpPr/>
          <p:nvPr/>
        </p:nvSpPr>
        <p:spPr>
          <a:xfrm>
            <a:off x="785880" y="5286240"/>
            <a:ext cx="5759280" cy="785880"/>
          </a:xfrm>
          <a:prstGeom prst="wedgeRectCallout">
            <a:avLst>
              <a:gd name="adj1" fmla="val -43745"/>
              <a:gd name="adj2" fmla="val 13210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Азово-Кубан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(Кубано-Азовск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0" descr=""/>
          <p:cNvPicPr/>
          <p:nvPr/>
        </p:nvPicPr>
        <p:blipFill>
          <a:blip r:embed="rId26"/>
          <a:srcRect l="0" t="0" r="0" b="15604"/>
          <a:stretch/>
        </p:blipFill>
        <p:spPr>
          <a:xfrm>
            <a:off x="1820880" y="3000240"/>
            <a:ext cx="37018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2" dur="60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68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69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60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ой  город  края  расположен  на  высоте  35 м над уровнем моря  и  имеет  географические  координаты  45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.ш. и 39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.д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46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68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69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0"/>
          <p:cNvSpPr/>
          <p:nvPr/>
        </p:nvSpPr>
        <p:spPr>
          <a:xfrm>
            <a:off x="755640" y="5715000"/>
            <a:ext cx="5759640" cy="593640"/>
          </a:xfrm>
          <a:prstGeom prst="wedgeRectCallout">
            <a:avLst>
              <a:gd name="adj1" fmla="val -46768"/>
              <a:gd name="adj2" fmla="val 8010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Город  Краснод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Рисунок 39" descr="ул Красная г. Краснодара.jpg"/>
          <p:cNvPicPr/>
          <p:nvPr/>
        </p:nvPicPr>
        <p:blipFill>
          <a:blip r:embed="rId26"/>
          <a:stretch/>
        </p:blipFill>
        <p:spPr>
          <a:xfrm>
            <a:off x="1785960" y="3000240"/>
            <a:ext cx="37148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8" dur="60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04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05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1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60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85840" y="1000080"/>
            <a:ext cx="6643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  степная  река  Азово-Кубанской равнины  имеет  два  основных  притока:  Бейсужек  Левый  и  Бейсужек  Правый. О какой  реке идет реч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85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07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08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40"/>
          <p:cNvSpPr/>
          <p:nvPr/>
        </p:nvSpPr>
        <p:spPr>
          <a:xfrm>
            <a:off x="857160" y="5429160"/>
            <a:ext cx="5759640" cy="863640"/>
          </a:xfrm>
          <a:prstGeom prst="wedgeRectCallout">
            <a:avLst>
              <a:gd name="adj1" fmla="val -45004"/>
              <a:gd name="adj2" fmla="val 9007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Arial"/>
              </a:rPr>
              <a:t>Река  Бейсу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0" descr=""/>
          <p:cNvPicPr/>
          <p:nvPr/>
        </p:nvPicPr>
        <p:blipFill>
          <a:blip r:embed="rId26"/>
          <a:srcRect l="3446" t="6462" r="3446" b="3231"/>
          <a:stretch/>
        </p:blipFill>
        <p:spPr>
          <a:xfrm>
            <a:off x="1285920" y="2786040"/>
            <a:ext cx="4357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5" dur="60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41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42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60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0"/>
                            </p:stCondLst>
                            <p:childTnLst>
                              <p:par>
                                <p:cTn id="3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3840" y="1000080"/>
            <a:ext cx="6715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ое  озеро  расположено  на  Таманском  полуострове в 8 к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Темрюка?  Вода в нем соленая, а   знаменито   оно   огромными  запасами  лечебной  гряз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24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46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47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40"/>
          <p:cNvSpPr/>
          <p:nvPr/>
        </p:nvSpPr>
        <p:spPr>
          <a:xfrm>
            <a:off x="755640" y="5857920"/>
            <a:ext cx="5759640" cy="428760"/>
          </a:xfrm>
          <a:prstGeom prst="wedgeRectCallout">
            <a:avLst>
              <a:gd name="adj1" fmla="val -48282"/>
              <a:gd name="adj2" fmla="val 12647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Озеро  Голубиц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Рисунок 39" descr="Озеро  Голубицкое.jpg"/>
          <p:cNvPicPr/>
          <p:nvPr/>
        </p:nvPicPr>
        <p:blipFill>
          <a:blip r:embed="rId26"/>
          <a:stretch/>
        </p:blipFill>
        <p:spPr>
          <a:xfrm>
            <a:off x="2143080" y="342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1" dur="60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77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78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60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е водохранилище  построено в 1972 году  для обеспечения водой рисовых оросительных систем? Длина его 46 км, а ширина 8-12 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63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85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86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8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40"/>
          <p:cNvSpPr/>
          <p:nvPr/>
        </p:nvSpPr>
        <p:spPr>
          <a:xfrm>
            <a:off x="755640" y="5429160"/>
            <a:ext cx="5759640" cy="642960"/>
          </a:xfrm>
          <a:prstGeom prst="wedgeRectCallout">
            <a:avLst>
              <a:gd name="adj1" fmla="val -48282"/>
              <a:gd name="adj2" fmla="val 13640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Краснодарское  водо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0" descr=""/>
          <p:cNvPicPr/>
          <p:nvPr/>
        </p:nvPicPr>
        <p:blipFill>
          <a:blip r:embed="rId26"/>
          <a:stretch/>
        </p:blipFill>
        <p:spPr>
          <a:xfrm>
            <a:off x="1714680" y="2786040"/>
            <a:ext cx="3622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8" dur="60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2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14" dur="2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15" dur="2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1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60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0"/>
                            </p:stCondLst>
                            <p:childTnLst>
                              <p:par>
                                <p:cTn id="4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85480" y="1000080"/>
            <a:ext cx="67863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  город-курорт самый  солнечный  на  Черноморском  побережье  Кавказа?  Среднегодовое количество солнечных дней достигает 27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02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24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25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40"/>
          <p:cNvSpPr/>
          <p:nvPr/>
        </p:nvSpPr>
        <p:spPr>
          <a:xfrm>
            <a:off x="857160" y="5500800"/>
            <a:ext cx="5759640" cy="649080"/>
          </a:xfrm>
          <a:prstGeom prst="wedgeRectCallout">
            <a:avLst>
              <a:gd name="adj1" fmla="val -43745"/>
              <a:gd name="adj2" fmla="val 11157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Город  Ана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40" descr=""/>
          <p:cNvPicPr/>
          <p:nvPr/>
        </p:nvPicPr>
        <p:blipFill>
          <a:blip r:embed="rId26"/>
          <a:stretch/>
        </p:blipFill>
        <p:spPr>
          <a:xfrm>
            <a:off x="1557360" y="2714760"/>
            <a:ext cx="407340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4" dur="60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2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50" dur="2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51" dur="2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60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8:57:36Z</dcterms:created>
  <dc:creator>User</dc:creator>
  <dc:description/>
  <dc:language>en-US</dc:language>
  <cp:lastModifiedBy>Admin</cp:lastModifiedBy>
  <dcterms:modified xsi:type="dcterms:W3CDTF">2012-04-15T21:38:01Z</dcterms:modified>
  <cp:revision>17</cp:revision>
  <dc:subject/>
  <dc:title>Слайд 1</dc:title>
</cp:coreProperties>
</file>