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8.png" ContentType="image/png"/>
  <Override PartName="/ppt/media/drumroll.wav" ContentType="audio/x-wav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3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101A-3413-45BE-8A92-15204B899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E0E9-1CF7-4212-AC59-E0879826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4CBB-5C5C-414D-8A20-DA8AF7F1D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F1CA-6F5B-4D60-A83C-F99B0A4D2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CFD3-36E6-4593-937E-E6A69B6D4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AC96-EEA0-4389-9A65-BA569897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85E3F-2C5B-4FAF-8030-9608697B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3911B-5D7F-4DA6-A50F-77D3EDF6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6683D-2991-4126-A693-4DEA000B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692C-09B3-479C-87A6-B6E36911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845F-988F-4167-849A-413F6470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D8EF-B586-44AF-82D6-1E869ACA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1EA6-CE6A-4EA2-B7D9-F654100C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CE522-70E3-4A82-9914-96440A80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8E77-0F5E-410F-A831-E2F14440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3C64-57EF-4A29-9B4F-61F6CDFBC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C976-24FB-47B4-99F4-9AD3288CE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7D50-1862-44CA-B691-634B1C8A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5004-0310-4203-A024-A28DC66D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FE17-20CB-4DDF-AC06-A61C7C78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7633-777B-4F61-BDDD-11310224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C3B6-5B57-4C57-A6D5-F73CB173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37E2-6D6E-4892-9DE8-B94249C8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DAA4-5693-4511-9F91-128D608B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A8CC-7B93-4D50-B90C-5C5C14AB0A8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4D83-8633-4342-A3DA-7A00182A1D8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8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image" Target="../media/image4.jpeg"/><Relationship Id="rId19" Type="http://schemas.openxmlformats.org/officeDocument/2006/relationships/image" Target="../media/image4.jpeg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image" Target="../media/image5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4.jpeg"/><Relationship Id="rId26" Type="http://schemas.openxmlformats.org/officeDocument/2006/relationships/image" Target="../media/image14.jpeg"/><Relationship Id="rId27" Type="http://schemas.openxmlformats.org/officeDocument/2006/relationships/audio" Target="../media/drumroll.wav"/><Relationship Id="rId2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image" Target="../media/image4.jpeg"/><Relationship Id="rId19" Type="http://schemas.openxmlformats.org/officeDocument/2006/relationships/image" Target="../media/image4.jpeg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image" Target="../media/image5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4.jpeg"/><Relationship Id="rId26" Type="http://schemas.openxmlformats.org/officeDocument/2006/relationships/image" Target="../media/image15.jpeg"/><Relationship Id="rId27" Type="http://schemas.openxmlformats.org/officeDocument/2006/relationships/audio" Target="../media/drumroll.wav"/><Relationship Id="rId2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image" Target="../media/image4.jpeg"/><Relationship Id="rId19" Type="http://schemas.openxmlformats.org/officeDocument/2006/relationships/image" Target="../media/image4.jpeg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image" Target="../media/image5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4.jpeg"/><Relationship Id="rId26" Type="http://schemas.openxmlformats.org/officeDocument/2006/relationships/image" Target="../media/image16.jpeg"/><Relationship Id="rId27" Type="http://schemas.openxmlformats.org/officeDocument/2006/relationships/audio" Target="../media/drumroll.wav"/><Relationship Id="rId2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image" Target="../media/image4.jpeg"/><Relationship Id="rId19" Type="http://schemas.openxmlformats.org/officeDocument/2006/relationships/image" Target="../media/image4.jpeg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image" Target="../media/image5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4.jpeg"/><Relationship Id="rId26" Type="http://schemas.openxmlformats.org/officeDocument/2006/relationships/image" Target="../media/image17.jpeg"/><Relationship Id="rId27" Type="http://schemas.openxmlformats.org/officeDocument/2006/relationships/audio" Target="../media/drumroll.wav"/><Relationship Id="rId2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image" Target="../media/image4.jpeg"/><Relationship Id="rId19" Type="http://schemas.openxmlformats.org/officeDocument/2006/relationships/image" Target="../media/image4.jpeg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image" Target="../media/image5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4.jpeg"/><Relationship Id="rId26" Type="http://schemas.openxmlformats.org/officeDocument/2006/relationships/image" Target="../media/image6.jpeg"/><Relationship Id="rId27" Type="http://schemas.openxmlformats.org/officeDocument/2006/relationships/audio" Target="../media/drumroll.wav"/><Relationship Id="rId2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image" Target="../media/image4.jpeg"/><Relationship Id="rId19" Type="http://schemas.openxmlformats.org/officeDocument/2006/relationships/image" Target="../media/image4.jpeg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image" Target="../media/image5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4.jpeg"/><Relationship Id="rId26" Type="http://schemas.openxmlformats.org/officeDocument/2006/relationships/image" Target="../media/image7.jpeg"/><Relationship Id="rId27" Type="http://schemas.openxmlformats.org/officeDocument/2006/relationships/audio" Target="../media/drumroll.wav"/><Relationship Id="rId2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image" Target="../media/image4.jpeg"/><Relationship Id="rId19" Type="http://schemas.openxmlformats.org/officeDocument/2006/relationships/image" Target="../media/image4.jpeg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image" Target="../media/image5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4.jpeg"/><Relationship Id="rId26" Type="http://schemas.openxmlformats.org/officeDocument/2006/relationships/image" Target="../media/image8.png"/><Relationship Id="rId27" Type="http://schemas.openxmlformats.org/officeDocument/2006/relationships/audio" Target="../media/drumroll.wav"/><Relationship Id="rId2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image" Target="../media/image4.jpeg"/><Relationship Id="rId19" Type="http://schemas.openxmlformats.org/officeDocument/2006/relationships/image" Target="../media/image4.jpeg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image" Target="../media/image5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4.jpeg"/><Relationship Id="rId26" Type="http://schemas.openxmlformats.org/officeDocument/2006/relationships/image" Target="../media/image9.jpeg"/><Relationship Id="rId27" Type="http://schemas.openxmlformats.org/officeDocument/2006/relationships/audio" Target="../media/drumroll.wav"/><Relationship Id="rId2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image" Target="../media/image4.jpeg"/><Relationship Id="rId19" Type="http://schemas.openxmlformats.org/officeDocument/2006/relationships/image" Target="../media/image4.jpeg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image" Target="../media/image5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4.jpeg"/><Relationship Id="rId26" Type="http://schemas.openxmlformats.org/officeDocument/2006/relationships/image" Target="../media/image10.jpeg"/><Relationship Id="rId27" Type="http://schemas.openxmlformats.org/officeDocument/2006/relationships/audio" Target="../media/drumroll.wav"/><Relationship Id="rId2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image" Target="../media/image4.jpeg"/><Relationship Id="rId19" Type="http://schemas.openxmlformats.org/officeDocument/2006/relationships/image" Target="../media/image4.jpeg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image" Target="../media/image5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4.jpeg"/><Relationship Id="rId26" Type="http://schemas.openxmlformats.org/officeDocument/2006/relationships/image" Target="../media/image11.jpeg"/><Relationship Id="rId27" Type="http://schemas.openxmlformats.org/officeDocument/2006/relationships/audio" Target="../media/drumroll.wav"/><Relationship Id="rId2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image" Target="../media/image4.jpeg"/><Relationship Id="rId19" Type="http://schemas.openxmlformats.org/officeDocument/2006/relationships/image" Target="../media/image4.jpeg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image" Target="../media/image5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4.jpeg"/><Relationship Id="rId26" Type="http://schemas.openxmlformats.org/officeDocument/2006/relationships/image" Target="../media/image12.jpeg"/><Relationship Id="rId27" Type="http://schemas.openxmlformats.org/officeDocument/2006/relationships/audio" Target="../media/drumroll.wav"/><Relationship Id="rId2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image" Target="../media/image4.jpeg"/><Relationship Id="rId19" Type="http://schemas.openxmlformats.org/officeDocument/2006/relationships/image" Target="../media/image4.jpeg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image" Target="../media/image5.jpeg"/><Relationship Id="rId23" Type="http://schemas.openxmlformats.org/officeDocument/2006/relationships/image" Target="../media/image5.jpeg"/><Relationship Id="rId24" Type="http://schemas.openxmlformats.org/officeDocument/2006/relationships/image" Target="../media/image4.jpeg"/><Relationship Id="rId25" Type="http://schemas.openxmlformats.org/officeDocument/2006/relationships/image" Target="../media/image4.jpeg"/><Relationship Id="rId26" Type="http://schemas.openxmlformats.org/officeDocument/2006/relationships/image" Target="../media/image13.jpeg"/><Relationship Id="rId27" Type="http://schemas.openxmlformats.org/officeDocument/2006/relationships/audio" Target="../media/drumroll.wav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82" descr="Рисунок2"/>
          <p:cNvPicPr/>
          <p:nvPr/>
        </p:nvPicPr>
        <p:blipFill>
          <a:blip r:embed="rId1"/>
          <a:stretch/>
        </p:blipFill>
        <p:spPr>
          <a:xfrm>
            <a:off x="324000" y="476280"/>
            <a:ext cx="5973480" cy="5979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3" descr="Рисунок4"/>
          <p:cNvPicPr/>
          <p:nvPr/>
        </p:nvPicPr>
        <p:blipFill>
          <a:blip r:embed="rId2"/>
          <a:stretch/>
        </p:blipFill>
        <p:spPr>
          <a:xfrm>
            <a:off x="1258920" y="1413000"/>
            <a:ext cx="4164120" cy="415116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84"/>
          <p:cNvSpPr/>
          <p:nvPr/>
        </p:nvSpPr>
        <p:spPr>
          <a:xfrm>
            <a:off x="2340000" y="5516640"/>
            <a:ext cx="647640" cy="64908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85"/>
          <p:cNvSpPr/>
          <p:nvPr/>
        </p:nvSpPr>
        <p:spPr>
          <a:xfrm>
            <a:off x="4716360" y="1413000"/>
            <a:ext cx="647640" cy="64908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86"/>
          <p:cNvSpPr/>
          <p:nvPr/>
        </p:nvSpPr>
        <p:spPr>
          <a:xfrm>
            <a:off x="1187280" y="4797360"/>
            <a:ext cx="648000" cy="64944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87"/>
          <p:cNvSpPr/>
          <p:nvPr/>
        </p:nvSpPr>
        <p:spPr>
          <a:xfrm>
            <a:off x="5364000" y="3716280"/>
            <a:ext cx="648000" cy="64944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88"/>
          <p:cNvSpPr/>
          <p:nvPr/>
        </p:nvSpPr>
        <p:spPr>
          <a:xfrm>
            <a:off x="3635280" y="765000"/>
            <a:ext cx="647640" cy="64944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89"/>
          <p:cNvSpPr/>
          <p:nvPr/>
        </p:nvSpPr>
        <p:spPr>
          <a:xfrm>
            <a:off x="611280" y="2492280"/>
            <a:ext cx="647640" cy="64944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90"/>
          <p:cNvSpPr/>
          <p:nvPr/>
        </p:nvSpPr>
        <p:spPr>
          <a:xfrm>
            <a:off x="4788000" y="4797360"/>
            <a:ext cx="647640" cy="64944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91"/>
          <p:cNvSpPr/>
          <p:nvPr/>
        </p:nvSpPr>
        <p:spPr>
          <a:xfrm>
            <a:off x="611280" y="3789360"/>
            <a:ext cx="647640" cy="64944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92"/>
          <p:cNvSpPr/>
          <p:nvPr/>
        </p:nvSpPr>
        <p:spPr>
          <a:xfrm>
            <a:off x="1332000" y="1413000"/>
            <a:ext cx="647640" cy="64908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93"/>
          <p:cNvSpPr/>
          <p:nvPr/>
        </p:nvSpPr>
        <p:spPr>
          <a:xfrm>
            <a:off x="2340000" y="765000"/>
            <a:ext cx="647640" cy="64944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94"/>
          <p:cNvSpPr/>
          <p:nvPr/>
        </p:nvSpPr>
        <p:spPr>
          <a:xfrm>
            <a:off x="5364000" y="2565360"/>
            <a:ext cx="648000" cy="64944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95"/>
          <p:cNvSpPr/>
          <p:nvPr/>
        </p:nvSpPr>
        <p:spPr>
          <a:xfrm>
            <a:off x="3708360" y="5516640"/>
            <a:ext cx="647640" cy="64908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77080" y="333360"/>
          <a:ext cx="2050920" cy="6048360"/>
        </p:xfrm>
        <a:graphic>
          <a:graphicData uri="http://schemas.openxmlformats.org/drawingml/2006/table">
            <a:tbl>
              <a:tblPr/>
              <a:tblGrid>
                <a:gridCol w="1025640"/>
                <a:gridCol w="102528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113" name="Text Box 142"/>
          <p:cNvSpPr/>
          <p:nvPr/>
        </p:nvSpPr>
        <p:spPr>
          <a:xfrm>
            <a:off x="6877080" y="3333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cc"/>
                </a:solidFill>
                <a:uFillTx/>
                <a:latin typeface="Arial"/>
                <a:hlinkClick r:id="rId3" action="ppaction://hlinksldjump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44"/>
          <p:cNvSpPr/>
          <p:nvPr/>
        </p:nvSpPr>
        <p:spPr>
          <a:xfrm>
            <a:off x="6877080" y="13413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cc"/>
                </a:solidFill>
                <a:uFillTx/>
                <a:latin typeface="Arial"/>
                <a:hlinkClick r:id="rId4" action="ppaction://hlinksldjump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45"/>
          <p:cNvSpPr/>
          <p:nvPr/>
        </p:nvSpPr>
        <p:spPr>
          <a:xfrm>
            <a:off x="6877080" y="23493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cc"/>
                </a:solidFill>
                <a:uFillTx/>
                <a:latin typeface="Arial"/>
                <a:hlinkClick r:id="rId5" action="ppaction://hlinksldjump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49"/>
          <p:cNvSpPr/>
          <p:nvPr/>
        </p:nvSpPr>
        <p:spPr>
          <a:xfrm>
            <a:off x="7885080" y="3333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cc"/>
                </a:solidFill>
                <a:uFillTx/>
                <a:latin typeface="Arial"/>
                <a:hlinkClick r:id="rId6" action="ppaction://hlinksldjump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50"/>
          <p:cNvSpPr/>
          <p:nvPr/>
        </p:nvSpPr>
        <p:spPr>
          <a:xfrm>
            <a:off x="6877080" y="335772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cc"/>
                </a:solidFill>
                <a:uFillTx/>
                <a:latin typeface="Arial"/>
                <a:hlinkClick r:id="rId7" action="ppaction://hlinksldjump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51"/>
          <p:cNvSpPr/>
          <p:nvPr/>
        </p:nvSpPr>
        <p:spPr>
          <a:xfrm>
            <a:off x="6877080" y="436572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cc"/>
                </a:solidFill>
                <a:uFillTx/>
                <a:latin typeface="Arial"/>
                <a:hlinkClick r:id="rId8" action="ppaction://hlinksldjump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52"/>
          <p:cNvSpPr/>
          <p:nvPr/>
        </p:nvSpPr>
        <p:spPr>
          <a:xfrm>
            <a:off x="6877080" y="537372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cc"/>
                </a:solidFill>
                <a:uFillTx/>
                <a:latin typeface="Arial"/>
                <a:hlinkClick r:id="rId9" action="ppaction://hlinksldjump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53"/>
          <p:cNvSpPr/>
          <p:nvPr/>
        </p:nvSpPr>
        <p:spPr>
          <a:xfrm>
            <a:off x="7885080" y="13413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cc"/>
                </a:solidFill>
                <a:uFillTx/>
                <a:latin typeface="Arial"/>
                <a:hlinkClick r:id="rId10" action="ppaction://hlinksldjump"/>
              </a:rPr>
              <a:t>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54"/>
          <p:cNvSpPr/>
          <p:nvPr/>
        </p:nvSpPr>
        <p:spPr>
          <a:xfrm>
            <a:off x="7885080" y="23493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cc"/>
                </a:solidFill>
                <a:uFillTx/>
                <a:latin typeface="Arial"/>
                <a:hlinkClick r:id="rId11" action="ppaction://hlinksldjump"/>
              </a:rPr>
              <a:t>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55"/>
          <p:cNvSpPr/>
          <p:nvPr/>
        </p:nvSpPr>
        <p:spPr>
          <a:xfrm>
            <a:off x="7885080" y="335772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ffffcc"/>
                </a:solidFill>
                <a:uFillTx/>
                <a:latin typeface="Arial"/>
                <a:hlinkClick r:id="rId12" action="ppaction://hlinksldjump"/>
              </a:rPr>
              <a:t>1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56"/>
          <p:cNvSpPr/>
          <p:nvPr/>
        </p:nvSpPr>
        <p:spPr>
          <a:xfrm>
            <a:off x="7885080" y="436572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ffffcc"/>
                </a:solidFill>
                <a:uFillTx/>
                <a:latin typeface="Arial"/>
                <a:hlinkClick r:id="rId13" action="ppaction://hlinksldjump"/>
              </a:rPr>
              <a:t>1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57"/>
          <p:cNvSpPr/>
          <p:nvPr/>
        </p:nvSpPr>
        <p:spPr>
          <a:xfrm>
            <a:off x="7885080" y="537372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ffffcc"/>
                </a:solidFill>
                <a:uFillTx/>
                <a:latin typeface="Arial"/>
                <a:hlinkClick r:id="rId14" action="ppaction://hlinksldjump"/>
              </a:rPr>
              <a:t>1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600000">
                                      <p:cBhvr>
                                        <p:cTn id="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4800000">
                                      <p:cBhvr>
                                        <p:cTn id="1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2700000">
                                      <p:cBhvr>
                                        <p:cTn id="2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6700000">
                                      <p:cBhvr>
                                        <p:cTn id="3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9400000">
                                      <p:cBhvr>
                                        <p:cTn id="3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0000000">
                                      <p:cBhvr>
                                        <p:cTn id="4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2400000">
                                      <p:cBhvr>
                                        <p:cTn id="5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9200000">
                                      <p:cBhvr>
                                        <p:cTn id="6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5800000">
                                      <p:cBhvr>
                                        <p:cTn id="7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3600000">
                                      <p:cBhvr>
                                        <p:cTn id="7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0">
                                      <p:cBhvr>
                                        <p:cTn id="8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0">
                                      <p:cBhvr>
                                        <p:cTn id="9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500" autoRev="1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04" dur="500" autoRev="1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05" dur="500" autoRev="1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500" autoRev="1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11" dur="500" autoRev="1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12" dur="500" autoRev="1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50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18" dur="50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19" dur="50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5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25" dur="5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26" dur="5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50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32" dur="50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33" dur="50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500" autoRev="1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39" dur="500" autoRev="1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40" dur="500" autoRev="1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500" autoRev="1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46" dur="500" autoRev="1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47" dur="500" autoRev="1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50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53" dur="50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54" dur="50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5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60" dur="5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61" dur="5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5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67" dur="5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68" dur="5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5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74" dur="5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75" dur="5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5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81" dur="5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82" dur="5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опрос 9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6840" y="1000080"/>
            <a:ext cx="6257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ое  море  омывает  берега  территории  Краснодарского  края  на  северо-западе, имеет площад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8 тыс. км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, глубину 7-14 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0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441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2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463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464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6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Freeform 135"/>
          <p:cNvSpPr/>
          <p:nvPr/>
        </p:nvSpPr>
        <p:spPr>
          <a:xfrm>
            <a:off x="7269120" y="4043520"/>
            <a:ext cx="1009800" cy="625320"/>
          </a:xfrm>
          <a:prstGeom prst="pie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Freeform 136"/>
          <p:cNvSpPr/>
          <p:nvPr/>
        </p:nvSpPr>
        <p:spPr>
          <a:xfrm>
            <a:off x="7278840" y="5086440"/>
            <a:ext cx="993600" cy="471240"/>
          </a:xfrm>
          <a:prstGeom prst="pie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AutoShape 40"/>
          <p:cNvSpPr/>
          <p:nvPr/>
        </p:nvSpPr>
        <p:spPr>
          <a:xfrm>
            <a:off x="755640" y="5500800"/>
            <a:ext cx="5759640" cy="807840"/>
          </a:xfrm>
          <a:prstGeom prst="wedgeRectCallout">
            <a:avLst>
              <a:gd name="adj1" fmla="val -43745"/>
              <a:gd name="adj2" fmla="val 7425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Arial"/>
              </a:rPr>
              <a:t>Азовское  мор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Picture 40" descr=""/>
          <p:cNvPicPr/>
          <p:nvPr/>
        </p:nvPicPr>
        <p:blipFill>
          <a:blip r:embed="rId26"/>
          <a:stretch/>
        </p:blipFill>
        <p:spPr>
          <a:xfrm>
            <a:off x="1785960" y="2857680"/>
            <a:ext cx="3857760" cy="24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80" dur="60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5" dur="2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486" dur="2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487" dur="2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8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9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90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1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3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60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60000"/>
                            </p:stCondLst>
                            <p:childTnLst>
                              <p:par>
                                <p:cTn id="49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9" restart="whenNotActive" nodeType="interactiveSeq" fill="hold">
                <p:stCondLst>
                  <p:cond evt="onClick">
                    <p:tgtEl>
                      <p:spTgt spid="473"/>
                    </p:tgtEl>
                  </p:cond>
                </p:stCondLst>
                <p:childTnLst>
                  <p:par>
                    <p:cTn id="500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опрос 1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6840" y="1000080"/>
            <a:ext cx="6257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 берегах  какой  незамерзающей  бухты  Черного  моря  расположен  город  Новороссийск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9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480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1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502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503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5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9" name="Freeform 135"/>
          <p:cNvSpPr/>
          <p:nvPr/>
        </p:nvSpPr>
        <p:spPr>
          <a:xfrm>
            <a:off x="7269120" y="4043520"/>
            <a:ext cx="1009800" cy="625320"/>
          </a:xfrm>
          <a:prstGeom prst="pie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Freeform 136"/>
          <p:cNvSpPr/>
          <p:nvPr/>
        </p:nvSpPr>
        <p:spPr>
          <a:xfrm>
            <a:off x="7278840" y="5086440"/>
            <a:ext cx="993600" cy="471240"/>
          </a:xfrm>
          <a:prstGeom prst="pie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AutoShape 40"/>
          <p:cNvSpPr/>
          <p:nvPr/>
        </p:nvSpPr>
        <p:spPr>
          <a:xfrm>
            <a:off x="714240" y="5357880"/>
            <a:ext cx="5759640" cy="1008000"/>
          </a:xfrm>
          <a:prstGeom prst="wedgeRectCallout">
            <a:avLst>
              <a:gd name="adj1" fmla="val -43745"/>
              <a:gd name="adj2" fmla="val 7425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Arial"/>
              </a:rPr>
              <a:t>Цемесская  бух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Picture 40" descr=""/>
          <p:cNvPicPr/>
          <p:nvPr/>
        </p:nvPicPr>
        <p:blipFill>
          <a:blip r:embed="rId26"/>
          <a:stretch/>
        </p:blipFill>
        <p:spPr>
          <a:xfrm>
            <a:off x="1285920" y="2357280"/>
            <a:ext cx="431640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513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16" dur="60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1" dur="2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522" dur="2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523" dur="2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2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2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2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9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60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60000"/>
                            </p:stCondLst>
                            <p:childTnLst>
                              <p:par>
                                <p:cTn id="5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512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512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evt="onClick">
                          <p:tgtEl>
                            <p:spTgt spid="512"/>
                          </p:tgtEl>
                        </p:cond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опрос 1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6840" y="1000080"/>
            <a:ext cx="6257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ой  город  является  географическим  центром  Краснодарского  кра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8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519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0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541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542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4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8" name="Freeform 135"/>
          <p:cNvSpPr/>
          <p:nvPr/>
        </p:nvSpPr>
        <p:spPr>
          <a:xfrm>
            <a:off x="7269120" y="4043520"/>
            <a:ext cx="1009800" cy="625320"/>
          </a:xfrm>
          <a:prstGeom prst="pie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Freeform 136"/>
          <p:cNvSpPr/>
          <p:nvPr/>
        </p:nvSpPr>
        <p:spPr>
          <a:xfrm>
            <a:off x="7278840" y="5086440"/>
            <a:ext cx="993600" cy="471240"/>
          </a:xfrm>
          <a:prstGeom prst="pie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AutoShape 40"/>
          <p:cNvSpPr/>
          <p:nvPr/>
        </p:nvSpPr>
        <p:spPr>
          <a:xfrm>
            <a:off x="755640" y="5429160"/>
            <a:ext cx="5759640" cy="642960"/>
          </a:xfrm>
          <a:prstGeom prst="wedgeRectCallout">
            <a:avLst>
              <a:gd name="adj1" fmla="val -43995"/>
              <a:gd name="adj2" fmla="val 12863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Arial"/>
              </a:rPr>
              <a:t>Город  Кореновс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3" name="Рисунок 39" descr="Кореновск 1.jpg"/>
          <p:cNvPicPr/>
          <p:nvPr/>
        </p:nvPicPr>
        <p:blipFill>
          <a:blip r:embed="rId26"/>
          <a:srcRect l="4299" t="7811" r="4299" b="7811"/>
          <a:stretch/>
        </p:blipFill>
        <p:spPr>
          <a:xfrm>
            <a:off x="1214280" y="2428920"/>
            <a:ext cx="385776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restart="whenNotActive" nodeType="interactiveSeq" fill="hold">
                <p:stCondLst>
                  <p:cond evt="onClick">
                    <p:tgtEl>
                      <p:spTgt spid="548"/>
                    </p:tgtEl>
                  </p:cond>
                </p:stCondLst>
                <p:childTnLst>
                  <p:par>
                    <p:cTn id="549" fill="hold">
                      <p:stCondLst>
                        <p:cond evt="onClick">
                          <p:tgtEl>
                            <p:spTgt spid="548"/>
                          </p:tgtEl>
                        </p:cond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52" dur="60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7" dur="2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558" dur="2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559" dur="2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6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61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62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63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6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5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60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60000"/>
                            </p:stCondLst>
                            <p:childTnLst>
                              <p:par>
                                <p:cTn id="5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1" restart="whenNotActive" nodeType="interactiveSeq" fill="hold">
                <p:stCondLst>
                  <p:cond evt="onClick">
                    <p:tgtEl>
                      <p:spTgt spid="551"/>
                    </p:tgtEl>
                  </p:cond>
                </p:stCondLst>
                <p:childTnLst>
                  <p:par>
                    <p:cTn id="572" fill="hold">
                      <p:stCondLst>
                        <p:cond evt="onClick">
                          <p:tgtEl>
                            <p:spTgt spid="551"/>
                          </p:tgtEl>
                        </p:cond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evt="onClick">
                          <p:tgtEl>
                            <p:spTgt spid="551"/>
                          </p:tgtEl>
                        </p:cond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56760" y="500040"/>
            <a:ext cx="8186760" cy="579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опрос 1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99680" y="1000080"/>
            <a:ext cx="6257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 называются  неглубокие  водоемы, образовавшиеся  в  результате  разливов  степных  и  горных  рек,  скопления  дождевой  воды  в  низменных  местах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7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558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9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580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581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3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7" name="Freeform 135"/>
          <p:cNvSpPr/>
          <p:nvPr/>
        </p:nvSpPr>
        <p:spPr>
          <a:xfrm>
            <a:off x="7269120" y="4043520"/>
            <a:ext cx="1009800" cy="625320"/>
          </a:xfrm>
          <a:prstGeom prst="pie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Freeform 136"/>
          <p:cNvSpPr/>
          <p:nvPr/>
        </p:nvSpPr>
        <p:spPr>
          <a:xfrm>
            <a:off x="7278840" y="5086440"/>
            <a:ext cx="993600" cy="471240"/>
          </a:xfrm>
          <a:prstGeom prst="pie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AutoShape 40"/>
          <p:cNvSpPr/>
          <p:nvPr/>
        </p:nvSpPr>
        <p:spPr>
          <a:xfrm>
            <a:off x="755640" y="5786280"/>
            <a:ext cx="5759640" cy="522360"/>
          </a:xfrm>
          <a:prstGeom prst="wedgeRectCallout">
            <a:avLst>
              <a:gd name="adj1" fmla="val -47777"/>
              <a:gd name="adj2" fmla="val 10887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Arial"/>
              </a:rPr>
              <a:t>Плав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2" name="Рисунок 39" descr="Плавни  в  низовьях  реки  Кубань.jpg"/>
          <p:cNvPicPr/>
          <p:nvPr/>
        </p:nvPicPr>
        <p:blipFill>
          <a:blip r:embed="rId26"/>
          <a:stretch/>
        </p:blipFill>
        <p:spPr>
          <a:xfrm>
            <a:off x="1643040" y="3000240"/>
            <a:ext cx="39290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restart="whenNotActive" nodeType="interactiveSeq" fill="hold">
                <p:stCondLst>
                  <p:cond evt="onClick">
                    <p:tgtEl>
                      <p:spTgt spid="587"/>
                    </p:tgtEl>
                  </p:cond>
                </p:stCondLst>
                <p:childTnLst>
                  <p:par>
                    <p:cTn id="586" fill="hold">
                      <p:stCondLst>
                        <p:cond evt="onClick">
                          <p:tgtEl>
                            <p:spTgt spid="587"/>
                          </p:tgtEl>
                        </p:cond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89" dur="60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2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595" dur="2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596" dur="2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9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8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99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0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2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60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60000"/>
                            </p:stCondLst>
                            <p:childTnLst>
                              <p:par>
                                <p:cTn id="6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590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590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evt="onClick">
                          <p:tgtEl>
                            <p:spTgt spid="590"/>
                          </p:tgtEl>
                        </p:cond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ИНТЕЛЛЕКТУАЛЬНАЯ  ИГР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500040" y="1571760"/>
            <a:ext cx="814392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4d99"/>
                </a:solidFill>
                <a:latin typeface="Arial"/>
              </a:rPr>
              <a:t>«ЗНАТОКИ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4d99"/>
                </a:solidFill>
                <a:latin typeface="Arial"/>
              </a:rPr>
              <a:t>ПРИРОДЫ  КУБАНИ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Рисунок 3" descr="Краснодарский край на глобусе.gif"/>
          <p:cNvPicPr/>
          <p:nvPr/>
        </p:nvPicPr>
        <p:blipFill>
          <a:blip r:embed="rId1"/>
          <a:stretch/>
        </p:blipFill>
        <p:spPr>
          <a:xfrm>
            <a:off x="500040" y="3643200"/>
            <a:ext cx="2857680" cy="2928960"/>
          </a:xfrm>
          <a:prstGeom prst="rect">
            <a:avLst/>
          </a:prstGeom>
          <a:ln w="0">
            <a:noFill/>
          </a:ln>
        </p:spPr>
      </p:pic>
      <p:sp>
        <p:nvSpPr>
          <p:cNvPr id="596" name="TextBox 4"/>
          <p:cNvSpPr/>
          <p:nvPr/>
        </p:nvSpPr>
        <p:spPr>
          <a:xfrm>
            <a:off x="4000680" y="3786120"/>
            <a:ext cx="464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 ГЕОГРАФ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КАТЕГ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БУ  СОШ №7  ИМ. В.П. АДОД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  КОРЕНОВСКИЙ  РАЙ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НЧЕНКО  ОЛЬГА  ВАСИЛЬ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Box 5"/>
          <p:cNvSpPr/>
          <p:nvPr/>
        </p:nvSpPr>
        <p:spPr>
          <a:xfrm>
            <a:off x="4857840" y="628668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12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писок  источников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еография  Кубани. Энциклопедический  словарь. – Майкоп: ОА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Полиграфиздат  «Адыгея», 2007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пулярный  иллюстрированный  географический  словарь  Краснодарского  края /Сост. И.П. Лотышев.- Краснодар:  ОИПЦ  «Перспективы  образования», 2009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гровое поле (автор неизвестен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ймер- Важенин Сергей Валерьевич,  МОУ ООШ с. Закаринье Слободского района Кировской обла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опрос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1000080"/>
            <a:ext cx="6257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ора, высшая  точка  хребта Герцена  и   Краснодарского    края.   Высота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 345,9 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129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151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152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4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Freeform 135"/>
          <p:cNvSpPr/>
          <p:nvPr/>
        </p:nvSpPr>
        <p:spPr>
          <a:xfrm>
            <a:off x="7269120" y="4043520"/>
            <a:ext cx="1009800" cy="625320"/>
          </a:xfrm>
          <a:prstGeom prst="pie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Freeform 136"/>
          <p:cNvSpPr/>
          <p:nvPr/>
        </p:nvSpPr>
        <p:spPr>
          <a:xfrm>
            <a:off x="7278840" y="5086440"/>
            <a:ext cx="993600" cy="471240"/>
          </a:xfrm>
          <a:prstGeom prst="pie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40"/>
          <p:cNvSpPr/>
          <p:nvPr/>
        </p:nvSpPr>
        <p:spPr>
          <a:xfrm>
            <a:off x="785880" y="4929120"/>
            <a:ext cx="5759280" cy="1443240"/>
          </a:xfrm>
          <a:prstGeom prst="wedgeRectCallout">
            <a:avLst>
              <a:gd name="adj1" fmla="val -43745"/>
              <a:gd name="adj2" fmla="val 553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10199"/>
                </a:solidFill>
                <a:latin typeface="Arial"/>
              </a:rPr>
              <a:t>Гора  Цахво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40" descr=""/>
          <p:cNvPicPr/>
          <p:nvPr/>
        </p:nvPicPr>
        <p:blipFill>
          <a:blip r:embed="rId26"/>
          <a:stretch/>
        </p:blipFill>
        <p:spPr>
          <a:xfrm>
            <a:off x="2000160" y="2428920"/>
            <a:ext cx="34290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88" dur="60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2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194" dur="2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195" dur="2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8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9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1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60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60000"/>
                            </p:stCondLst>
                            <p:childTnLst>
                              <p:par>
                                <p:cTn id="20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опрос 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1000080"/>
            <a:ext cx="6257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 каком  море  на  глубине  150-200 м вода   содержит  сероводород, концентрация   которого  у  дна  достигает  11-14  мг/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168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9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190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191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3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" name="Freeform 135"/>
          <p:cNvSpPr/>
          <p:nvPr/>
        </p:nvSpPr>
        <p:spPr>
          <a:xfrm>
            <a:off x="7269120" y="4043520"/>
            <a:ext cx="1009800" cy="625320"/>
          </a:xfrm>
          <a:prstGeom prst="pie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Freeform 136"/>
          <p:cNvSpPr/>
          <p:nvPr/>
        </p:nvSpPr>
        <p:spPr>
          <a:xfrm>
            <a:off x="7278840" y="5086440"/>
            <a:ext cx="993600" cy="471240"/>
          </a:xfrm>
          <a:prstGeom prst="pie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40"/>
          <p:cNvSpPr/>
          <p:nvPr/>
        </p:nvSpPr>
        <p:spPr>
          <a:xfrm>
            <a:off x="755640" y="5643720"/>
            <a:ext cx="5759640" cy="500040"/>
          </a:xfrm>
          <a:prstGeom prst="wedgeRectCallout">
            <a:avLst>
              <a:gd name="adj1" fmla="val -46768"/>
              <a:gd name="adj2" fmla="val 1193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Arial"/>
              </a:rPr>
              <a:t>Черное  мор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41" descr=""/>
          <p:cNvPicPr/>
          <p:nvPr/>
        </p:nvPicPr>
        <p:blipFill>
          <a:blip r:embed="rId26"/>
          <a:srcRect l="0" t="2688" r="5158" b="0"/>
          <a:stretch/>
        </p:blipFill>
        <p:spPr>
          <a:xfrm>
            <a:off x="2460600" y="2643120"/>
            <a:ext cx="21970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222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25" dur="60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231" dur="2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232" dur="2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8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60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60000"/>
                            </p:stCondLst>
                            <p:childTnLst>
                              <p:par>
                                <p:cTn id="2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опрос 3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56760" y="1000080"/>
            <a:ext cx="63579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а равнина  занимает 2/3 террито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аснодарского  края, явля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должением  Русской  равни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 какой равнине идет реч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207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8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229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230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2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Freeform 135"/>
          <p:cNvSpPr/>
          <p:nvPr/>
        </p:nvSpPr>
        <p:spPr>
          <a:xfrm>
            <a:off x="7269120" y="4043520"/>
            <a:ext cx="1009800" cy="625320"/>
          </a:xfrm>
          <a:prstGeom prst="pie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Freeform 136"/>
          <p:cNvSpPr/>
          <p:nvPr/>
        </p:nvSpPr>
        <p:spPr>
          <a:xfrm>
            <a:off x="7278840" y="5086440"/>
            <a:ext cx="993600" cy="471240"/>
          </a:xfrm>
          <a:prstGeom prst="pie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40"/>
          <p:cNvSpPr/>
          <p:nvPr/>
        </p:nvSpPr>
        <p:spPr>
          <a:xfrm>
            <a:off x="785880" y="5286240"/>
            <a:ext cx="5759280" cy="785880"/>
          </a:xfrm>
          <a:prstGeom prst="wedgeRectCallout">
            <a:avLst>
              <a:gd name="adj1" fmla="val -43745"/>
              <a:gd name="adj2" fmla="val 13210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Arial"/>
              </a:rPr>
              <a:t>Азово-Кубан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Arial"/>
              </a:rPr>
              <a:t>(Кубано-Азовска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40" descr=""/>
          <p:cNvPicPr/>
          <p:nvPr/>
        </p:nvPicPr>
        <p:blipFill>
          <a:blip r:embed="rId26"/>
          <a:srcRect l="0" t="0" r="0" b="15604"/>
          <a:stretch/>
        </p:blipFill>
        <p:spPr>
          <a:xfrm>
            <a:off x="1820880" y="3000240"/>
            <a:ext cx="370188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62" dur="60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2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268" dur="2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269" dur="2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1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2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3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5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60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60000"/>
                            </p:stCondLst>
                            <p:childTnLst>
                              <p:par>
                                <p:cTn id="2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опрос 4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1000080"/>
            <a:ext cx="6257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кой  город  края  расположен  на  высоте  35 м над уровнем моря  и  имеет  географические  координаты  45</a:t>
            </a:r>
            <a:r>
              <a:rPr b="1" lang="ru-RU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с.ш. и 39</a:t>
            </a:r>
            <a:r>
              <a:rPr b="1" lang="ru-RU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в.д.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5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246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268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269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1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Freeform 135"/>
          <p:cNvSpPr/>
          <p:nvPr/>
        </p:nvSpPr>
        <p:spPr>
          <a:xfrm>
            <a:off x="7269120" y="4043520"/>
            <a:ext cx="1009800" cy="625320"/>
          </a:xfrm>
          <a:prstGeom prst="pie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Freeform 136"/>
          <p:cNvSpPr/>
          <p:nvPr/>
        </p:nvSpPr>
        <p:spPr>
          <a:xfrm>
            <a:off x="7278840" y="5086440"/>
            <a:ext cx="993600" cy="471240"/>
          </a:xfrm>
          <a:prstGeom prst="pie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AutoShape 40"/>
          <p:cNvSpPr/>
          <p:nvPr/>
        </p:nvSpPr>
        <p:spPr>
          <a:xfrm>
            <a:off x="755640" y="5715000"/>
            <a:ext cx="5759640" cy="593640"/>
          </a:xfrm>
          <a:prstGeom prst="wedgeRectCallout">
            <a:avLst>
              <a:gd name="adj1" fmla="val -46768"/>
              <a:gd name="adj2" fmla="val 8010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10199"/>
                </a:solidFill>
                <a:latin typeface="Arial"/>
              </a:rPr>
              <a:t>Город  Краснод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Рисунок 39" descr="ул Красная г. Краснодара.jpg"/>
          <p:cNvPicPr/>
          <p:nvPr/>
        </p:nvPicPr>
        <p:blipFill>
          <a:blip r:embed="rId26"/>
          <a:stretch/>
        </p:blipFill>
        <p:spPr>
          <a:xfrm>
            <a:off x="1785960" y="3000240"/>
            <a:ext cx="371484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98" dur="60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2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304" dur="2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305" dur="2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7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08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9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1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60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60000"/>
                            </p:stCondLst>
                            <p:childTnLst>
                              <p:par>
                                <p:cTn id="3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опрос 5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85840" y="1000080"/>
            <a:ext cx="66434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а  степная  река  Азово-Кубанской равнины  имеет  два  основных  притока:  Бейсужек  Левый  и  Бейсужек  Правый. О какой  реке идет реч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4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285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6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307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308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0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4" name="Freeform 135"/>
          <p:cNvSpPr/>
          <p:nvPr/>
        </p:nvSpPr>
        <p:spPr>
          <a:xfrm>
            <a:off x="7269120" y="4043520"/>
            <a:ext cx="1009800" cy="625320"/>
          </a:xfrm>
          <a:prstGeom prst="pie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Freeform 136"/>
          <p:cNvSpPr/>
          <p:nvPr/>
        </p:nvSpPr>
        <p:spPr>
          <a:xfrm>
            <a:off x="7278840" y="5086440"/>
            <a:ext cx="993600" cy="471240"/>
          </a:xfrm>
          <a:prstGeom prst="pie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AutoShape 40"/>
          <p:cNvSpPr/>
          <p:nvPr/>
        </p:nvSpPr>
        <p:spPr>
          <a:xfrm>
            <a:off x="857160" y="5429160"/>
            <a:ext cx="5759640" cy="863640"/>
          </a:xfrm>
          <a:prstGeom prst="wedgeRectCallout">
            <a:avLst>
              <a:gd name="adj1" fmla="val -45004"/>
              <a:gd name="adj2" fmla="val 9007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10199"/>
                </a:solidFill>
                <a:latin typeface="Arial"/>
              </a:rPr>
              <a:t>Река  Бейсу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Picture 40" descr=""/>
          <p:cNvPicPr/>
          <p:nvPr/>
        </p:nvPicPr>
        <p:blipFill>
          <a:blip r:embed="rId26"/>
          <a:srcRect l="3446" t="6462" r="3446" b="3231"/>
          <a:stretch/>
        </p:blipFill>
        <p:spPr>
          <a:xfrm>
            <a:off x="1285920" y="2786040"/>
            <a:ext cx="43578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35" dur="60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0" dur="2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341" dur="2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342" dur="2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8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60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0000"/>
                            </p:stCondLst>
                            <p:childTnLst>
                              <p:par>
                                <p:cTn id="3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опрос 6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213840" y="1000080"/>
            <a:ext cx="67150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кое  озеро  расположено  на  Таманском  полуострове в 8 к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 Темрюка?  Вода в нем соленая, а   знаменито   оно   огромными  запасами  лечебной  гряз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324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5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346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347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9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3" name="Freeform 135"/>
          <p:cNvSpPr/>
          <p:nvPr/>
        </p:nvSpPr>
        <p:spPr>
          <a:xfrm>
            <a:off x="7269120" y="4043520"/>
            <a:ext cx="1009800" cy="625320"/>
          </a:xfrm>
          <a:prstGeom prst="pie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Freeform 136"/>
          <p:cNvSpPr/>
          <p:nvPr/>
        </p:nvSpPr>
        <p:spPr>
          <a:xfrm>
            <a:off x="7278840" y="5086440"/>
            <a:ext cx="993600" cy="471240"/>
          </a:xfrm>
          <a:prstGeom prst="pie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AutoShape 40"/>
          <p:cNvSpPr/>
          <p:nvPr/>
        </p:nvSpPr>
        <p:spPr>
          <a:xfrm>
            <a:off x="755640" y="5857920"/>
            <a:ext cx="5759640" cy="428760"/>
          </a:xfrm>
          <a:prstGeom prst="wedgeRectCallout">
            <a:avLst>
              <a:gd name="adj1" fmla="val -48282"/>
              <a:gd name="adj2" fmla="val 12647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Arial"/>
              </a:rPr>
              <a:t>Озеро  Голубицк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Рисунок 39" descr="Озеро  Голубицкое.jpg"/>
          <p:cNvPicPr/>
          <p:nvPr/>
        </p:nvPicPr>
        <p:blipFill>
          <a:blip r:embed="rId26"/>
          <a:stretch/>
        </p:blipFill>
        <p:spPr>
          <a:xfrm>
            <a:off x="2143080" y="342900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368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71" dur="60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6" dur="2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377" dur="2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378" dur="2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7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0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1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2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8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4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60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60000"/>
                            </p:stCondLst>
                            <p:childTnLst>
                              <p:par>
                                <p:cTn id="38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0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опрос 7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000080"/>
            <a:ext cx="6257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ое водохранилище  построено в 1972 году  для обеспечения водой рисовых оросительных систем? Длина его 46 км, а ширина 8-12 к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363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4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385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386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8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2" name="Freeform 135"/>
          <p:cNvSpPr/>
          <p:nvPr/>
        </p:nvSpPr>
        <p:spPr>
          <a:xfrm>
            <a:off x="7269120" y="4043520"/>
            <a:ext cx="1009800" cy="625320"/>
          </a:xfrm>
          <a:prstGeom prst="pie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Freeform 136"/>
          <p:cNvSpPr/>
          <p:nvPr/>
        </p:nvSpPr>
        <p:spPr>
          <a:xfrm>
            <a:off x="7278840" y="5086440"/>
            <a:ext cx="993600" cy="471240"/>
          </a:xfrm>
          <a:prstGeom prst="pie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AutoShape 40"/>
          <p:cNvSpPr/>
          <p:nvPr/>
        </p:nvSpPr>
        <p:spPr>
          <a:xfrm>
            <a:off x="755640" y="5429160"/>
            <a:ext cx="5759640" cy="642960"/>
          </a:xfrm>
          <a:prstGeom prst="wedgeRectCallout">
            <a:avLst>
              <a:gd name="adj1" fmla="val -48282"/>
              <a:gd name="adj2" fmla="val 13640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Arial"/>
              </a:rPr>
              <a:t>Краснодарское  водохранилищ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Picture 40" descr=""/>
          <p:cNvPicPr/>
          <p:nvPr/>
        </p:nvPicPr>
        <p:blipFill>
          <a:blip r:embed="rId26"/>
          <a:stretch/>
        </p:blipFill>
        <p:spPr>
          <a:xfrm>
            <a:off x="1714680" y="2786040"/>
            <a:ext cx="362232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405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08" dur="60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3" dur="2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414" dur="2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415" dur="2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1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7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18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9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2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1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60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60000"/>
                            </p:stCondLst>
                            <p:childTnLst>
                              <p:par>
                                <p:cTn id="42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7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428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опрос 8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285480" y="1000080"/>
            <a:ext cx="67863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ой  город-курорт самый  солнечный  на  Черноморском  побережье  Кавказа?  Среднегодовое количество солнечных дней достигает 27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402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3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424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425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7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1" name="Freeform 135"/>
          <p:cNvSpPr/>
          <p:nvPr/>
        </p:nvSpPr>
        <p:spPr>
          <a:xfrm>
            <a:off x="7269120" y="4043520"/>
            <a:ext cx="1009800" cy="625320"/>
          </a:xfrm>
          <a:prstGeom prst="pie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Freeform 136"/>
          <p:cNvSpPr/>
          <p:nvPr/>
        </p:nvSpPr>
        <p:spPr>
          <a:xfrm>
            <a:off x="7278840" y="5086440"/>
            <a:ext cx="993600" cy="471240"/>
          </a:xfrm>
          <a:prstGeom prst="pie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AutoShape 40"/>
          <p:cNvSpPr/>
          <p:nvPr/>
        </p:nvSpPr>
        <p:spPr>
          <a:xfrm>
            <a:off x="857160" y="5500800"/>
            <a:ext cx="5759640" cy="649080"/>
          </a:xfrm>
          <a:prstGeom prst="wedgeRectCallout">
            <a:avLst>
              <a:gd name="adj1" fmla="val -43745"/>
              <a:gd name="adj2" fmla="val 11157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Arial"/>
              </a:rPr>
              <a:t>Город  Ана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6" name="Picture 40" descr=""/>
          <p:cNvPicPr/>
          <p:nvPr/>
        </p:nvPicPr>
        <p:blipFill>
          <a:blip r:embed="rId26"/>
          <a:stretch/>
        </p:blipFill>
        <p:spPr>
          <a:xfrm>
            <a:off x="1557360" y="2714760"/>
            <a:ext cx="4073400" cy="24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441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44" dur="60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9" dur="2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450" dur="2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451" dur="2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5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3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4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5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7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60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60000"/>
                            </p:stCondLst>
                            <p:childTnLst>
                              <p:par>
                                <p:cTn id="4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3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464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08:57:36Z</dcterms:created>
  <dc:creator>User</dc:creator>
  <dc:description/>
  <dc:language>en-US</dc:language>
  <cp:lastModifiedBy>Admin</cp:lastModifiedBy>
  <dcterms:modified xsi:type="dcterms:W3CDTF">2012-04-15T21:38:01Z</dcterms:modified>
  <cp:revision>17</cp:revision>
  <dc:subject/>
  <dc:title>Слайд 1</dc:title>
</cp:coreProperties>
</file>