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46-1D7C-4420-BB60-BB6C5310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5CC-E01F-44B7-95C6-50048D6C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D66-4D58-4A52-B91B-ACEABBD6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DB2-BD3D-49ED-B766-FA8A50C5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1B9C-6380-4FF1-B047-CC3D9D00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00FE-57FC-4C86-89E0-D9630F7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C265-F347-46B6-BD0F-3B96C77D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5EB4-5CC0-4847-A8A0-A0A63F3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4363-082A-4687-93F1-910D7F5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6A2B-1A9E-4A07-9854-36B0809E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38C1-CB9E-44DB-BE71-0343C45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257-411C-4521-9995-146352C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4A96-3EA8-40A8-BC80-519808A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64D1-0C52-4812-A80F-328F708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5746-2F75-469A-817B-3FC7AE11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F7D-9083-4D82-AD34-5576ED82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3533-F126-4ED9-8158-A109EA6F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555-FA91-498C-A715-94B85BE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AD0-63FC-4A81-8A14-DDEC5235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A02-75F2-41C0-AD85-E2B4ED1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067-770E-441B-AF2D-CC93D85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574-49C7-483A-9524-78677171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3B6-B808-4A81-9F34-0388551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239-65AC-42D0-AC10-666093F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EFAB-8E62-4E5B-8753-9FCC5CCEE7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78A-B1C3-41C7-81CD-91EC9653CDE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ижневартовск-2010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ыступление на заседании методической комиссии по теме самообраз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447920" y="3321000"/>
            <a:ext cx="73911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Дитя требует деятельности беспрестанно, а утомляется не деятельностью, а ее однообразием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.Д. Ушинс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95280" y="6858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пользование информационно  – коммуникативных технологий на уроках биолог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90720" y="839160"/>
            <a:ext cx="761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сновные направления, где оправдано использование компьютер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наглядное представление объектов и явлений биомира;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система тестового контрол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одготовка к ЕГ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роведение лабораторных и практических рабо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304280" y="837720"/>
            <a:ext cx="71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осемь типов компьютерных средст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оторые  используют  в обучении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44440" y="23929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зен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144440" y="28501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лектронные энциклопед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45520" y="330732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дактические материал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43720" y="37645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аммы-тренажер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065600" y="4145400"/>
            <a:ext cx="65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аммные системы контроля знан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066680" y="460260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лектронные учебники и учебные курс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5059800"/>
            <a:ext cx="72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учающие игры и развивающие программ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144080" y="5517000"/>
            <a:ext cx="64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спользование ресурсов сети Интерн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работки преподавател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38080" y="2437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(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ск Биология. 10 класс 1:С Школа</a:t>
            </a: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 Галерея. Анимация. Интерактивные рисунки.  Интерактивные схемы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914400" y="319932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ск Биология. Человек 11 класс 1:С Школа </a:t>
            </a: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Галерея.  Тесты для печати. Курсы. Проверка тем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14400" y="420408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Диск. Лабораторные исследования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ск Биология. Человек 10 класс 1:С Школа. Фотоальбом. Гиалиновый хрящ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14400" y="525672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Демонстрация урок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верка домашнего зада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рагмент урока: выво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ъяснение материала и закрепление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320200" y="838080"/>
            <a:ext cx="6392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еимущества ИКТ для студент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90720" y="257580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>
              <a:buClr>
                <a:srgbClr val="0033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лает занятия интересны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114480">
              <a:buClr>
                <a:srgbClr val="0033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едоставляет больше возможностей для участия в коллективной работе, развивает личные и социальные кач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114480">
              <a:buClr>
                <a:srgbClr val="0033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уденты начинают понимать более сложный материал в результате более ясной, эффективной и динамичной подачи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219320" y="761760"/>
            <a:ext cx="758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помощи персонального компьютер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тудент может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62120" y="25628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 Готовить домашние зада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сматривать энциклопедии на CD-R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 Представлять свои иде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ьзоваться удобными приложениями для создания визуальных през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. Готовиться к экзамена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делать компьютер «репетитором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 Вести исследовательскую работу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ьзоваться обширными ресурсами Интернета в любое врем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гомед</cp:lastModifiedBy>
  <dcterms:modified xsi:type="dcterms:W3CDTF">2013-01-10T20:24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