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227-700A-4FE2-9609-0150ACFC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CDC-5E2B-4E4B-A7FB-F59C570F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EB0-F946-429A-9D2F-5CE1939C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608-8A6F-46BF-B024-386D7D79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B6E9-9133-4068-98AB-88E7DF4C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F271-9748-4564-9D7E-369ADDD8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848D-206A-4E19-9AFF-3850BF6C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9076-0570-4FCD-9F84-9AA1362C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55FA-18C4-47C6-901B-FE9A6E06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E41F-AA1C-4A06-B5E9-DBF7AEF9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C9D8-20BE-4CD6-80A5-FA7FD25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BD8-417D-4488-B415-E595830C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3329-8BE1-4D17-9D12-BDC172E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95C9-82B6-4D58-B19A-B4D774D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4334-2278-4C54-8F41-2D4C74A5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616E-062C-49DC-86C2-CD231158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2459-EB1F-49E1-B449-B8B87063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46B-1E15-40FF-94E5-E4DE0846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2FD-A8CC-4797-A5D8-BA6BAE6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3E2-FD2E-4AB3-A94C-A872AD98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D17-D8A4-4272-BF3B-D25C3905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94F-F503-4B03-955B-2881B509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352-5CB9-4361-86D4-9AE9D51A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E9C-E624-4960-8B87-06F19DBF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9E2F-7012-4677-8CAC-E5739F2E6E7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82C-1775-44D8-B2D6-B3C909685B2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ижневартовск-2010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ыступление на заседании методической комиссии по теме самообраз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1447920" y="3321000"/>
            <a:ext cx="73911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“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Дитя требует деятельности беспрестанно, а утомляется не деятельностью, а ее однообразием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.Д. Ушинс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95280" y="68580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пользование информационно  – коммуникативных технологий на уроках биолог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90720" y="839160"/>
            <a:ext cx="761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Основные направления, где оправдано использование компьютера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наглядное представление объектов и явлений биомира;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система тестового контрол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подготовка к ЕГ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проведение лабораторных и практических рабо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304280" y="837720"/>
            <a:ext cx="719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Восемь типов компьютерных средств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оторые  используют  в обучении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144440" y="23929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зен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144440" y="285012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лектронные энциклопед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45520" y="330732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идактические материал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43720" y="37645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аммы-тренажер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065600" y="4145400"/>
            <a:ext cx="65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граммные системы контроля знан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066680" y="4602600"/>
            <a:ext cx="66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лектронные учебники и учебные курс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141560" y="5059800"/>
            <a:ext cx="72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бучающие игры и развивающие программы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144080" y="5517000"/>
            <a:ext cx="64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спользование ресурсов сети Интернет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работки преподавателя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38080" y="2437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(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ск Биология. 10 класс 1:С Школа</a:t>
            </a: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  Галерея. Анимация. Интерактивные рисунки.  Интерактивные схемы.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914400" y="319932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ск Биология. Человек 11 класс 1:С Школа </a:t>
            </a:r>
            <a:r>
              <a:rPr b="1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 Галерея.  Тесты для печати. Курсы. Проверка тем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14400" y="420408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Диск. Лабораторные исследования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ск Биология. Человек 10 класс 1:С Школа. Фотоальбом. Гиалиновый хрящ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14400" y="525672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Демонстрация уроко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верка домашнего задан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рагмент урока: выво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бъяснение материала и закрепление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320200" y="838080"/>
            <a:ext cx="63925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еимущества ИКТ для студентов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990720" y="257580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14480">
              <a:buClr>
                <a:srgbClr val="0033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лает занятия интересны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114480">
              <a:buClr>
                <a:srgbClr val="0033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едоставляет больше возможностей для участия в коллективной работе, развивает личные и социальные кач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114480">
              <a:buClr>
                <a:srgbClr val="003366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туденты начинают понимать более сложный материал в результате более ясной, эффективной и динамичной подачи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219320" y="761760"/>
            <a:ext cx="758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 помощи персонального компьютер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тудент может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762120" y="25628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1. Готовить домашние задани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осматривать энциклопедии на CD-R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2. Представлять свои иде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ьзоваться удобными приложениями для создания визуальных през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3. Готовиться к экзамена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делать компьютер «репетитором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. Вести исследовательскую работу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ьзоваться обширными ресурсами Интернета в любое врем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гомед</cp:lastModifiedBy>
  <dcterms:modified xsi:type="dcterms:W3CDTF">2013-01-10T20:24:0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