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7C80-0EF3-4F06-AF93-F1D6F4D5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7D34-1E14-4BCD-B646-21A34CC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BE8D-B3B1-4637-B277-2453BC2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2F0C-956A-4FB3-8C0A-DA4C8DE2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281-D220-4DD0-8997-FA919753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369-5C24-465E-A74E-DAA681D6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2623-E322-4F5A-A483-D0993E6A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C0AB-C1DF-41C8-BA5E-AC674DC1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6F9A-CB8E-4BD9-B8B1-4EC1D8BD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BA5-1B72-42D9-93E3-996971A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EC0-7298-4143-9AE7-A96AC5D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07EF-E374-4F73-9701-6B77D33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42AD-9D25-4275-AB22-CAF1C9C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87E-41D5-4949-AC35-99998A9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B249-30CA-47C3-811A-6316DB5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787-2F72-43B2-823B-FBC6B13A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C8B-3BB0-4428-988A-99DD372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9B4C-E610-48D9-B039-085EDC2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2F80-56EB-48A7-8307-6758D121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0927-F434-4B61-BA5E-3C1A1EE4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3164-CE1B-41CD-8739-75F2F7AF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4984-E62E-4A30-B021-6F20513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5CCF-0323-4E4A-84E1-BAFA9FC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0F93-CC67-47BD-88A8-D14A419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0D4-03B2-42DB-AB76-4C8F73A382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70F-C9E1-46B1-A7A6-1D0C09CB495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6;&#1080;&#1084;" TargetMode="External"/><Relationship Id="rId3" Type="http://schemas.openxmlformats.org/officeDocument/2006/relationships/hyperlink" Target="http://ru.wikipedia.org/wiki/&#1042;&#1080;&#1072;_&#1076;&#1077;&#1081;_&#1060;&#1086;&#1088;&#1080;_&#1048;&#1084;&#1087;&#1077;&#1088;&#1080;&#1072;&#1083;&#1080;" TargetMode="External"/><Relationship Id="rId4" Type="http://schemas.openxmlformats.org/officeDocument/2006/relationships/hyperlink" Target="http://ru.wikipedia.org/w/index.php?title=&#1042;&#1080;&#1072;_&#1050;&#1083;&#1072;&#1091;&#1076;&#1080;&#1072;&amp;action=edit&amp;redlink=1" TargetMode="External"/><Relationship Id="rId5" Type="http://schemas.openxmlformats.org/officeDocument/2006/relationships/hyperlink" Target="http://ru.wikipedia.org/wiki/&#1052;&#1086;&#1085;&#1090;&#1080;_%28&#1088;&#1072;&#1081;&#1086;&#1085;%29" TargetMode="External"/><Relationship Id="rId6" Type="http://schemas.openxmlformats.org/officeDocument/2006/relationships/hyperlink" Target="http://ru.wikipedia.org/w/index.php?title=&#1050;&#1072;&#1084;&#1087;&#1080;&#1090;&#1077;&#1083;&#1083;&#1080;_%28&#1088;&#1072;&#1081;&#1086;&#1085;%29&amp;action=edit&amp;redlink=1" TargetMode="External"/><Relationship Id="rId7" Type="http://schemas.openxmlformats.org/officeDocument/2006/relationships/hyperlink" Target="http://ru.wikipedia.org/w/index.php?title=&#1063;&#1077;&#1083;&#1080;&#1086;_%28&#1088;&#1072;&#1081;&#1086;&#1085;%29&amp;action=edit&amp;redlink=1" TargetMode="External"/><Relationship Id="rId8" Type="http://schemas.openxmlformats.org/officeDocument/2006/relationships/hyperlink" Target="http://ru.wikipedia.org/wiki/&#1051;&#1080;&#1085;&#1080;&#1103;_&#1041;&#1080;_%28&#1056;&#1080;&#1084;%29" TargetMode="External"/><Relationship Id="rId9" Type="http://schemas.openxmlformats.org/officeDocument/2006/relationships/hyperlink" Target="http://ru.wikipedia.org/wiki/&#1056;&#1080;&#1084;&#1089;&#1082;&#1080;&#1081;_&#1084;&#1077;&#1090;&#1088;&#1086;&#1087;&#1086;&#1083;&#1080;&#1090;&#1077;&#1085;" TargetMode="External"/><Relationship Id="rId10" Type="http://schemas.openxmlformats.org/officeDocument/2006/relationships/hyperlink" Target="http://ru.wikipedia.org/wiki/&#1050;&#1086;&#1083;&#1080;&#1079;&#1077;&#1081;" TargetMode="External"/><Relationship Id="rId11" Type="http://schemas.openxmlformats.org/officeDocument/2006/relationships/hyperlink" Target="http://ru.wikipedia.org/wiki/&#1047;&#1086;&#1083;&#1086;&#1090;&#1086;&#1081;_&#1076;&#1086;&#1084;_&#1053;&#1077;&#1088;&#1086;&#1085;&#1072;" TargetMode="External"/><Relationship Id="rId12" Type="http://schemas.openxmlformats.org/officeDocument/2006/relationships/hyperlink" Target="http://ru.wikipedia.org/wiki/&#1053;&#1077;&#1088;&#1086;&#1085;" TargetMode="External"/><Relationship Id="rId13" Type="http://schemas.openxmlformats.org/officeDocument/2006/relationships/hyperlink" Target="http://ru.wikipedia.org/wiki/&#1052;&#1077;&#1090;&#1072;_&#1089;&#1091;&#1076;&#1072;&#1085;&#1089;" TargetMode="External"/><Relationship Id="rId14" Type="http://schemas.openxmlformats.org/officeDocument/2006/relationships/hyperlink" Target="http://ru.wikipedia.org/wiki/&#1050;&#1086;&#1083;&#1086;&#1089;&#1089;_&#1053;&#1077;&#1088;&#1086;&#1085;&#1072;" TargetMode="External"/><Relationship Id="rId15" Type="http://schemas.openxmlformats.org/officeDocument/2006/relationships/hyperlink" Target="http://ru.wikipedia.org/wiki/&#1058;&#1088;&#1080;&#1091;&#1084;&#1092;&#1072;&#1083;&#1100;&#1085;&#1072;&#1103;_&#1072;&#1088;&#1082;&#1072;_&#1050;&#1086;&#1085;&#1089;&#1090;&#1072;&#1085;&#1090;&#1080;&#1085;&#1072;" TargetMode="External"/><Relationship Id="rId16" Type="http://schemas.openxmlformats.org/officeDocument/2006/relationships/hyperlink" Target="http://ru.wikipedia.org/wiki/&#1061;&#1088;&#1072;&#1084;_&#1042;&#1077;&#1085;&#1077;&#1088;&#1099;_&#1080;_&#1056;&#1086;&#1084;&#1099;" TargetMode="External"/><Relationship Id="rId17" Type="http://schemas.openxmlformats.org/officeDocument/2006/relationships/hyperlink" Target="http://ru.wikipedia.org/wiki/&#1056;&#1080;&#1084;&#1089;&#1082;&#1080;&#1081;_&#1092;&#1086;&#1088;&#1091;&#1084;" TargetMode="External"/><Relationship Id="rId18" Type="http://schemas.openxmlformats.org/officeDocument/2006/relationships/hyperlink" Target="http://ru.wikipedia.org/w/index.php?title=Ludus_Magnus&amp;action=edit&amp;redlink=1" TargetMode="Externa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Италия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ач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о конц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cc75f2bfc3fff8b50b0de020c683"/>
          <p:cNvPicPr/>
          <p:nvPr/>
        </p:nvPicPr>
        <p:blipFill>
          <a:blip r:embed="rId1"/>
          <a:stretch/>
        </p:blipFill>
        <p:spPr>
          <a:xfrm>
            <a:off x="457200" y="666720"/>
            <a:ext cx="82296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Map2_VeniceOnLine"/>
          <p:cNvPicPr/>
          <p:nvPr/>
        </p:nvPicPr>
        <p:blipFill>
          <a:blip r:embed="rId1"/>
          <a:stretch/>
        </p:blipFill>
        <p:spPr>
          <a:xfrm>
            <a:off x="304920" y="6094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226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не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ужно ходить пешком, а там, где не пройти, можно проехать по воде: существует большое количество речных трамвайчиков, водных такси и знаменитых гондол. Иногда, в период с осени по весну особо высокие приливы затопляют на несколько часов нижние районы города, включая площадь Сан Марк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нец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т на 118 небольших островах между материком и Адриатическим морем. Город пронизан 160 каналами, через которые перекинуты более 400 мостов. Создается такое ощущение, что город вырос прямо из вод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ть осмотр Венеции лучше всего с площади Святого Марка (Piazza San Marco), где стоит величественный Собор Святого Марка, возведенный в 11 веке. Пол в нем выложен мрамором, а стены - золотыми мозаиками. В Соборе Святого Марка хранится настоящий шедевр ювелирного искусства - золотой алтарный образ, усыпанный драгоценными камнями. Его сделал венецианский мастер Джампаоло Бонисенья в 1345 год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7779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лощади Святого Марка также находится Дворец Дожей (Palazzo Ducale). В прошлые века он был официальной резиденцией правителей Венеции. Здесь расположено самое большое помещение в мире, потолок которого не поддерживается опорами - Зала дель Маджор Консильо. Дворец соединен с тюрьмой мостом Вздохов. Свое название он получил из-за того, что в прошлые века по нему проводили заключенных из Дворца Дожей в тюрьму и на этом мосту осужденного могли в последний раз увидеть его родные или близкие и … вздохнуть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равдательных приговоров не выносилось. Значит вздох о близком человеке был последним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31609578_1220309541_VeneziaStemma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еликие люди Итал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фаэ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 светлым и радостным художником эпохи Возрождения был Рафаэль Санти из города Урбино. Его внутренний мир был прекрасен: человек должен быть прекрасен – красивое и сильное тело, всесторонне развитый ум, добрая и отзывчивая душа. Только таких людей изображал художник, таким был и сам. Первые уроки рисования он получил у своего отца – художника и поэта Джованни Санти. В семнадцать лет Рафаэль приехал в город Перуджу и стал учеником художника Перуджино. В 1504 году Рафаэль приезжает во Флоренцию, где в то время жили и работали величайшие художники Италии Леонардо да Винчи и Микеланджело. Рафаэль учится и работает. Более всего его привлекает образ мадонны с ребёнком. Мадонны Рафаэля полны прелести, красоты, глубины, это гармоничный человек, прекрасный душой и телом. «Периодом мадонн» называют флорентийский период творчества Рафаэл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30492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508 г. папа Юлий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гласил Рафаэля в Рим и поручил ему роспись парадных залов Ватиканского дворца. Художник расписал три зала и лучший из них, где с наибольшей полнотой раскрылся талант Рафаэля как монументалиста и декоратора, - Станца делла Сеньятура. В полукружьях стен размещены композиции «Диспут», «Афинская школа», «Парнас», «Мудрость, Мера и Сила». Эти композиции олицетворяют четыре области духовной деятельности человека - богословие, философию, поэзию и юриспруденцию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52640" y="837720"/>
            <a:ext cx="92962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анческо Петра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ранческо Петрарка (Francesco Petrarca), 1304 - 13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т и ученый-гуманист, завоевавший огромный авторитет у современников как филолог, глубокий знаток античной культуры и автор ряда морально-философских трактатов на латыни. В историю же мировой литературы он вошел как автор лирических стихов, написанных на итальянском языке, сделавших его имя бессмертным и оказавших огромное влияние на творчество поэтов последующих поколений. Петрарка родился в городе Ареццо в семье нотариуса. Детство его прошло в Авиньоне, где находился в то время папский двор. Он учился в Болонск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07303e6090a407bd965aa72b0589c40d"/>
          <p:cNvPicPr/>
          <p:nvPr/>
        </p:nvPicPr>
        <p:blipFill>
          <a:blip r:embed="rId1"/>
          <a:stretch/>
        </p:blipFill>
        <p:spPr>
          <a:xfrm>
            <a:off x="685800" y="22860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итете, но затем, бросив занятия юриспруденцией, вернулся в Авиньон и принял духовное звание. Здесь же, в Авиньоне, в 1327 г. он встретил в церкви Лауру, которую любил и благоговейно почитал всю свою жизнь. В 1333 г. Петрарка совершил большое путешествие по Европе с целью «открытия» древних авторов, изучал рукописи, знакомился с крупнейшими учеными. За эпопею на латинском языке «Африка» Петрарка был увенчан лаврами на римском Капитолии. После многих лет путешествий по Италии он уединился в небольшом местечке около Падуи, продолжая филологические изыскания и литературные штудии; там он скончался. И в ученых трудах, и в лирике Петрарки отразились характерные для переходного периода в истории итальянской культуры противоречия между средневековым и новы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анистическим мировоззрением. Горячий поклонник «языческой», то есть античной культуры, страстно любивший жизнь и природу, считавший, что человек рожден для счастья и наслаждения, Петрарка не мог, однако, расстаться с традициями религиозной, аскетической идеологии средневековья и мучительно переживал это глубокое и пугавшее его противоречие. Обессмертив себя замечательной любовной лирикой («Книга песен»), Петрарка вошел также в историю итальянской политической лирики как автор знаменитых канцон, призывающих к миру и объединению Италии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я Итал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ий ду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019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жузеппе Вер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узеппе Фортунино Франческо Верди (итал. Giuseppe Fortunino Francesco Verdi, 10 октября 1813, Ронколе, близ города Буссето, Италия — 27 января 1901, Милан) — выдающийся итальянский композитор, творчество которого является одним из крупнейших достижений мирового оперного искусства и кульминацией развития итальянской оперы XIX века. Композитором созданы более 26 опер и реквием. Лучшие оперы композитора: "Бал-маскарад", "Риголетто", "Трубадур", "Травиата". Вершина творчества - последние оперы: "Аида", "Отелло", "Фальстаф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ди родился в 1813 году (в одном году с Рихардом Вагнером, в будущем его главным соперником и ведущим композитором немецкой оперной школы) в Ле Ронколе, неподалёку от Буссето (Пармское герцогство). Отец композитора, Карло Верди содержал деревенский трактир; мать — Луиджа Уттини, была пряхой. Детство Джузеппе было тяжелым. Семья жила бедно. В деревенской церкви он помогал служить мессу. Музыкальной грамоте и игре на органе учился у Пьетро Байстрокки. Заметив тягу сына к музыке, родители подарили Джузеппе спинет. Этот весьма несовершенный инструмент композитор сохранил до конца свое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илане, куда Верди отправился в возрасте двадцати лет, дабы продолжить образование, в Консерваторию (сегодня носящую имя Верди) его не приняли «из-за низкого уровня фортепианной игры; кроме того, в консерватории были возрастные ограничения». Верди начал брать частные уроки контрапункта, посещая в то же время оперные спектакли, а также просто концерты. Общение с миланским бомондом убедило его всерьёз подумать о карьере театрального композ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увшись в Буссето, Верди женится на Маргарите Барецци. Двое их детей умирают в младенч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30200"/>
            <a:ext cx="7931160" cy="30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лощадь Колизе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лощадь Колизея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итал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it-IT" sz="2300" spc="-1" strike="noStrike">
                <a:solidFill>
                  <a:srgbClr val="ffffff"/>
                </a:solidFill>
                <a:latin typeface="Tahoma"/>
              </a:rPr>
              <a:t>Piazza del Colosseo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) — площадь в центре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Рим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между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Виа дей Фори Империал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Виа Клауди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Расположена на границе районов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Монт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ампителл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Челио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До площади можно добраться со станции метро «Колоссео»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линии Б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Римского метрополите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лощадь названа по находящемуся в центре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Колизею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занимает место пруда, относившегося к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Золотому дому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Неро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До 1930-х годов на площади оставались фрагменты античного фонтана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Мета суданс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основания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Колосса Неро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которые были окончательно разрушены в ходе работ по постройке Виа дей Фори Империали. Рядом с площадью расположены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Триумфальная арка Константи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Храм Венеры и Ромы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Римском форуме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остатки гладиаторской арены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Ludus Magnus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жил для проведения гладиаторских боев, травли диких зверей и устройства «морских сражений» (для этого «сцену» заполняли водой), был построен императорами из династии Флавиев Веспасианом и его сыном Тит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ительство началось в 70 году н.э. Именно тогда Тит, который командовал римскими легионами на Ближнем Востоке, взял Иерусалим и разрушил храм, положив конец долгому и кровопролитному восстанию иудеев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й турист, посетивший Римский форум, может увидеть сцены триумфального шествия на поверхности арки, построенной в честь Тита. На барельефах хорошо видно, как римские легионеры несут трофеи, захваченные в Иерусалимском храме — длинные трубы и огромные ритуальные семисвечник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7" descr="http://www.holidaym.ru/mel/italy/img/colosseum_2.jpg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лоренция и её достопримечательност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058480"/>
            <a:ext cx="670392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орен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столица итальянского Возрождения, мировой центр Искусства и Культуры, где сосредоточена большая часть культурного наследия Италии. Ее улицы, площади, дворцы и храмы украшены творениями великих итальянских мастеров. Леонардо да Винчи, Микеланджело, Данте, Боккачо, Галилей, Джотто - все они флорентийцы. Отсюда берет начало могущественная династия Меди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ый собор в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оренции - Санта-Мария дель Фь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третье по величине сооружение в мире, построенное в XIII - XIV вв. Недалеко от собора находится колокольня Джот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066680" y="129528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залика Санта-Кроч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усыпальница великих людей Италии, является одной из самых знаменитых церквей город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щадь Синьор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исторический центр, где можно полюбоваться на коллекцию скульптур, среди которых шедевры Микеланджело "Давид", Челлини "Персей" и др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ко Флоре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это не только город музеев, но и центр образования, науки и культуры. Здесь есть многочисленные научно-исследовательские институты, а также это место проведения музыкальных фестивалей. Желающие могут посетить старейщий в Европе ботанический сад, его коллекцию начали собирать еще в XVI в. или прогуляться в садах Кашине и Бобол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оре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умела сохранить свой исторический облик, сейчас это музей под открытым небом, где наслаждаются атмосферо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568px-Flag_of_Florence"/>
          <p:cNvPicPr/>
          <p:nvPr/>
        </p:nvPicPr>
        <p:blipFill>
          <a:blip r:embed="rId1"/>
          <a:stretch/>
        </p:blipFill>
        <p:spPr>
          <a:xfrm>
            <a:off x="838080" y="1066680"/>
            <a:ext cx="6782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Картинка 2 из 154680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неция самый прекрасное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есто в Итал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нец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 её великолепными дворцами и романтическими каналами, как будто сошла с картин Каналетто. Одно из прозвищ города - "Безмятежнейшая" ("La Serenissima") - отражает спокойствие чудесного города, невозмутимо качающегося на водах голубой лагуны. Также это имя относится к необычайной мощи, величеству и мудрости, характеризующих город на протяжении веков как непревзойдённый торговый центр между Европой и Востоком и как оплот христианского мира против турецкой экспансии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ческий центр города разделён на шесть кварталов: Сан Марко, Дорсодуро, Сан Поло, Санта Кроче, Каннареджио и Кастелло. Главной артерией города является Гранд Канал, проходящий через каждый район и вьющийся на протяжении всей Венеции, от железнодорожной станции до Сан Мар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06T09:19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