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93D-AE69-4C88-A795-0AE40F6B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5BB-51AE-4EAA-9015-7AFA294C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1D9-4DFB-4EC2-9C96-77A0338F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9849-6DF6-4232-8761-FBE700CC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920-485C-4560-8956-C267BD7B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D3B-5E07-472A-994A-4535F5EC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FC9-27B0-494A-B613-0C02CA3D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A66-AC69-4963-B223-0351C386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745-C44D-479D-A601-5F35FCCB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F73-01D3-49E7-9B9B-9C8B963C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7BB-479A-48FF-AC1F-88ACACC5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41D-1F8B-4B37-B63C-1F9DD6DC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49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267D-DB3D-4746-AE2F-FE2720666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105160" cy="160020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и моя професс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038320" cy="1660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8077320" cy="434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7620120" y="380880"/>
            <a:ext cx="1295280" cy="12398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еримов Магомед Керимович, 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Моя формула учительского сча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5280" y="3500280"/>
            <a:ext cx="374508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ить то,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репода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редмет препода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219640" y="3429000"/>
            <a:ext cx="331308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ить те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у препода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940360" y="4313160"/>
            <a:ext cx="31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учен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3059280" y="1413000"/>
            <a:ext cx="309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ител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539640" y="1916280"/>
            <a:ext cx="2232000" cy="1584000"/>
          </a:xfrm>
          <a:custGeom>
            <a:avLst/>
            <a:gdLst>
              <a:gd name="textAreaLeft" fmla="*/ 298800 w 2232000"/>
              <a:gd name="textAreaRight" fmla="*/ 1933200 w 223200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6516720" y="1700280"/>
            <a:ext cx="2158920" cy="1730160"/>
          </a:xfrm>
          <a:custGeom>
            <a:avLst/>
            <a:gdLst>
              <a:gd name="textAreaLeft" fmla="*/ 289080 w 2158920"/>
              <a:gd name="textAreaRight" fmla="*/ 1869840 w 2158920"/>
              <a:gd name="textAreaTop" fmla="*/ 321480 h 1730160"/>
              <a:gd name="textAreaBottom" fmla="*/ 1161000 h 173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29" stAng="-5400000" swAng="5400000"/>
                <a:lnTo>
                  <a:pt x="21600" y="10478"/>
                </a:lnTo>
                <a:arcTo wR="21600" hR="8029" stAng="0" swAng="2786058"/>
                <a:lnTo>
                  <a:pt x="7200" y="21141"/>
                </a:lnTo>
                <a:lnTo>
                  <a:pt x="0" y="17283"/>
                </a:lnTo>
                <a:lnTo>
                  <a:pt x="7200" y="12506"/>
                </a:lnTo>
                <a:lnTo>
                  <a:pt x="7200" y="15599"/>
                </a:lnTo>
                <a:arcTo wR="21600" hR="8029" stAng="2786058" swAng="-2589082"/>
                <a:lnTo>
                  <a:pt x="21347" y="9254"/>
                </a:lnTo>
                <a:arcTo wR="21600" hR="8029" stAng="-196976" swAng="-5203024"/>
                <a:close/>
              </a:path>
              <a:path fill="darkenLess" w="21600" h="21600">
                <a:moveTo>
                  <a:pt x="0" y="0"/>
                </a:moveTo>
                <a:arcTo wR="21600" hR="8029" stAng="-5400000" swAng="5400000"/>
                <a:lnTo>
                  <a:pt x="21600" y="10478"/>
                </a:lnTo>
                <a:arcTo wR="21600" hR="8029" stAng="0" swAng="-196976"/>
                <a:lnTo>
                  <a:pt x="21347" y="9254"/>
                </a:lnTo>
                <a:arcTo wR="21600" hR="8029" stAng="-196976" swAng="-520302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4140360" y="3933720"/>
            <a:ext cx="1081080" cy="935280"/>
          </a:xfrm>
          <a:custGeom>
            <a:avLst/>
            <a:gdLst>
              <a:gd name="textAreaLeft" fmla="*/ 270360 w 1081080"/>
              <a:gd name="textAreaRight" fmla="*/ 811080 w 1081080"/>
              <a:gd name="textAreaTop" fmla="*/ 233640 h 935280"/>
              <a:gd name="textAreaBottom" fmla="*/ 701640 h 935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692360" y="5516640"/>
            <a:ext cx="5833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2"/>
          <p:cNvSpPr txBox="1"/>
          <p:nvPr/>
        </p:nvSpPr>
        <p:spPr>
          <a:xfrm>
            <a:off x="2340000" y="573408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з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2771640" y="2492280"/>
            <a:ext cx="3745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ЕГО Ц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04124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04124"/>
                </a:solidFill>
                <a:latin typeface="Arial"/>
              </a:rPr>
              <a:t>Моя педагогическая филосо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3924360" y="1052640"/>
            <a:ext cx="158436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042920" y="1844640"/>
            <a:ext cx="3673440" cy="1368360"/>
          </a:xfrm>
          <a:prstGeom prst="rightArrowCallout">
            <a:avLst>
              <a:gd name="adj1" fmla="val 25002"/>
              <a:gd name="adj2" fmla="val 25000"/>
              <a:gd name="adj3" fmla="val 44743"/>
              <a:gd name="adj4" fmla="val 66667"/>
            </a:avLst>
          </a:prstGeom>
          <a:solidFill>
            <a:srgbClr val="ffffff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 час на зем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 глав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258920" y="3645000"/>
            <a:ext cx="3529080" cy="1296720"/>
          </a:xfrm>
          <a:prstGeom prst="rightArrowCallout">
            <a:avLst>
              <a:gd name="adj1" fmla="val 25002"/>
              <a:gd name="adj2" fmla="val 25000"/>
              <a:gd name="adj3" fmla="val 45359"/>
              <a:gd name="adj4" fmla="val 66667"/>
            </a:avLst>
          </a:prstGeom>
          <a:solidFill>
            <a:srgbClr val="ffffff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 человек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мле сам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971640" y="5373720"/>
            <a:ext cx="3887640" cy="1224000"/>
          </a:xfrm>
          <a:prstGeom prst="rightArrowCallout">
            <a:avLst>
              <a:gd name="adj1" fmla="val 25002"/>
              <a:gd name="adj2" fmla="val 25000"/>
              <a:gd name="adj3" fmla="val 52936"/>
              <a:gd name="adj4" fmla="val 66667"/>
            </a:avLst>
          </a:prstGeom>
          <a:solidFill>
            <a:srgbClr val="ffffff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е дело на зем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е главн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203480" y="2482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PE07261_"/>
          <p:cNvPicPr/>
          <p:nvPr/>
        </p:nvPicPr>
        <p:blipFill>
          <a:blip r:embed="rId1"/>
          <a:stretch/>
        </p:blipFill>
        <p:spPr>
          <a:xfrm rot="20851200">
            <a:off x="-34560" y="3757680"/>
            <a:ext cx="1209600" cy="1063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2"/>
          <p:cNvSpPr/>
          <p:nvPr/>
        </p:nvSpPr>
        <p:spPr>
          <a:xfrm>
            <a:off x="4932360" y="2060640"/>
            <a:ext cx="3887640" cy="1297080"/>
          </a:xfrm>
          <a:prstGeom prst="rect">
            <a:avLst/>
          </a:prstGeom>
          <a:solidFill>
            <a:srgbClr val="c0b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й урок – самый глав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бо завтра буд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 другие уро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932360" y="3716280"/>
            <a:ext cx="3887640" cy="936720"/>
          </a:xfrm>
          <a:prstGeom prst="rect">
            <a:avLst/>
          </a:prstGeom>
          <a:solidFill>
            <a:srgbClr val="a5e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й человек для меня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ой студен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5076720" y="4941720"/>
            <a:ext cx="3743280" cy="1727280"/>
          </a:xfrm>
          <a:prstGeom prst="rect">
            <a:avLst/>
          </a:prstGeom>
          <a:solidFill>
            <a:srgbClr val="f8a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жно найти для кажд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них именно то сло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тором 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йчас нужд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и есть мое главное де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Мое приз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я профессия – учит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ё призвание – уч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? Чему? – Я знаю точ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боду, жизнь, людей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44360" y="4149720"/>
            <a:ext cx="8891640" cy="2448000"/>
          </a:xfrm>
          <a:prstGeom prst="rect">
            <a:avLst/>
          </a:prstGeom>
          <a:solidFill>
            <a:srgbClr val="a5e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люблю свою профессию за её уникальное свой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а позволяет нам видеть и люб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ховным ростом своих учеников, через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речаться  с ними, ставшими взрослыми достой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ьми.  Найти свое призвание, утвердиться в нем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и есть моё счаст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Мой девиз: «Во всём соответствовать высокому смыслу слова УЧИТЕЛ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DSC_0004"/>
          <p:cNvPicPr/>
          <p:nvPr/>
        </p:nvPicPr>
        <p:blipFill>
          <a:blip r:embed="rId1"/>
          <a:stretch/>
        </p:blipFill>
        <p:spPr>
          <a:xfrm>
            <a:off x="914400" y="1676520"/>
            <a:ext cx="7446960" cy="46400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Каждый выбирает свой п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выбирает для себ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нщину, религию, дорог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ьяволу служить или пророку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выбирает для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выбирает по себ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ово для любви и для молит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пагу для дуэли, меч для бит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выбирает по 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выбирает по 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Щит и латы, посох и заплат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ру окончательной рас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выбирает по 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выбирает для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бираю тоже — как уме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 к кому претензий не име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выбирает для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Ю. Левитанск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81480" y="1294920"/>
            <a:ext cx="3276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DSC_0038"/>
          <p:cNvPicPr/>
          <p:nvPr/>
        </p:nvPicPr>
        <p:blipFill>
          <a:blip r:embed="rId1"/>
          <a:stretch/>
        </p:blipFill>
        <p:spPr>
          <a:xfrm>
            <a:off x="5181480" y="1295280"/>
            <a:ext cx="331956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274320"/>
            <a:ext cx="502920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НСК Супер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DSC_0032"/>
          <p:cNvPicPr/>
          <p:nvPr/>
        </p:nvPicPr>
        <p:blipFill>
          <a:blip r:embed="rId1"/>
          <a:stretch/>
        </p:blipFill>
        <p:spPr>
          <a:xfrm>
            <a:off x="973080" y="1600200"/>
            <a:ext cx="300672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39625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любие, упорств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вкость, точность и проворств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это эп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лого стро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038320" cy="1660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8"/>
          <p:cNvSpPr txBox="1"/>
          <p:nvPr/>
        </p:nvSpPr>
        <p:spPr>
          <a:xfrm>
            <a:off x="685800" y="6172200"/>
            <a:ext cx="815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риходите к нам учитьс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еримов Магомед Керим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Стаж работ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0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Образован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сш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гестанский государственный педагогический инстит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Интерес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порт, семья, общение с прир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ый образ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Награды: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оты Управления образования города Нижневарт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000,2003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DSC_0043"/>
          <p:cNvPicPr/>
          <p:nvPr/>
        </p:nvPicPr>
        <p:blipFill>
          <a:blip r:embed="rId1"/>
          <a:stretch/>
        </p:blipFill>
        <p:spPr>
          <a:xfrm>
            <a:off x="5638680" y="1447920"/>
            <a:ext cx="2854440" cy="414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4191120" y="4648320"/>
            <a:ext cx="1590480" cy="22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156384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Scan (6)"/>
          <p:cNvPicPr/>
          <p:nvPr/>
        </p:nvPicPr>
        <p:blipFill>
          <a:blip r:embed="rId4"/>
          <a:stretch/>
        </p:blipFill>
        <p:spPr>
          <a:xfrm>
            <a:off x="7467480" y="4648320"/>
            <a:ext cx="1676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1:24:19Z</dcterms:created>
  <dc:creator>Администратор</dc:creator>
  <dc:description/>
  <dc:language>en-US</dc:language>
  <cp:lastModifiedBy>Магомед</cp:lastModifiedBy>
  <dcterms:modified xsi:type="dcterms:W3CDTF">2013-01-13T16:54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