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8AA-0BD3-4480-909C-104476B4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5CC-AB67-4917-AE09-EC30F441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C513-0259-43D0-9224-A134C839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5A9-69E8-4DB5-9AF6-1FEFA0F9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3EF6-F6E5-478F-BC66-83AB0094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83D-2F3C-4EC4-8C5F-133D555C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56E7-F8E1-4CED-ABC8-4FD86F60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632-E1B5-4F52-84C9-2FC7F282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E52-253D-4E57-90C3-AD65E0DA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B25F-D17E-412A-8F55-C5F96566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7A60-9E82-44EA-A899-EBA45CE9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239-F44F-4A00-AFE0-718CBEB9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3102-678E-441D-B6F7-50AC00A350C6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08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Личность преподавателя в ВУЗ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348000" y="3886200"/>
            <a:ext cx="2448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Ира\Desktop\роякко.jpg"/>
          <p:cNvPicPr/>
          <p:nvPr/>
        </p:nvPicPr>
        <p:blipFill>
          <a:blip r:embed="rId1"/>
          <a:stretch/>
        </p:blipFill>
        <p:spPr>
          <a:xfrm>
            <a:off x="2259000" y="2701800"/>
            <a:ext cx="434808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Коммуникативные способ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1600200"/>
            <a:ext cx="83628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- это способности к общению с обучаемыми, умение найти правильный подход к обучаемым, установить с ними контакт.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Ира\Desktop\2085380.jpg"/>
          <p:cNvPicPr/>
          <p:nvPr/>
        </p:nvPicPr>
        <p:blipFill>
          <a:blip r:embed="rId1"/>
          <a:srcRect l="0" t="11159" r="0" b="52302"/>
          <a:stretch/>
        </p:blipFill>
        <p:spPr>
          <a:xfrm>
            <a:off x="2484360" y="4005360"/>
            <a:ext cx="424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пособности к распределению вним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599840"/>
            <a:ext cx="5076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- это способность предвидения последствий своих действий, это умение прогнозировать развитие тех или иных событий. Эта способность тесно связана с оптимизмом, верой в обучаемого, в его способности и ум.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Ира\Desktop\68493.jpg"/>
          <p:cNvPicPr/>
          <p:nvPr/>
        </p:nvPicPr>
        <p:blipFill>
          <a:blip r:embed="rId1"/>
          <a:stretch/>
        </p:blipFill>
        <p:spPr>
          <a:xfrm>
            <a:off x="5148360" y="2205000"/>
            <a:ext cx="37400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Черты взрослых, которые импонируют (нравятся) молодеж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684360" y="765000"/>
          <a:ext cx="7704000" cy="47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65000"/>
                    <a:ext cx="7704000" cy="47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6"/>
          <p:cNvSpPr/>
          <p:nvPr/>
        </p:nvSpPr>
        <p:spPr>
          <a:xfrm>
            <a:off x="971640" y="515772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8000"/>
                </a:solidFill>
                <a:latin typeface="Arial"/>
              </a:rPr>
              <a:t>Далее следуют: опрятность, умение найти общий язык с молодёжью, искренность, ум, трезвость и т.д.</a:t>
            </a:r>
            <a:r>
              <a:rPr b="0" i="1" lang="ru-RU" sz="2400" spc="-1" strike="noStrike">
                <a:solidFill>
                  <a:srgbClr val="008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Черты взрослых, которые не импонируют (не нравятся) молодеж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Object 4"/>
          <p:cNvGraphicFramePr/>
          <p:nvPr/>
        </p:nvGraphicFramePr>
        <p:xfrm>
          <a:off x="900000" y="836640"/>
          <a:ext cx="7391520" cy="49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836640"/>
                    <a:ext cx="739152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6"/>
          <p:cNvSpPr/>
          <p:nvPr/>
        </p:nvSpPr>
        <p:spPr>
          <a:xfrm>
            <a:off x="755640" y="515772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Далее следуют: неряшливость, страсть к спиртному, глупость, лицемерие, неумение понять молодёжь и т.д.</a:t>
            </a:r>
            <a:r>
              <a:rPr b="0" i="1" lang="ru-RU" sz="2000" spc="-1" strike="noStrike">
                <a:solidFill>
                  <a:srgbClr val="0033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оджерс считает, что преподаватель сможет создать в аудитории нужную атмосферу, 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если он будет 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уководствоваться следующими принципами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560" y="2781000"/>
            <a:ext cx="78598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1. С самого начала и на всем протяжении учебного процесса преподаватель должен демонстрировать полное доверие к обучаем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2. Он должен помогать обучаемым в формулировании и уточнении целей и задач, стоящих как перед группами, так и перед каждым обучаемыми в отд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3. Он должен всегда исходить их того, что у обучаемых есть внутренняя мотивация к обучению.</a:t>
            </a: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4. Он должен выступать для обучаемого как источник разнообразного опыта, к которому всегда можно обратиться за помощью, столкнувшись с трудностями в решении той или иной пробл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5. Важно, чтобы в такой роли он выступал для каждого уче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6. Он должен развивать в себе способность чувство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7. Он должен быть активным участником группового взаимодей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8. Он должен открыто выражать в группе свои чув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9. Он должен стремиться к достижению эмпатии, позволяющей понимать чувства и переживания каждого учащего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10. Наконец, он должен хорошо знать себя.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80"/>
                </a:solidFill>
                <a:latin typeface="Arial"/>
              </a:rPr>
              <a:t>05076966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47640" y="1916280"/>
            <a:ext cx="5904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120195875475785"/>
          <p:cNvPicPr/>
          <p:nvPr/>
        </p:nvPicPr>
        <p:blipFill>
          <a:blip r:embed="rId1"/>
          <a:stretch/>
        </p:blipFill>
        <p:spPr>
          <a:xfrm>
            <a:off x="826920" y="1413000"/>
            <a:ext cx="76201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пля долбит камень не силой, а частото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 rot="10800000">
            <a:off x="11125080" y="6237360"/>
            <a:ext cx="4320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988920" y="1989000"/>
            <a:ext cx="7399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йте детству созреть в детств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324000" y="3465360"/>
            <a:ext cx="878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нимание —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чало соглас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963720"/>
            <a:ext cx="8229600" cy="734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Чем больше у меня работы, тем больше я учусь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96720" y="6249960"/>
          <a:ext cx="1717560" cy="230040"/>
        </p:xfrm>
        <a:graphic>
          <a:graphicData uri="http://schemas.openxmlformats.org/drawingml/2006/table">
            <a:tbl>
              <a:tblPr/>
              <a:tblGrid>
                <a:gridCol w="1717560"/>
              </a:tblGrid>
              <a:tr h="117360">
                <a:tc>
                  <a:txBody>
                    <a:bodyPr lIns="6480" rIns="6480" tIns="0" bIns="0" anchor="t">
                      <a:noAutofit/>
                    </a:bodyPr>
                    <a:p>
                      <a:pPr marL="1114560" indent="-1114560" algn="ctr"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чше выучить лишнее, чем не</a:t>
                      </a:r>
                      <a:r>
                        <a:rPr b="0" lang="uk-UA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учит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2680">
                <a:tc>
                  <a:txBody>
                    <a:bodyPr lIns="6480" rIns="6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лай свое дело и познай самого себ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971640" y="3500280"/>
          <a:ext cx="7802640" cy="3292560"/>
        </p:xfrm>
        <a:graphic>
          <a:graphicData uri="http://schemas.openxmlformats.org/drawingml/2006/table">
            <a:tbl>
              <a:tblPr/>
              <a:tblGrid>
                <a:gridCol w="7802640"/>
              </a:tblGrid>
              <a:tr h="1646280">
                <a:tc>
                  <a:txBody>
                    <a:bodyPr lIns="25560" rIns="25560" tIns="0" bIns="0" anchor="t">
                      <a:noAutofit/>
                    </a:bodyPr>
                    <a:p>
                      <a:pPr marL="1114560" indent="-1114560"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Лучше выучить лишнее, чем не</a:t>
                      </a:r>
                      <a:r>
                        <a:rPr b="0" lang="uk-UA" sz="54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доучит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462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Делай свое дело и познай самого себ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8360" y="260280"/>
          <a:ext cx="8136000" cy="649152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143820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дин алмаз полирует другой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9420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Идти к цели через опыт и учиться на ошибках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591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Часы работы научат большему, чем день объяснений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С точки зрения содержательных характеристик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реимущественная ориентация преподавателя либо на процесс обучения, либо на процесс и результаты обучения, а может лишь на результаты обуч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- Адекватность - неадекватность планирования учебно-воспитательного проце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-  Оперативность - консервативность в использовании средств и способов педагогической деятельн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- Рефлексивность – интуитив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9640" y="189000"/>
          <a:ext cx="8353440" cy="6624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22413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Не мыслям нужно учить,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а мышлению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992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Дари свет, темнота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исчезнет сам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434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Наша личность — это сад,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303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800" spc="-1" strike="noStrike">
                          <a:solidFill>
                            <a:srgbClr val="cc00cc"/>
                          </a:solidFill>
                          <a:latin typeface="Times New Roman"/>
                          <a:ea typeface="Times New Roman"/>
                        </a:rPr>
                        <a:t>а наша воля — его садовник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Динамические характерист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Гибкость - традицион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Импульсивность - осторожнос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Устойчивость - неустойчивость по отношению к изменяющейся ситу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Стабильно положительно-эмоциональное отношение к учащимся - неустойчивое эмоциональное отнош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Наличие личностной тревожности - отсутствие личностной тревож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В неблагоприятной ситуации направленность рефлексии на себя - направленность на обстоятельства - направленность на друг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Результативные характерист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днородность - неоднородность уровня знаний учащих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абильность - неустойчивость у учащихся навыков учен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ысокий - средний - низкий уровень интереса к изучаемому предме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Дидактические способ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412640"/>
            <a:ext cx="5076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- это способности преподавателя передавать студентам учебный материал, делать его доступным для них, преподносить им проблему ясно и понятно, вызывать интерес к предмету, возбуждать у аудитории активную самостоятельную мысл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Ира\Desktop\картинк\znaniesvet.jpg"/>
          <p:cNvPicPr/>
          <p:nvPr/>
        </p:nvPicPr>
        <p:blipFill>
          <a:blip r:embed="rId1"/>
          <a:stretch/>
        </p:blipFill>
        <p:spPr>
          <a:xfrm>
            <a:off x="5168880" y="1484280"/>
            <a:ext cx="361620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Академические способ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- это способности к соответствующей области науки. Способный преподаватель знает предмет не только в объеме, а значительно шире и глубже, постоянно следит за открытиями в своей науке, абсолютно свободно владеет материалом, проявляет к нему интерес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Ира\Desktop\451024-8med.jpg"/>
          <p:cNvPicPr/>
          <p:nvPr/>
        </p:nvPicPr>
        <p:blipFill>
          <a:blip r:embed="rId1"/>
          <a:stretch/>
        </p:blipFill>
        <p:spPr>
          <a:xfrm>
            <a:off x="5435640" y="2352600"/>
            <a:ext cx="35481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ерцептивные способ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196640"/>
            <a:ext cx="8218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- это способности проникать во внутренний мир обучаемого, как личности, психологическая наблюдательность, связанная с тонким пониманием личности обучаемого и его временных психологических состояний.</a:t>
            </a:r>
            <a:r>
              <a:rPr b="0" lang="ru-RU" sz="2800" spc="-1" strike="noStrike">
                <a:solidFill>
                  <a:srgbClr val="cc00c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:\Users\Ира\Desktop\Friendship.jpg"/>
          <p:cNvPicPr/>
          <p:nvPr/>
        </p:nvPicPr>
        <p:blipFill>
          <a:blip r:embed="rId1"/>
          <a:stretch/>
        </p:blipFill>
        <p:spPr>
          <a:xfrm>
            <a:off x="2484360" y="3860640"/>
            <a:ext cx="417996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Речевые способ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981000"/>
            <a:ext cx="8964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- это способность четко и ясно выражать мысли и чувства с помощью речи, а также мимики и пантомимики, это одна из важнейших способностей профессии преподавателя, так как передача информации от преподавателя к обучаемому носит в основном невербальный характер.</a:t>
            </a: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Ира\Desktop\speaker.jpg"/>
          <p:cNvPicPr/>
          <p:nvPr/>
        </p:nvPicPr>
        <p:blipFill>
          <a:blip r:embed="rId1"/>
          <a:stretch/>
        </p:blipFill>
        <p:spPr>
          <a:xfrm>
            <a:off x="1619280" y="4067280"/>
            <a:ext cx="59436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Организаторские способ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125360"/>
            <a:ext cx="889308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- это способности организовывать аудиторию, свою собственную работу. Организация собственной работы предполагает умение правильно планировать и самому контролировать ее.</a:t>
            </a:r>
            <a:r>
              <a:rPr b="0" lang="ru-RU" sz="3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Ира\Desktop\картинк\Latino student group.jpg"/>
          <p:cNvPicPr/>
          <p:nvPr/>
        </p:nvPicPr>
        <p:blipFill>
          <a:blip r:embed="rId1"/>
          <a:stretch/>
        </p:blipFill>
        <p:spPr>
          <a:xfrm>
            <a:off x="2340000" y="3645000"/>
            <a:ext cx="48769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20:57Z</dcterms:created>
  <dc:creator>Ира</dc:creator>
  <dc:description/>
  <dc:language>en-US</dc:language>
  <cp:lastModifiedBy>Rita</cp:lastModifiedBy>
  <dcterms:modified xsi:type="dcterms:W3CDTF">2013-01-12T12:50:12Z</dcterms:modified>
  <cp:revision>26</cp:revision>
  <dc:subject/>
  <dc:title>Презентация PowerPoint</dc:title>
</cp:coreProperties>
</file>