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6.jpeg" ContentType="image/jpeg"/>
  <Override PartName="/ppt/media/image9.jpeg" ContentType="image/jpeg"/>
  <Override PartName="/ppt/media/image40.png" ContentType="image/png"/>
  <Override PartName="/ppt/media/image24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3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6EF-78D4-427B-8095-10ADFC21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B9F-54FF-4294-93E8-EA91E284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805-74EF-48BD-90E3-426C156A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6A4-6600-4033-8C19-AFAEA84D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298-8693-4D55-BD82-57832D2A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066-0D32-4F83-9F25-72EE02B1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31A-7B97-4778-8C72-B4E81FC8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5C3-E753-48F9-88CB-52351992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D14-FB32-42F6-BC0F-22F1D7A4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D11-8E37-4D2C-8A3A-168D04F2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4C3-78AF-405C-9AC5-538469FC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42F-CEAE-4ADF-BBA9-D5F1E870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404A-E531-4FB6-8BA0-9163C109B4E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76280" y="139680"/>
            <a:ext cx="8191440" cy="3079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211280" y="4005360"/>
            <a:ext cx="4753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Не существует сколько-нибудь           достоверных тестов на одарённость, кроме тех, которые проявляются в результате активного участия хотя бы в самой маленькой поисковой исследовательской работе.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А.Н.Колмого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3"/>
          <p:cNvPicPr/>
          <p:nvPr/>
        </p:nvPicPr>
        <p:blipFill>
          <a:blip r:embed="rId2"/>
          <a:stretch/>
        </p:blipFill>
        <p:spPr>
          <a:xfrm>
            <a:off x="395280" y="3581280"/>
            <a:ext cx="3240000" cy="2808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88640"/>
            <a:ext cx="3035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32360" y="1125360"/>
            <a:ext cx="389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ведение экспериментов, опытов и виртуальных лабораторных работ,                                  разработка, защита и применение исследовательских проектов, а также руководство исследовательской учебной и внеурочной деятельностью учащихся ведется  с использованием  компьютерного программно-аппаратного комплекса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F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C:\Users\Антоша\Pictures\MP Navigator EX\2012_12_02\IMG.jpg"/>
          <p:cNvPicPr/>
          <p:nvPr/>
        </p:nvPicPr>
        <p:blipFill>
          <a:blip r:embed="rId1"/>
          <a:stretch/>
        </p:blipFill>
        <p:spPr>
          <a:xfrm>
            <a:off x="539640" y="3213000"/>
            <a:ext cx="22971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Антоша\Pictures\MP Navigator EX\2012_12_02\IMG.jpg"/>
          <p:cNvPicPr/>
          <p:nvPr/>
        </p:nvPicPr>
        <p:blipFill>
          <a:blip r:embed="rId2"/>
          <a:stretch/>
        </p:blipFill>
        <p:spPr>
          <a:xfrm>
            <a:off x="2771640" y="4292640"/>
            <a:ext cx="2433600" cy="227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Антоша\Pictures\MP Navigator EX\2012_12_02\IMG_0001.jpg"/>
          <p:cNvPicPr/>
          <p:nvPr/>
        </p:nvPicPr>
        <p:blipFill>
          <a:blip r:embed="rId4"/>
          <a:stretch/>
        </p:blipFill>
        <p:spPr>
          <a:xfrm>
            <a:off x="2843280" y="170028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1646280" y="146160"/>
            <a:ext cx="6411960" cy="1463400"/>
          </a:xfrm>
          <a:prstGeom prst="rect">
            <a:avLst/>
          </a:prstGeom>
          <a:ln w="0">
            <a:noFill/>
          </a:ln>
        </p:spPr>
      </p:pic>
      <p:pic>
        <p:nvPicPr>
          <p:cNvPr id="97" name="Подзаголовок 2" descr=""/>
          <p:cNvPicPr/>
          <p:nvPr/>
        </p:nvPicPr>
        <p:blipFill>
          <a:blip r:embed="rId3"/>
          <a:stretch/>
        </p:blipFill>
        <p:spPr>
          <a:xfrm>
            <a:off x="103320" y="1908000"/>
            <a:ext cx="8083440" cy="4694400"/>
          </a:xfrm>
          <a:prstGeom prst="rect">
            <a:avLst/>
          </a:prstGeom>
          <a:ln w="0">
            <a:noFill/>
          </a:ln>
        </p:spPr>
      </p:pic>
      <p:pic>
        <p:nvPicPr>
          <p:cNvPr id="98" name="Овал 4" descr=""/>
          <p:cNvPicPr/>
          <p:nvPr/>
        </p:nvPicPr>
        <p:blipFill>
          <a:blip r:embed="rId4"/>
          <a:stretch/>
        </p:blipFill>
        <p:spPr>
          <a:xfrm>
            <a:off x="-19080" y="1682640"/>
            <a:ext cx="3243240" cy="14018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5"/>
          <a:stretch/>
        </p:blipFill>
        <p:spPr>
          <a:xfrm>
            <a:off x="195120" y="3413160"/>
            <a:ext cx="2432160" cy="2122560"/>
          </a:xfrm>
          <a:prstGeom prst="rect">
            <a:avLst/>
          </a:prstGeom>
          <a:ln w="0">
            <a:noFill/>
          </a:ln>
        </p:spPr>
      </p:pic>
      <p:pic>
        <p:nvPicPr>
          <p:cNvPr id="100" name="Овал 6" descr=""/>
          <p:cNvPicPr/>
          <p:nvPr/>
        </p:nvPicPr>
        <p:blipFill>
          <a:blip r:embed="rId6"/>
          <a:stretch/>
        </p:blipFill>
        <p:spPr>
          <a:xfrm>
            <a:off x="2828880" y="2189160"/>
            <a:ext cx="3200400" cy="1474920"/>
          </a:xfrm>
          <a:prstGeom prst="rect">
            <a:avLst/>
          </a:prstGeom>
          <a:ln w="0">
            <a:noFill/>
          </a:ln>
        </p:spPr>
      </p:pic>
      <p:pic>
        <p:nvPicPr>
          <p:cNvPr id="101" name="Овал 7" descr=""/>
          <p:cNvPicPr/>
          <p:nvPr/>
        </p:nvPicPr>
        <p:blipFill>
          <a:blip r:embed="rId7"/>
          <a:stretch/>
        </p:blipFill>
        <p:spPr>
          <a:xfrm>
            <a:off x="5492880" y="2548080"/>
            <a:ext cx="3468600" cy="15476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8" descr=""/>
          <p:cNvPicPr/>
          <p:nvPr/>
        </p:nvPicPr>
        <p:blipFill>
          <a:blip r:embed="rId8"/>
          <a:stretch/>
        </p:blipFill>
        <p:spPr>
          <a:xfrm>
            <a:off x="2646360" y="3840120"/>
            <a:ext cx="2809800" cy="27003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9" descr=""/>
          <p:cNvPicPr/>
          <p:nvPr/>
        </p:nvPicPr>
        <p:blipFill>
          <a:blip r:embed="rId9"/>
          <a:stretch/>
        </p:blipFill>
        <p:spPr>
          <a:xfrm>
            <a:off x="5956200" y="4200480"/>
            <a:ext cx="28828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272360" cy="1143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Исследовательски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ерсональные прое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521080" cy="3781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3527640" cy="314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108000" y="1628640"/>
            <a:ext cx="374472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41720" cy="2692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42480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И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155520" y="-685800"/>
            <a:ext cx="1847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685800"/>
            <a:ext cx="1847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:\Users\Антоша\Pictures\MP Navigator EX\2012_12_02\IMG_0001.jpg"/>
          <p:cNvPicPr/>
          <p:nvPr/>
        </p:nvPicPr>
        <p:blipFill>
          <a:blip r:embed="rId2"/>
          <a:stretch/>
        </p:blipFill>
        <p:spPr>
          <a:xfrm>
            <a:off x="3851280" y="3164040"/>
            <a:ext cx="49500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49120" y="158760"/>
            <a:ext cx="8650440" cy="8348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3"/>
          <a:stretch/>
        </p:blipFill>
        <p:spPr>
          <a:xfrm>
            <a:off x="731880" y="1554120"/>
            <a:ext cx="320688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4"/>
          <a:stretch/>
        </p:blipFill>
        <p:spPr>
          <a:xfrm>
            <a:off x="2792520" y="3425760"/>
            <a:ext cx="3504960" cy="1023840"/>
          </a:xfrm>
          <a:prstGeom prst="rect">
            <a:avLst/>
          </a:prstGeom>
          <a:ln w="0">
            <a:noFill/>
          </a:ln>
        </p:spPr>
      </p:pic>
      <p:pic>
        <p:nvPicPr>
          <p:cNvPr id="116" name="Скругленный прямоугольник 5" descr=""/>
          <p:cNvPicPr/>
          <p:nvPr/>
        </p:nvPicPr>
        <p:blipFill>
          <a:blip r:embed="rId5"/>
          <a:stretch/>
        </p:blipFill>
        <p:spPr>
          <a:xfrm>
            <a:off x="500040" y="5205240"/>
            <a:ext cx="3852720" cy="1043280"/>
          </a:xfrm>
          <a:prstGeom prst="rect">
            <a:avLst/>
          </a:prstGeom>
          <a:ln w="0">
            <a:noFill/>
          </a:ln>
        </p:spPr>
      </p:pic>
      <p:pic>
        <p:nvPicPr>
          <p:cNvPr id="117" name="Скругленный прямоугольник 6" descr=""/>
          <p:cNvPicPr/>
          <p:nvPr/>
        </p:nvPicPr>
        <p:blipFill>
          <a:blip r:embed="rId6"/>
          <a:stretch/>
        </p:blipFill>
        <p:spPr>
          <a:xfrm>
            <a:off x="4413240" y="5194440"/>
            <a:ext cx="3895560" cy="1047600"/>
          </a:xfrm>
          <a:prstGeom prst="rect">
            <a:avLst/>
          </a:prstGeom>
          <a:ln w="0">
            <a:noFill/>
          </a:ln>
        </p:spPr>
      </p:pic>
      <p:sp>
        <p:nvSpPr>
          <p:cNvPr id="118" name="Стрелка вниз 7"/>
          <p:cNvSpPr/>
          <p:nvPr/>
        </p:nvSpPr>
        <p:spPr>
          <a:xfrm>
            <a:off x="5857920" y="4429080"/>
            <a:ext cx="484200" cy="7621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низ 8"/>
          <p:cNvSpPr/>
          <p:nvPr/>
        </p:nvSpPr>
        <p:spPr>
          <a:xfrm>
            <a:off x="2786040" y="4429080"/>
            <a:ext cx="485640" cy="79236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9" descr=""/>
          <p:cNvPicPr/>
          <p:nvPr/>
        </p:nvPicPr>
        <p:blipFill>
          <a:blip r:embed="rId7"/>
          <a:stretch/>
        </p:blipFill>
        <p:spPr>
          <a:xfrm>
            <a:off x="5194440" y="1627200"/>
            <a:ext cx="3206520" cy="1738440"/>
          </a:xfrm>
          <a:prstGeom prst="rect">
            <a:avLst/>
          </a:prstGeom>
          <a:ln w="0">
            <a:noFill/>
          </a:ln>
        </p:spPr>
      </p:pic>
      <p:sp>
        <p:nvSpPr>
          <p:cNvPr id="121" name="Стрелка вниз 10"/>
          <p:cNvSpPr/>
          <p:nvPr/>
        </p:nvSpPr>
        <p:spPr>
          <a:xfrm>
            <a:off x="2000160" y="107172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низ 11"/>
          <p:cNvSpPr/>
          <p:nvPr/>
        </p:nvSpPr>
        <p:spPr>
          <a:xfrm>
            <a:off x="6572160" y="107172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545080" cy="12826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учный аппарат исслед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55520" y="-685800"/>
            <a:ext cx="10191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155520" y="-1851120"/>
            <a:ext cx="27241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ъект и изучаемое свойство (предм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тод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орудование и матери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хема опыта (эксперимента и/или 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атистическая обработка опытных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глядное представление опытных дан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ДЕРАЛЬНЫЙ ГОСУДАРСТВЕННЫЙ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ОБРАЗОВАТЕЛЬНЫЙ СТАНДАР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ого поко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2" descr=""/>
          <p:cNvPicPr/>
          <p:nvPr/>
        </p:nvPicPr>
        <p:blipFill>
          <a:blip r:embed="rId1"/>
          <a:stretch/>
        </p:blipFill>
        <p:spPr>
          <a:xfrm>
            <a:off x="396720" y="1596960"/>
            <a:ext cx="83505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244440" y="212760"/>
            <a:ext cx="865044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Что такое школьны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468360" y="1773360"/>
            <a:ext cx="3600360" cy="177804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орма проблемного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4859280" y="1916280"/>
            <a:ext cx="3457800" cy="172692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орма проблемного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395280" y="4292640"/>
            <a:ext cx="3745080" cy="156204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етод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4572000" y="4365720"/>
            <a:ext cx="3816360" cy="15112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ид самостоятельно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лассификация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124000" y="1484280"/>
            <a:ext cx="4824360" cy="79236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4"/>
          <p:cNvSpPr/>
          <p:nvPr/>
        </p:nvSpPr>
        <p:spPr>
          <a:xfrm>
            <a:off x="2771640" y="2349360"/>
            <a:ext cx="345600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ратко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5"/>
          <p:cNvSpPr/>
          <p:nvPr/>
        </p:nvSpPr>
        <p:spPr>
          <a:xfrm>
            <a:off x="179280" y="2997360"/>
            <a:ext cx="316872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редне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5867280" y="2997360"/>
            <a:ext cx="309744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олго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050920" y="4221000"/>
            <a:ext cx="4537080" cy="9144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предмет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8"/>
          <p:cNvSpPr/>
          <p:nvPr/>
        </p:nvSpPr>
        <p:spPr>
          <a:xfrm>
            <a:off x="5148360" y="5589720"/>
            <a:ext cx="3651120" cy="934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еж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9"/>
          <p:cNvSpPr/>
          <p:nvPr/>
        </p:nvSpPr>
        <p:spPr>
          <a:xfrm>
            <a:off x="250920" y="5516640"/>
            <a:ext cx="336384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но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лассификация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826920" y="1268280"/>
            <a:ext cx="7490160" cy="7207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количеству участников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6"/>
          <p:cNvSpPr/>
          <p:nvPr/>
        </p:nvSpPr>
        <p:spPr>
          <a:xfrm>
            <a:off x="4500720" y="2133720"/>
            <a:ext cx="3816360" cy="8413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рупп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7"/>
          <p:cNvSpPr/>
          <p:nvPr/>
        </p:nvSpPr>
        <p:spPr>
          <a:xfrm>
            <a:off x="755640" y="2133720"/>
            <a:ext cx="3745080" cy="8636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ндивиду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250920" y="3213000"/>
            <a:ext cx="8785080" cy="79236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преобладающей деятельности уче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9"/>
          <p:cNvSpPr/>
          <p:nvPr/>
        </p:nvSpPr>
        <p:spPr>
          <a:xfrm>
            <a:off x="611280" y="4221000"/>
            <a:ext cx="338436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Исследователь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0"/>
          <p:cNvSpPr/>
          <p:nvPr/>
        </p:nvSpPr>
        <p:spPr>
          <a:xfrm>
            <a:off x="5076720" y="4221000"/>
            <a:ext cx="357840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Информ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1"/>
          <p:cNvSpPr/>
          <p:nvPr/>
        </p:nvSpPr>
        <p:spPr>
          <a:xfrm>
            <a:off x="5796000" y="5661000"/>
            <a:ext cx="316872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актико-ориент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2"/>
          <p:cNvSpPr/>
          <p:nvPr/>
        </p:nvSpPr>
        <p:spPr>
          <a:xfrm>
            <a:off x="468360" y="5661000"/>
            <a:ext cx="302400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олевые, игр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3"/>
          <p:cNvSpPr/>
          <p:nvPr/>
        </p:nvSpPr>
        <p:spPr>
          <a:xfrm>
            <a:off x="3492360" y="5300640"/>
            <a:ext cx="230364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вор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8720" cy="79236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ворче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196640"/>
            <a:ext cx="84470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Цель проекто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интересной форме  повторить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истематизировать зн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рмировать умения работать с дополнитель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тературой, таблицами, презентациям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развивать любознат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кторские 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доровый образ жиз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и его составляющ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«Экология  для малыше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282744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64000" cy="223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737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848360" cy="9936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Практико-ориентированны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1341360"/>
            <a:ext cx="82296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 проект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ение практических задач заказчика про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0" descr="19"/>
          <p:cNvPicPr/>
          <p:nvPr/>
        </p:nvPicPr>
        <p:blipFill>
          <a:blip r:embed="rId1"/>
          <a:stretch/>
        </p:blipFill>
        <p:spPr>
          <a:xfrm>
            <a:off x="324000" y="2349360"/>
            <a:ext cx="1368360" cy="280692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  <p:pic>
        <p:nvPicPr>
          <p:cNvPr id="82" name="Picture 20" descr="9"/>
          <p:cNvPicPr/>
          <p:nvPr/>
        </p:nvPicPr>
        <p:blipFill>
          <a:blip r:embed="rId2"/>
          <a:stretch/>
        </p:blipFill>
        <p:spPr>
          <a:xfrm>
            <a:off x="6012000" y="2276640"/>
            <a:ext cx="2016000" cy="149832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  <p:pic>
        <p:nvPicPr>
          <p:cNvPr id="83" name="Picture 14" descr="10"/>
          <p:cNvPicPr/>
          <p:nvPr/>
        </p:nvPicPr>
        <p:blipFill>
          <a:blip r:embed="rId3"/>
          <a:stretch/>
        </p:blipFill>
        <p:spPr>
          <a:xfrm>
            <a:off x="2050920" y="2421000"/>
            <a:ext cx="2737080" cy="191592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  <p:pic>
        <p:nvPicPr>
          <p:cNvPr id="84" name="Picture 18" descr="32"/>
          <p:cNvPicPr/>
          <p:nvPr/>
        </p:nvPicPr>
        <p:blipFill>
          <a:blip r:embed="rId4"/>
          <a:stretch/>
        </p:blipFill>
        <p:spPr>
          <a:xfrm>
            <a:off x="6588000" y="3284640"/>
            <a:ext cx="2374920" cy="216036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  <p:pic>
        <p:nvPicPr>
          <p:cNvPr id="85" name="Picture 26" descr="14"/>
          <p:cNvPicPr/>
          <p:nvPr/>
        </p:nvPicPr>
        <p:blipFill>
          <a:blip r:embed="rId5"/>
          <a:stretch/>
        </p:blipFill>
        <p:spPr>
          <a:xfrm>
            <a:off x="3492360" y="3500280"/>
            <a:ext cx="2521080" cy="187812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  <p:pic>
        <p:nvPicPr>
          <p:cNvPr id="86" name="Picture 34" descr="16"/>
          <p:cNvPicPr/>
          <p:nvPr/>
        </p:nvPicPr>
        <p:blipFill>
          <a:blip r:embed="rId6"/>
          <a:stretch/>
        </p:blipFill>
        <p:spPr>
          <a:xfrm>
            <a:off x="971640" y="4724280"/>
            <a:ext cx="2592360" cy="194328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5761080" cy="14256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сследовательск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Биология – это наука экспериментальная, поэтому достаточно большое значение приобретает моделирование эксперимента с помощью компьютера, т.е. демонстрация эксперимента в режиме реального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7:49:14Z</dcterms:created>
  <dc:creator>Антоша</dc:creator>
  <dc:description/>
  <dc:language>en-US</dc:language>
  <cp:lastModifiedBy>Антоша</cp:lastModifiedBy>
  <dcterms:modified xsi:type="dcterms:W3CDTF">2013-01-13T13:37:40Z</dcterms:modified>
  <cp:revision>311</cp:revision>
  <dc:subject/>
  <dc:title>НАУЧНОЕ ОБЩЕСТВО УЧАЩИХСЯ– ПРОГРЕССИВНАЯ ФОРМА РАБОТЫ С ОДАРЕННЫМИ ДЕТЬМИ</dc:title>
</cp:coreProperties>
</file>