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7.gif" ContentType="image/gif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78C5-A129-4BF6-9C30-8EADC70436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619B-A96D-402A-A7B6-C2162E69D9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59F-07DC-4E98-87FF-5D33799E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BCB-7396-4932-8DE3-98BD3E0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B2EE7-2F81-41AC-A34F-8125775A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24004-A0F3-4C6E-8156-65A6BE94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854D1-8080-4595-9F79-778FD234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854C1-C821-42F0-B203-7237880D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A9167-1E19-458A-8451-5B2BA6D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B0374-4AA1-4228-A519-FABEF88D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FB5E2-F116-4D8A-A9E7-2C4DA2C2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3F433-E9FD-46CE-A59D-F581A838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DD188-94B7-411B-9950-D1960100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D0A-9F95-4E68-B75E-8EC234B6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5A0-F682-4782-9E5A-67D8DD67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09EF-34BB-40F5-90F1-7DC64464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3B1C-2F92-44DA-851D-97518152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D85C-02F7-4E13-8A70-B1FF61DE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99E7-F137-45F6-AD76-59974801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214E-C46A-4D24-BA7E-F8CD75F7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5853-14DC-4E9B-9EE4-F64062AC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69B8-D869-45DE-8B84-FC557A31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B8D-7CAE-4A65-8E1A-7EB743F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9E3E-E597-4AC0-AEA7-6BEA3BB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E0E6-FA32-40D8-95CC-4D255CD2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E319-8FB3-465B-8DFF-FBF7AEBD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95DB-261A-4F41-B717-FBF83C1F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4F6C-7A53-4896-A9F7-570E6652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EC6A-4A21-4D33-A182-11F44E29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358A-9F3C-40F7-9D87-8A063B27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E08E-F8A1-4440-846E-3574E0A0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3870-8C74-4A82-A8EE-CB2CFEB7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CE233-A9CE-4239-8F9E-01C9BF87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3F3-25F8-4619-9D76-76B40646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F80B-B211-47CF-9D9D-0C6359EB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B67D-28DF-4F37-80E8-FBDC8B65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FD03-2271-40EB-BE35-FA00080F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5B45-2FB1-4D50-835F-44E0AD1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BE63-4703-47D5-BDBF-92432D44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0DFAA-2F97-4576-81A2-24E41F73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7592-B06E-486A-8647-92B22051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F197-236C-47EA-9926-FECA82F3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D280-67A7-4842-93B5-DEC91376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66E9-1005-48D2-A953-227E402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75B-A432-45FA-8062-F8DA3F45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4C28D-4183-421F-84FA-2828E5E8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73FBD-7749-4506-80AB-51CC918D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AD35-BD64-47A4-817C-4C11D221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E784-5CAB-4CE7-8303-4F4D8386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F466-9524-4554-A0CE-6CFB413E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7F8B-CF50-4FC6-B573-5FF8E14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07DC-7E22-4BC5-BBA9-0D2B4275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957E-6771-428A-BA84-2CF07709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092E-DE20-47AD-98B8-20855DFE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777E7-5C49-41F5-9A87-DA6F440A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873-638D-45A7-B3CE-952DFD8B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FD57B-7523-45BE-9183-22E085E9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7A6D4-08E5-483F-90B8-7B56419D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CA6DC-60EC-4084-9FB3-D7DF5D74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AA1CB-06D7-4743-B058-500C7C1E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48DA-059E-4BC2-BBCA-FC4603B2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EC13-6F72-463B-9B5D-1E181393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D7002-11B1-4C22-9A9E-943253F0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FF620-98AF-4AC2-8072-5A1C6CA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68A44-495B-4305-83A1-7E4756CB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DE5C-EF1F-41C3-BFA3-B02EABA4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D81-4F60-403B-81FB-59576E81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58FC1-4F31-4224-834E-2D185439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53C13-A772-4814-B6E8-C1B2F344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715C9-6D73-40CE-AB13-E3FE9497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A0948-39C8-4596-B498-31D41DB9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725C1-ABD1-442B-8AA4-917254FE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37580-95FA-4145-B9A1-85C92EA2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CC27A-232F-4FA1-802C-ABC8F9B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98F88-4C03-4B4B-AD99-FF149A4C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397CF-C068-484B-9492-61FF422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42D43-1BE6-4B5D-91CE-08E3390F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6E5-A8F4-4EB9-8096-12196AD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0C8D1-9732-42A7-9C74-1AAECF2C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4AD5A-35C1-47D6-9814-2C5DF766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8AC50-EBEC-4739-9A3A-006E1A03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1D91D-BEB6-404D-B91D-4ECC40EC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8B39-0AB5-41E1-A151-97CF1440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407A3-6B3D-4960-8057-AF5412E2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D98A-6478-43F3-BED1-CDC0DA86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8D09-CDB4-4241-A36D-BC77BA16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9758-11EB-4511-B921-E9891D84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1E66E-7DDF-4E36-A4F4-247119DA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376-EEFB-40CC-A711-66B77B8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1A5B8-D24B-4F92-9383-C88F794E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3D031-814D-45E0-B82C-04121FCE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AE32B-42BB-4CD4-834A-06C36547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B57AC-E836-49F5-BC1B-90028762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A9B57-9DBD-4E5E-ABAD-E3861A65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F7335-6852-4F4E-A86E-BC0970A2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2A2AF-2949-4A87-80EB-724242FB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8F4FF-DD7B-4BDC-A094-EE192B6C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114EF-C428-4671-83DE-0BBC5310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3EAD0-CD3B-4510-8A16-E67A097C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B43-3F36-418D-9CF2-7693FBFC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2C4D2-601E-4972-9FCE-81599EF6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57C9C-BC8E-4ECA-A57C-37B978F2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7B3DE-E743-499E-9E24-AB203715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FA91E-FEB8-49CE-8D9E-D22CEC1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0DB7E-FBF4-4D1F-BE8B-35A6C14A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63B5-39AF-44D1-9255-3984A13A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B4C32-64ED-4787-921F-50DFB82C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04ABF-0242-4FFB-A0EA-1EC7180C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1987E-820E-4552-AEED-5DAE1071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DD6B3-8B34-44E2-B642-3FC6B097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256C-E888-488E-8142-2E8FFC7D359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019-899E-443A-B6B7-CF9544FB06A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D703-DE14-476D-AFD6-6CB113077D9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9C5F-C98A-42C4-ACAB-6D5513BD140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8EC4-ABFB-4731-A4A4-843FB617AEC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50B8-9F9A-4511-841A-540DE4752E6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5CAE-8804-4AF8-8D96-C1CE2FEEB6A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A8F9-BBA2-4686-A6B4-9B8F4E04A0E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BF97-D3FA-4F51-95BE-3F65281F390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3" descr=""/>
          <p:cNvPicPr/>
          <p:nvPr/>
        </p:nvPicPr>
        <p:blipFill>
          <a:blip r:embed="rId1"/>
          <a:stretch/>
        </p:blipFill>
        <p:spPr>
          <a:xfrm>
            <a:off x="712800" y="835200"/>
            <a:ext cx="8229600" cy="25239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5"/>
          <p:cNvSpPr/>
          <p:nvPr/>
        </p:nvSpPr>
        <p:spPr>
          <a:xfrm>
            <a:off x="3456360" y="5842080"/>
            <a:ext cx="568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и: Аврамова Светла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ученики 7 «В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СОШ ЗАТО Видя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13"/>
          <p:cNvSpPr/>
          <p:nvPr/>
        </p:nvSpPr>
        <p:spPr>
          <a:xfrm>
            <a:off x="785880" y="50004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еханизм разрушения клеток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алкого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C:\Users\Сергей\Desktop\i.jpeg"/>
          <p:cNvPicPr/>
          <p:nvPr/>
        </p:nvPicPr>
        <p:blipFill>
          <a:blip r:embed="rId1"/>
          <a:stretch/>
        </p:blipFill>
        <p:spPr>
          <a:xfrm>
            <a:off x="5429160" y="1071720"/>
            <a:ext cx="3357720" cy="328608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285840" y="242892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подростков, которые привыкли к спиртным напиткам, развивается сахарный диабет, возникают серьезные нарушения головного мозга и масса други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Рисунок 3" descr="печень здорового человека и человека, употребляющего алкоголь.jpg"/>
          <p:cNvPicPr/>
          <p:nvPr/>
        </p:nvPicPr>
        <p:blipFill>
          <a:blip r:embed="rId1"/>
          <a:stretch/>
        </p:blipFill>
        <p:spPr>
          <a:xfrm>
            <a:off x="6186600" y="1785960"/>
            <a:ext cx="2600280" cy="321480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1785960" y="28584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Скажи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НЕТ!»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– алкого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5286240" y="531324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ечень здорового и пьюще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7" descr="p4.jpg"/>
          <p:cNvPicPr/>
          <p:nvPr/>
        </p:nvPicPr>
        <p:blipFill>
          <a:blip r:embed="rId2"/>
          <a:stretch/>
        </p:blipFill>
        <p:spPr>
          <a:xfrm>
            <a:off x="500040" y="2071800"/>
            <a:ext cx="5357880" cy="27525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pic>
        <p:nvPicPr>
          <p:cNvPr id="436" name="Рисунок 8" descr="alcohol.gif"/>
          <p:cNvPicPr/>
          <p:nvPr/>
        </p:nvPicPr>
        <p:blipFill>
          <a:blip r:embed="rId3"/>
          <a:stretch/>
        </p:blipFill>
        <p:spPr>
          <a:xfrm>
            <a:off x="1214280" y="214200"/>
            <a:ext cx="1000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Сергей\Desktop\мппр.jpeg"/>
          <p:cNvPicPr/>
          <p:nvPr/>
        </p:nvPicPr>
        <p:blipFill>
          <a:blip r:embed="rId1"/>
          <a:stretch/>
        </p:blipFill>
        <p:spPr>
          <a:xfrm>
            <a:off x="5072040" y="642960"/>
            <a:ext cx="3786120" cy="32860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285840" y="2019600"/>
            <a:ext cx="4643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уть к преступлени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80% подростковых хулиганских преступлений приходится на подростков в нетрезвом ви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Сергей\Desktop\у.jpeg"/>
          <p:cNvPicPr/>
          <p:nvPr/>
        </p:nvPicPr>
        <p:blipFill>
          <a:blip r:embed="rId1"/>
          <a:stretch/>
        </p:blipFill>
        <p:spPr>
          <a:xfrm>
            <a:off x="5072040" y="500040"/>
            <a:ext cx="3857760" cy="350064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2"/>
          <p:cNvSpPr/>
          <p:nvPr/>
        </p:nvSpPr>
        <p:spPr>
          <a:xfrm>
            <a:off x="357120" y="24289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ьянение не снимает с человека ответственности за поступки, а наоборот, является обстоятельством, которое увеличивает в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"/>
          <p:cNvSpPr/>
          <p:nvPr/>
        </p:nvSpPr>
        <p:spPr>
          <a:xfrm>
            <a:off x="214200" y="2945880"/>
            <a:ext cx="4000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еленый зми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ь проклят и заброш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его ты делаешь плохим, плохого же не делаешь хорош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C:\Users\Сергей\Desktop\i.jpeg"/>
          <p:cNvPicPr/>
          <p:nvPr/>
        </p:nvPicPr>
        <p:blipFill>
          <a:blip r:embed="rId1"/>
          <a:stretch/>
        </p:blipFill>
        <p:spPr>
          <a:xfrm>
            <a:off x="5786280" y="938160"/>
            <a:ext cx="285768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0" y="479304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хотел он новое чувство познать и начал наркотики       употребля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C:\Users\Сергей\Desktop\524177.jpg"/>
          <p:cNvPicPr/>
          <p:nvPr/>
        </p:nvPicPr>
        <p:blipFill>
          <a:blip r:embed="rId1"/>
          <a:stretch/>
        </p:blipFill>
        <p:spPr>
          <a:xfrm>
            <a:off x="5214960" y="571680"/>
            <a:ext cx="3500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C:\Users\Сергей\Desktop\i.jpeg"/>
          <p:cNvPicPr/>
          <p:nvPr/>
        </p:nvPicPr>
        <p:blipFill>
          <a:blip r:embed="rId1"/>
          <a:stretch/>
        </p:blipFill>
        <p:spPr>
          <a:xfrm>
            <a:off x="5429160" y="642960"/>
            <a:ext cx="3214800" cy="35002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 flipV="1" rot="10800000">
            <a:off x="-360" y="3369960"/>
            <a:ext cx="471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 настигло великое горе: на нашей планете наркотик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вили мы кай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утра до у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вскоре мы поняли: смерть к нам приш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C:\Users\Сергей\Desktop\ром.jpeg"/>
          <p:cNvPicPr/>
          <p:nvPr/>
        </p:nvPicPr>
        <p:blipFill>
          <a:blip r:embed="rId1"/>
          <a:stretch/>
        </p:blipFill>
        <p:spPr>
          <a:xfrm>
            <a:off x="4786200" y="428760"/>
            <a:ext cx="4071960" cy="35002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"/>
          <p:cNvSpPr/>
          <p:nvPr/>
        </p:nvSpPr>
        <p:spPr>
          <a:xfrm>
            <a:off x="214200" y="3016800"/>
            <a:ext cx="46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просим вас, люди, перестаньте ду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ужно колоться, не нужно вам п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вместе решите проблему э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сберегите родную планет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C:\Users\Сергей\Desktop\млр.jpeg"/>
          <p:cNvPicPr/>
          <p:nvPr/>
        </p:nvPicPr>
        <p:blipFill>
          <a:blip r:embed="rId1"/>
          <a:stretch/>
        </p:blipFill>
        <p:spPr>
          <a:xfrm>
            <a:off x="6286680" y="714240"/>
            <a:ext cx="2357280" cy="27147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2"/>
          <p:cNvSpPr/>
          <p:nvPr/>
        </p:nvSpPr>
        <p:spPr>
          <a:xfrm>
            <a:off x="571680" y="30002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-то глюки пошли у мен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вдруг это правда? Не верю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Users\Сергей\Desktop\рлр.jpeg"/>
          <p:cNvPicPr/>
          <p:nvPr/>
        </p:nvPicPr>
        <p:blipFill>
          <a:blip r:embed="rId1"/>
          <a:stretch/>
        </p:blipFill>
        <p:spPr>
          <a:xfrm>
            <a:off x="5929200" y="85716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3"/>
          <p:cNvSpPr/>
          <p:nvPr/>
        </p:nvSpPr>
        <p:spPr>
          <a:xfrm>
            <a:off x="293040" y="4151160"/>
            <a:ext cx="620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одежь, что с тобой нынче стал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ь должна быть душа, голо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 а в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арики и старух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ть и молоды ваши г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0" y="4011120"/>
            <a:ext cx="464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попробовал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трава эти сигаре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же можно их курить, так здоровью-то вред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C:\Users\Сергей\Desktop\д.jpeg"/>
          <p:cNvPicPr/>
          <p:nvPr/>
        </p:nvPicPr>
        <p:blipFill>
          <a:blip r:embed="rId1"/>
          <a:stretch/>
        </p:blipFill>
        <p:spPr>
          <a:xfrm>
            <a:off x="285840" y="285840"/>
            <a:ext cx="2857320" cy="25002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4"/>
          <p:cNvSpPr/>
          <p:nvPr/>
        </p:nvSpPr>
        <p:spPr>
          <a:xfrm>
            <a:off x="4357800" y="0"/>
            <a:ext cx="412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м у школы два мальчишки    зажигают часто сп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скажи, ну как мне быть? Предлагали заку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C:\Users\Сергей\Desktop\гпш.jpeg"/>
          <p:cNvPicPr/>
          <p:nvPr/>
        </p:nvPicPr>
        <p:blipFill>
          <a:blip r:embed="rId2"/>
          <a:stretch/>
        </p:blipFill>
        <p:spPr>
          <a:xfrm>
            <a:off x="5929200" y="4000680"/>
            <a:ext cx="29289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"/>
          <p:cNvSpPr/>
          <p:nvPr/>
        </p:nvSpPr>
        <p:spPr>
          <a:xfrm flipV="1" rot="10800000">
            <a:off x="-360" y="3850560"/>
            <a:ext cx="57862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оссии на 100 тысяч детей в возрасте от 12 до 18 л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73 человека наркоманы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C:\Users\Сергей\Desktop\59583429_8081.jpg"/>
          <p:cNvPicPr/>
          <p:nvPr/>
        </p:nvPicPr>
        <p:blipFill>
          <a:blip r:embed="rId1"/>
          <a:stretch/>
        </p:blipFill>
        <p:spPr>
          <a:xfrm>
            <a:off x="4624560" y="662040"/>
            <a:ext cx="3447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857160" y="35712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Скажи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НЕТ!»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- наркоти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2" descr="179269_3.jpg"/>
          <p:cNvPicPr/>
          <p:nvPr/>
        </p:nvPicPr>
        <p:blipFill>
          <a:blip r:embed="rId1"/>
          <a:stretch/>
        </p:blipFill>
        <p:spPr>
          <a:xfrm>
            <a:off x="755640" y="1500120"/>
            <a:ext cx="4102200" cy="278604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pic>
        <p:nvPicPr>
          <p:cNvPr id="457" name="Рисунок 3" descr="1971mad.jpg"/>
          <p:cNvPicPr/>
          <p:nvPr/>
        </p:nvPicPr>
        <p:blipFill>
          <a:blip r:embed="rId2"/>
          <a:stretch/>
        </p:blipFill>
        <p:spPr>
          <a:xfrm>
            <a:off x="5143680" y="1500120"/>
            <a:ext cx="3268440" cy="47865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sp>
        <p:nvSpPr>
          <p:cNvPr id="458" name="TextBox 4"/>
          <p:cNvSpPr/>
          <p:nvPr/>
        </p:nvSpPr>
        <p:spPr>
          <a:xfrm>
            <a:off x="1214280" y="4429080"/>
            <a:ext cx="350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 20% детей – «слабоумие» и физическое уродство – эт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каждый четверты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ребен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2" descr="29657043.jpg"/>
          <p:cNvPicPr/>
          <p:nvPr/>
        </p:nvPicPr>
        <p:blipFill>
          <a:blip r:embed="rId1"/>
          <a:stretch/>
        </p:blipFill>
        <p:spPr>
          <a:xfrm>
            <a:off x="642960" y="1428840"/>
            <a:ext cx="5000760" cy="48513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sp>
        <p:nvSpPr>
          <p:cNvPr id="460" name="TextBox 3"/>
          <p:cNvSpPr/>
          <p:nvPr/>
        </p:nvSpPr>
        <p:spPr>
          <a:xfrm>
            <a:off x="0" y="35712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Не приближайся к пропа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4"/>
          <p:cNvSpPr/>
          <p:nvPr/>
        </p:nvSpPr>
        <p:spPr>
          <a:xfrm>
            <a:off x="5643720" y="2500200"/>
            <a:ext cx="30002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00 тысяч человек  больны СПИД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з 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олодежь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5 – 20 лет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ляет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72%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 flipV="1" rot="10800000">
            <a:off x="0" y="4314240"/>
            <a:ext cx="5500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ез день будет поздно, через час будет поз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ез миг будет уже не встать, потому что в жилах застыл 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C:\Users\Сергей\Desktop\a1056120091211618238n.jpg"/>
          <p:cNvPicPr/>
          <p:nvPr/>
        </p:nvPicPr>
        <p:blipFill>
          <a:blip r:embed="rId1"/>
          <a:stretch/>
        </p:blipFill>
        <p:spPr>
          <a:xfrm>
            <a:off x="3857760" y="703440"/>
            <a:ext cx="47149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3"/>
          <p:cNvSpPr/>
          <p:nvPr/>
        </p:nvSpPr>
        <p:spPr>
          <a:xfrm>
            <a:off x="0" y="3016800"/>
            <a:ext cx="5643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ужны нам кошмары дурацкие э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 мне, ни родным, ни нашей пла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айте покончим с бедой на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ь ми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наша большая сем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C:\Users\Сергей\Desktop\роо.jpeg"/>
          <p:cNvPicPr/>
          <p:nvPr/>
        </p:nvPicPr>
        <p:blipFill>
          <a:blip r:embed="rId1"/>
          <a:stretch/>
        </p:blipFill>
        <p:spPr>
          <a:xfrm>
            <a:off x="5786280" y="571680"/>
            <a:ext cx="28576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2786040" y="4581000"/>
            <a:ext cx="371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 не прельстит тот мир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ый образ жизни выбираю 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C:\Users\Сергей\Desktop\Рисунок1.jpg"/>
          <p:cNvPicPr/>
          <p:nvPr/>
        </p:nvPicPr>
        <p:blipFill>
          <a:blip r:embed="rId1"/>
          <a:stretch/>
        </p:blipFill>
        <p:spPr>
          <a:xfrm>
            <a:off x="1928880" y="500040"/>
            <a:ext cx="5715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Рисунок 15" descr="mp3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8"/>
          <p:cNvSpPr/>
          <p:nvPr/>
        </p:nvSpPr>
        <p:spPr>
          <a:xfrm>
            <a:off x="2214720" y="0"/>
            <a:ext cx="66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авайте 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авайте жизнью  доро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Рисунок 19" descr="8.gif"/>
          <p:cNvPicPr/>
          <p:nvPr/>
        </p:nvPicPr>
        <p:blipFill>
          <a:blip r:embed="rId2"/>
          <a:stretch/>
        </p:blipFill>
        <p:spPr>
          <a:xfrm>
            <a:off x="285840" y="0"/>
            <a:ext cx="885816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6"/>
          <p:cNvSpPr/>
          <p:nvPr/>
        </p:nvSpPr>
        <p:spPr>
          <a:xfrm>
            <a:off x="0" y="178812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годня выступаем мы на сц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 всех, кто хочет жить, держ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век 21-ый жить хотим достой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 всем, кто к нам с иглой, ответим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т!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амим судьбу свою вершить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ссии-матушке слу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Хотим заверить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в самом деле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м с вредными привычками не ж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 спортом мы расстанемся неско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о время не унять и не сдер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гда придут на сцену наши де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Чтоб не пришлось таких проблем ре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2" descr="699090_20041023132959.jpg"/>
          <p:cNvPicPr/>
          <p:nvPr/>
        </p:nvPicPr>
        <p:blipFill>
          <a:blip r:embed="rId1"/>
          <a:stretch/>
        </p:blipFill>
        <p:spPr>
          <a:xfrm>
            <a:off x="571680" y="1714680"/>
            <a:ext cx="6000480" cy="45003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3"/>
          <p:cNvSpPr/>
          <p:nvPr/>
        </p:nvSpPr>
        <p:spPr>
          <a:xfrm>
            <a:off x="0" y="285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Легкое здорового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урящего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6643800" y="1500120"/>
            <a:ext cx="2500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пачка в ден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кг. смолы в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 тысячи руб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сигарета – 15 минут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2" descr="rak.jpg"/>
          <p:cNvPicPr/>
          <p:nvPr/>
        </p:nvPicPr>
        <p:blipFill>
          <a:blip r:embed="rId1"/>
          <a:stretch/>
        </p:blipFill>
        <p:spPr>
          <a:xfrm>
            <a:off x="3786120" y="2787480"/>
            <a:ext cx="4808520" cy="34992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3429000" y="357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Скажи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НЕТ!»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– ку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5" descr="image031.jpg"/>
          <p:cNvPicPr/>
          <p:nvPr/>
        </p:nvPicPr>
        <p:blipFill>
          <a:blip r:embed="rId2"/>
          <a:stretch/>
        </p:blipFill>
        <p:spPr>
          <a:xfrm>
            <a:off x="0" y="571680"/>
            <a:ext cx="3429000" cy="58467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6" descr="picture-1.png"/>
          <p:cNvPicPr/>
          <p:nvPr/>
        </p:nvPicPr>
        <p:blipFill>
          <a:blip r:embed="rId3"/>
          <a:stretch/>
        </p:blipFill>
        <p:spPr>
          <a:xfrm>
            <a:off x="3357720" y="285840"/>
            <a:ext cx="9284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428760" y="2802960"/>
            <a:ext cx="4786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м должен каждый дорожить. Кому проблемы лишние нуж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ь надо жить, любить, творить. Зачем тебе курение, скаж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C:\Users\Сергей\Desktop\мс.jpeg"/>
          <p:cNvPicPr/>
          <p:nvPr/>
        </p:nvPicPr>
        <p:blipFill>
          <a:blip r:embed="rId1"/>
          <a:stretch/>
        </p:blipFill>
        <p:spPr>
          <a:xfrm>
            <a:off x="5715000" y="428760"/>
            <a:ext cx="3071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0" y="3763800"/>
            <a:ext cx="450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никогда ты не вернеш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умай, для чего же ты жив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о жизнью дорож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здоровье-это важно-может каждый сохран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G:\КУРЕНИЕ\за здоровый образ жизни\kurenie_4096_22.jpg"/>
          <p:cNvPicPr/>
          <p:nvPr/>
        </p:nvPicPr>
        <p:blipFill>
          <a:blip r:embed="rId1"/>
          <a:stretch/>
        </p:blipFill>
        <p:spPr>
          <a:xfrm>
            <a:off x="4214880" y="214200"/>
            <a:ext cx="47149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C:\Users\Сергей\Desktop\пнш.jpeg"/>
          <p:cNvPicPr/>
          <p:nvPr/>
        </p:nvPicPr>
        <p:blipFill>
          <a:blip r:embed="rId1"/>
          <a:stretch/>
        </p:blipFill>
        <p:spPr>
          <a:xfrm>
            <a:off x="5643720" y="785880"/>
            <a:ext cx="2928960" cy="25002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"/>
          <p:cNvSpPr/>
          <p:nvPr/>
        </p:nvSpPr>
        <p:spPr>
          <a:xfrm>
            <a:off x="285840" y="28011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ни летят, идут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ын растет, как нико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ять классов за спиной, стал сынок совсем боль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ги просит без конца у поседевшего от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чего  - не говорит, принимает умный в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C:\Users\Сергей\Desktop\ане.jpeg"/>
          <p:cNvPicPr/>
          <p:nvPr/>
        </p:nvPicPr>
        <p:blipFill>
          <a:blip r:embed="rId1"/>
          <a:stretch/>
        </p:blipFill>
        <p:spPr>
          <a:xfrm>
            <a:off x="5572080" y="571680"/>
            <a:ext cx="3286080" cy="29286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0" y="4295880"/>
            <a:ext cx="614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дружки тебе   тверд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т попробуешь разок и узнаешь жизнь, браток!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все врань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ерь!       Мигом втянешься, по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Рисунок 2" descr="seneka.jpg"/>
          <p:cNvPicPr/>
          <p:nvPr/>
        </p:nvPicPr>
        <p:blipFill>
          <a:blip r:embed="rId1"/>
          <a:stretch/>
        </p:blipFill>
        <p:spPr>
          <a:xfrm>
            <a:off x="0" y="2571840"/>
            <a:ext cx="3511440" cy="42861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3"/>
          <p:cNvSpPr/>
          <p:nvPr/>
        </p:nvSpPr>
        <p:spPr>
          <a:xfrm>
            <a:off x="1857240" y="428760"/>
            <a:ext cx="592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«Опьянение есть добровольное безум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ций   Анней Сен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59:19Z</dcterms:created>
  <dc:creator>Comp2</dc:creator>
  <dc:description/>
  <dc:language>en-US</dc:language>
  <cp:lastModifiedBy>Пользователь</cp:lastModifiedBy>
  <dcterms:modified xsi:type="dcterms:W3CDTF">2013-01-13T13:50:46Z</dcterms:modified>
  <cp:revision>73</cp:revision>
  <dc:subject/>
  <dc:title>«Мы – за здоровый  образ жизни!»</dc:title>
</cp:coreProperties>
</file>