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28A1-4E04-462A-BFD1-DA2D6529D7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A867-328C-489E-B13F-4696CB3D63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8B7-B664-43CA-A635-BE363812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951-5075-43B3-B1C6-1BEDA03F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8F7A0-5DA4-45AB-BD1C-E3EE42F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A4662-D69F-435B-B2C3-6E6CCF2E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0F618-D0E8-4E1E-B8B1-DB4EF055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FD4A3-9206-443D-B8AE-936F692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AA089-3201-497A-A0BC-B0673CDA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7FC78-C36A-4B43-BB29-98B06EE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72AA2-22BA-49C5-AB66-2AD6816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5954B-D507-4901-8735-C2B0E629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2F391-F8C6-488A-A3D2-C6EAC80F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471-1149-4DB5-8718-34F05425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4B3-084B-4485-9416-AE108F66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8DF-88AA-4E5C-AEE8-6D8863A0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C4C4-6355-4647-B329-67B3F12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11EA-C8E1-4C39-AC0E-67D78BB7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86F2-34AD-4393-B3BB-01618111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9745-512D-4A30-8CAE-7E21FF09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4C42-A680-43D7-9E5C-97ADC8D8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15A1-FA56-4F68-8B07-68783BB5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B77-98F5-4895-B3D0-4DE45C6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998E-A86D-4873-AEE3-97E4CCA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9DD5-83BB-49D6-B275-3D1C08E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9861-F1F0-4C61-9095-49DBC93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9025-7BFB-4403-90DE-4356EADF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B094-61B4-4BC0-9BAF-7987B1B1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192A-C1B9-4BEC-B549-FC07D914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ED67-1D46-498C-AAE6-80FCC41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7F80-A175-4674-9099-2AAAF52C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9477-DDCB-4488-BD4F-68DCC7F0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A9D8-85FF-424E-99E6-D429FECA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01B-497B-4D44-9D6C-4F1634CC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BD80-767A-4BD1-933A-1361C1E5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EFD3-04CB-495A-B091-C2F55D2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417C-E2F9-4DF1-BB2B-7FFBFAF2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2B874-E163-44BF-88B3-D59136E5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9749-8515-4538-AD74-1F173BB7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70B6-0AEE-4E5C-8C79-A8F045BE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66257-87D3-4BA5-9395-44D3ACD7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9817-8137-4EF8-8F6F-50301BA9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1F346-C536-4E9F-8684-ECC77A95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C5F92-A6CB-45AE-8796-216D60D2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12A-7437-4B86-8E6A-44F297BC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54F9-DF50-48EB-87EE-424666A3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EC69-B66E-4B52-9F52-20824781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3F6B-5B31-4FA9-BC8E-293E689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EAA2-0C3B-4F43-ACF3-1E59C03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4C13-BE55-4118-A806-67417AB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90D6-FA20-4B9F-A656-A71ED74B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F7F2-08FF-4A3F-AB5A-9694D29A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4F57-FD50-41F3-BF1A-037E8F6D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5D07-42D2-459A-82B3-13033160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1F4F-1E73-48CB-BEAF-FD013548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52C-87CF-4E79-A9B9-AE9B682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F56A-452F-4334-AD29-9C808DA4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CD5E7-A1AA-49A4-9C92-871A0867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66C4A-A1F0-4456-9900-F5154D32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68DE-DE74-4055-AEA0-E1633A5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7BF84-1F7F-4AF1-906E-5C4FB2A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3F70-462C-40F3-85F3-A19CEEC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2FF9-A8DE-41E0-901D-0CD186A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A711-DAD9-4B7E-90FC-EC2413E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3F54-E818-4D32-AA8E-DA9F4FB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767D-45BB-4F23-9F08-C20C3A57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B59-3BF8-45C1-9421-65515F63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AC71-720F-4C67-9F76-4A4872FA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77AC9-5042-459D-8512-9B4A6B3C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1E13-FA84-4EDE-885D-FCDF223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86D89-6FE4-47CE-9022-0ED9D8B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C109B-3FC2-45B2-BC67-AB0B2868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EDCC1-CFDF-47AE-A225-FF3569E7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606B6-6F3C-4289-AD3D-7D4EC4F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949F3-73AB-45DB-AF3A-688F5E7C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04AE-A4C6-4B62-BEEC-FBA014F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69DF6-DFC1-4C13-8884-15D9340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0B8-A03A-4BB5-8BBE-D5F28F3C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904DA-A38B-44BB-8BDF-F7CD6EA0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CBDA-5C05-4240-9B61-EE795EE2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CA29C-48D6-4CAC-A965-D70F96EF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67CF3-A853-4AD7-8539-942C704C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2CE5B-A2EA-4E50-873A-C572AC82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5B85-827F-49CA-904E-8C3FCF90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7B98-A231-457A-B639-F1DF9823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C051-20CC-44A9-B5BE-FAEB1DF4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8E62F-3427-4F4E-9333-4DD4A41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9416A-7D8A-41CF-9D92-415FC31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C0C-4ED6-4B64-B97D-400F5FB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372E-090A-472C-AC2B-D5F8A763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1DCC-B16A-4935-8F5F-E996411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C4F4-A9E3-448E-A191-9B8FAF7A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D1AC-B124-46E7-95C6-6089A116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2B8A-7626-4A49-923D-E960868D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4D360-1324-4697-9727-A0768CE9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F4086-9091-47C9-9078-CB24EB99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B8F38-DC75-4D98-87CF-1C1FAB5A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62E98-CC9A-47FD-A4CE-BCA3C53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57574-C92B-457A-BDAA-30B990B5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F35-5D64-4D78-A83B-3EB75662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0DB40-A70A-4060-A7A9-834981F4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6C0FD-7297-4382-B533-0157A8E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4A217-7649-473F-B833-6A0EAF4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6F94-83AB-4DC3-B8C1-A4D7BCE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F091-2281-4AF4-AD5A-51431F03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9ECBA-B4B1-4EBC-80AF-86B0E071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D2ACB-65A4-444B-86DC-BA9C25D9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B5727-BCF6-4165-8FEA-7AACF7C8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90BB2-5E28-4468-80FF-4960A2DF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6CF1F-B4BE-4781-945C-6A64F540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2DB1-DA53-45D2-8441-95A451ACDDC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91E-CE54-45A1-8229-E6294BB173B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E126-1B52-4109-9B56-D57808B24128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E950-6E89-4125-9FD1-AB85850A1E6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21FB-2E92-4768-8BA5-CEE4689D77B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995-B3F3-4FF5-971C-8F4DD208CC4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E8E-B4A8-424E-B9B1-E385C560AE9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C19-3C6C-47AF-8102-87A2BBDB51A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9B4-B38B-4579-BC66-3557EEEB64E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3" descr=""/>
          <p:cNvPicPr/>
          <p:nvPr/>
        </p:nvPicPr>
        <p:blipFill>
          <a:blip r:embed="rId1"/>
          <a:stretch/>
        </p:blipFill>
        <p:spPr>
          <a:xfrm>
            <a:off x="712800" y="835200"/>
            <a:ext cx="8229600" cy="25239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3456360" y="5842080"/>
            <a:ext cx="568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и: Аврамова Светла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ченики 7 «В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СОШ ЗАТО Видя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3"/>
          <p:cNvSpPr/>
          <p:nvPr/>
        </p:nvSpPr>
        <p:spPr>
          <a:xfrm>
            <a:off x="785880" y="5000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еханизм разрушения клеток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алкого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C:\Users\Сергей\Desktop\i.jpeg"/>
          <p:cNvPicPr/>
          <p:nvPr/>
        </p:nvPicPr>
        <p:blipFill>
          <a:blip r:embed="rId1"/>
          <a:stretch/>
        </p:blipFill>
        <p:spPr>
          <a:xfrm>
            <a:off x="5429160" y="1071720"/>
            <a:ext cx="3357720" cy="328608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285840" y="242892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подростков, которые привыкли к спиртным напиткам, развивается сахарный диабет, возникают серьезные нарушения головного мозга и масса други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3" descr="печень здорового человека и человека, употребляющего алкоголь.jpg"/>
          <p:cNvPicPr/>
          <p:nvPr/>
        </p:nvPicPr>
        <p:blipFill>
          <a:blip r:embed="rId1"/>
          <a:stretch/>
        </p:blipFill>
        <p:spPr>
          <a:xfrm>
            <a:off x="6186600" y="1785960"/>
            <a:ext cx="2600280" cy="32148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1785960" y="285840"/>
            <a:ext cx="735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Скажи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Т!»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– алкого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5286240" y="531324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ечень здорового и пьюще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7" descr="p4.jpg"/>
          <p:cNvPicPr/>
          <p:nvPr/>
        </p:nvPicPr>
        <p:blipFill>
          <a:blip r:embed="rId2"/>
          <a:stretch/>
        </p:blipFill>
        <p:spPr>
          <a:xfrm>
            <a:off x="500040" y="2071800"/>
            <a:ext cx="5357880" cy="27525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436" name="Рисунок 8" descr="alcohol.gif"/>
          <p:cNvPicPr/>
          <p:nvPr/>
        </p:nvPicPr>
        <p:blipFill>
          <a:blip r:embed="rId3"/>
          <a:stretch/>
        </p:blipFill>
        <p:spPr>
          <a:xfrm>
            <a:off x="1214280" y="214200"/>
            <a:ext cx="1000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Сергей\Desktop\мппр.jpeg"/>
          <p:cNvPicPr/>
          <p:nvPr/>
        </p:nvPicPr>
        <p:blipFill>
          <a:blip r:embed="rId1"/>
          <a:stretch/>
        </p:blipFill>
        <p:spPr>
          <a:xfrm>
            <a:off x="5072040" y="642960"/>
            <a:ext cx="3786120" cy="32860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285840" y="2019600"/>
            <a:ext cx="464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коголиз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уть к преступлени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80% подростковых хулиганских преступлений приходится на подростков в нетрезво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C:\Users\Сергей\Desktop\у.jpeg"/>
          <p:cNvPicPr/>
          <p:nvPr/>
        </p:nvPicPr>
        <p:blipFill>
          <a:blip r:embed="rId1"/>
          <a:stretch/>
        </p:blipFill>
        <p:spPr>
          <a:xfrm>
            <a:off x="5072040" y="500040"/>
            <a:ext cx="3857760" cy="3500640"/>
          </a:xfrm>
          <a:prstGeom prst="rect">
            <a:avLst/>
          </a:prstGeom>
          <a:ln w="0">
            <a:noFill/>
          </a:ln>
        </p:spPr>
      </p:pic>
      <p:sp>
        <p:nvSpPr>
          <p:cNvPr id="440" name="Прямоугольник 2"/>
          <p:cNvSpPr/>
          <p:nvPr/>
        </p:nvSpPr>
        <p:spPr>
          <a:xfrm>
            <a:off x="357120" y="242892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ьянение не снимает с человека ответственности за поступки, а наоборот, является обстоятельством, которое увеличивает в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"/>
          <p:cNvSpPr/>
          <p:nvPr/>
        </p:nvSpPr>
        <p:spPr>
          <a:xfrm>
            <a:off x="214200" y="2945880"/>
            <a:ext cx="4000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леный зми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ь проклят и заброше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его ты делаешь плохим, плохого же не делаешь хорош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C:\Users\Сергей\Desktop\i.jpeg"/>
          <p:cNvPicPr/>
          <p:nvPr/>
        </p:nvPicPr>
        <p:blipFill>
          <a:blip r:embed="rId1"/>
          <a:stretch/>
        </p:blipFill>
        <p:spPr>
          <a:xfrm>
            <a:off x="5786280" y="938160"/>
            <a:ext cx="285768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0" y="479304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хотел он новое чувство познать и начал наркотики       употребля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4" descr="C:\Users\Сергей\Desktop\524177.jpg"/>
          <p:cNvPicPr/>
          <p:nvPr/>
        </p:nvPicPr>
        <p:blipFill>
          <a:blip r:embed="rId1"/>
          <a:stretch/>
        </p:blipFill>
        <p:spPr>
          <a:xfrm>
            <a:off x="5214960" y="571680"/>
            <a:ext cx="3500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C:\Users\Сергей\Desktop\i.jpeg"/>
          <p:cNvPicPr/>
          <p:nvPr/>
        </p:nvPicPr>
        <p:blipFill>
          <a:blip r:embed="rId1"/>
          <a:stretch/>
        </p:blipFill>
        <p:spPr>
          <a:xfrm>
            <a:off x="5429160" y="642960"/>
            <a:ext cx="3214800" cy="35002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 flipV="1" rot="10800000">
            <a:off x="-360" y="3369960"/>
            <a:ext cx="471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 настигло великое горе: на нашей планете наркотик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овили мы кай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утра до у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скоре мы поняли: смерть к нам приш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C:\Users\Сергей\Desktop\ром.jpeg"/>
          <p:cNvPicPr/>
          <p:nvPr/>
        </p:nvPicPr>
        <p:blipFill>
          <a:blip r:embed="rId1"/>
          <a:stretch/>
        </p:blipFill>
        <p:spPr>
          <a:xfrm>
            <a:off x="4786200" y="428760"/>
            <a:ext cx="4071960" cy="35002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214200" y="3016800"/>
            <a:ext cx="46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просим вас, люди, перестаньте ду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ужно колоться, не нужно вам п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вместе решите проблему э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сберегите родную планет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C:\Users\Сергей\Desktop\млр.jpeg"/>
          <p:cNvPicPr/>
          <p:nvPr/>
        </p:nvPicPr>
        <p:blipFill>
          <a:blip r:embed="rId1"/>
          <a:stretch/>
        </p:blipFill>
        <p:spPr>
          <a:xfrm>
            <a:off x="6286680" y="714240"/>
            <a:ext cx="2357280" cy="27147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2"/>
          <p:cNvSpPr/>
          <p:nvPr/>
        </p:nvSpPr>
        <p:spPr>
          <a:xfrm>
            <a:off x="571680" y="30002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-то глюки пошли у мен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друг это правда? Не верю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Users\Сергей\Desktop\рлр.jpeg"/>
          <p:cNvPicPr/>
          <p:nvPr/>
        </p:nvPicPr>
        <p:blipFill>
          <a:blip r:embed="rId1"/>
          <a:stretch/>
        </p:blipFill>
        <p:spPr>
          <a:xfrm>
            <a:off x="5929200" y="857160"/>
            <a:ext cx="2714760" cy="28576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3"/>
          <p:cNvSpPr/>
          <p:nvPr/>
        </p:nvSpPr>
        <p:spPr>
          <a:xfrm>
            <a:off x="293040" y="4151160"/>
            <a:ext cx="620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одежь, что с тобой нынче стал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должна быть душа, голо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 а в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арики и старух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ть и молоды ваши г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0" y="4011120"/>
            <a:ext cx="464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попробова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рава эти сигаре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же можно их курить, так здоровью-то вред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C:\Users\Сергей\Desktop\д.jpeg"/>
          <p:cNvPicPr/>
          <p:nvPr/>
        </p:nvPicPr>
        <p:blipFill>
          <a:blip r:embed="rId1"/>
          <a:stretch/>
        </p:blipFill>
        <p:spPr>
          <a:xfrm>
            <a:off x="285840" y="285840"/>
            <a:ext cx="2857320" cy="250020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4"/>
          <p:cNvSpPr/>
          <p:nvPr/>
        </p:nvSpPr>
        <p:spPr>
          <a:xfrm>
            <a:off x="4357800" y="0"/>
            <a:ext cx="412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у школы два мальчишки    зажигают часто сп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скажи, ну как мне быть? Предлагали заку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C:\Users\Сергей\Desktop\гпш.jpeg"/>
          <p:cNvPicPr/>
          <p:nvPr/>
        </p:nvPicPr>
        <p:blipFill>
          <a:blip r:embed="rId2"/>
          <a:stretch/>
        </p:blipFill>
        <p:spPr>
          <a:xfrm>
            <a:off x="5929200" y="4000680"/>
            <a:ext cx="29289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 flipV="1" rot="10800000">
            <a:off x="-360" y="3850560"/>
            <a:ext cx="57862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оссии на 100 тысяч детей в возрасте от 12 до 18 л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73 человека наркоманы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4" descr="C:\Users\Сергей\Desktop\59583429_8081.jpg"/>
          <p:cNvPicPr/>
          <p:nvPr/>
        </p:nvPicPr>
        <p:blipFill>
          <a:blip r:embed="rId1"/>
          <a:stretch/>
        </p:blipFill>
        <p:spPr>
          <a:xfrm>
            <a:off x="4624560" y="662040"/>
            <a:ext cx="3447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857160" y="357120"/>
            <a:ext cx="77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Скажи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Т!»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- наркоти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2" descr="179269_3.jpg"/>
          <p:cNvPicPr/>
          <p:nvPr/>
        </p:nvPicPr>
        <p:blipFill>
          <a:blip r:embed="rId1"/>
          <a:stretch/>
        </p:blipFill>
        <p:spPr>
          <a:xfrm>
            <a:off x="755640" y="1500120"/>
            <a:ext cx="4102200" cy="278604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pic>
        <p:nvPicPr>
          <p:cNvPr id="457" name="Рисунок 3" descr="1971mad.jpg"/>
          <p:cNvPicPr/>
          <p:nvPr/>
        </p:nvPicPr>
        <p:blipFill>
          <a:blip r:embed="rId2"/>
          <a:stretch/>
        </p:blipFill>
        <p:spPr>
          <a:xfrm>
            <a:off x="5143680" y="1500120"/>
            <a:ext cx="3268440" cy="47865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sp>
        <p:nvSpPr>
          <p:cNvPr id="458" name="TextBox 4"/>
          <p:cNvSpPr/>
          <p:nvPr/>
        </p:nvSpPr>
        <p:spPr>
          <a:xfrm>
            <a:off x="1214280" y="4429080"/>
            <a:ext cx="35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 20% детей – «слабоумие» и физическое уродство – это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каждый четвертый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ребен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Рисунок 2" descr="29657043.jpg"/>
          <p:cNvPicPr/>
          <p:nvPr/>
        </p:nvPicPr>
        <p:blipFill>
          <a:blip r:embed="rId1"/>
          <a:stretch/>
        </p:blipFill>
        <p:spPr>
          <a:xfrm>
            <a:off x="642960" y="1428840"/>
            <a:ext cx="5000760" cy="4851360"/>
          </a:xfrm>
          <a:prstGeom prst="rect">
            <a:avLst/>
          </a:prstGeom>
          <a:ln w="31680">
            <a:solidFill>
              <a:srgbClr val="c00000"/>
            </a:solidFill>
            <a:miter/>
          </a:ln>
        </p:spPr>
      </p:pic>
      <p:sp>
        <p:nvSpPr>
          <p:cNvPr id="460" name="TextBox 3"/>
          <p:cNvSpPr/>
          <p:nvPr/>
        </p:nvSpPr>
        <p:spPr>
          <a:xfrm>
            <a:off x="0" y="3571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Не приближайся к пропа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4"/>
          <p:cNvSpPr/>
          <p:nvPr/>
        </p:nvSpPr>
        <p:spPr>
          <a:xfrm>
            <a:off x="5643720" y="2500200"/>
            <a:ext cx="30002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00 тысяч человек  больны СПИД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з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олодеж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5 – 20 лет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ляет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72%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 flipV="1" rot="10800000">
            <a:off x="0" y="4314240"/>
            <a:ext cx="550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ез день будет поздно, через час будет поз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ез миг будет уже не встать, потому что в жилах застыл 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C:\Users\Сергей\Desktop\a1056120091211618238n.jpg"/>
          <p:cNvPicPr/>
          <p:nvPr/>
        </p:nvPicPr>
        <p:blipFill>
          <a:blip r:embed="rId1"/>
          <a:stretch/>
        </p:blipFill>
        <p:spPr>
          <a:xfrm>
            <a:off x="3857760" y="703440"/>
            <a:ext cx="47149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3"/>
          <p:cNvSpPr/>
          <p:nvPr/>
        </p:nvSpPr>
        <p:spPr>
          <a:xfrm>
            <a:off x="0" y="3016800"/>
            <a:ext cx="5643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нужны нам кошмары дурацкие э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 мне, ни родным, ни нашей план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айте покончим с бедой на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ми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наша большая сем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C:\Users\Сергей\Desktop\роо.jpeg"/>
          <p:cNvPicPr/>
          <p:nvPr/>
        </p:nvPicPr>
        <p:blipFill>
          <a:blip r:embed="rId1"/>
          <a:stretch/>
        </p:blipFill>
        <p:spPr>
          <a:xfrm>
            <a:off x="5786280" y="571680"/>
            <a:ext cx="28576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3"/>
          <p:cNvSpPr/>
          <p:nvPr/>
        </p:nvSpPr>
        <p:spPr>
          <a:xfrm>
            <a:off x="2786040" y="458100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с не прельстит тот мир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ый образ жизни выбираю я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C:\Users\Сергей\Desktop\Рисунок1.jpg"/>
          <p:cNvPicPr/>
          <p:nvPr/>
        </p:nvPicPr>
        <p:blipFill>
          <a:blip r:embed="rId1"/>
          <a:stretch/>
        </p:blipFill>
        <p:spPr>
          <a:xfrm>
            <a:off x="1928880" y="500040"/>
            <a:ext cx="5715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Рисунок 15" descr="mp3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8"/>
          <p:cNvSpPr/>
          <p:nvPr/>
        </p:nvSpPr>
        <p:spPr>
          <a:xfrm>
            <a:off x="2214720" y="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авайте 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Давайте жизнью  доро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Рисунок 19" descr="8.gif"/>
          <p:cNvPicPr/>
          <p:nvPr/>
        </p:nvPicPr>
        <p:blipFill>
          <a:blip r:embed="rId2"/>
          <a:stretch/>
        </p:blipFill>
        <p:spPr>
          <a:xfrm>
            <a:off x="285840" y="0"/>
            <a:ext cx="885816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6"/>
          <p:cNvSpPr/>
          <p:nvPr/>
        </p:nvSpPr>
        <p:spPr>
          <a:xfrm>
            <a:off x="0" y="178812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годня выступаем мы на сц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 всех, кто хочет жить, держать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 век 21-ый жить хотим досто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 всем, кто к нам с иглой, ответим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т!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амим судьбу свою вершить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ссии-матушке слу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Хотим заверить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в самом деле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м с вредными привычками не ж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 спортом мы расстанемся неско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о время не унять и не сдерж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гда придут на сцену наши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б не пришлось таких проблем реш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2" descr="699090_20041023132959.jpg"/>
          <p:cNvPicPr/>
          <p:nvPr/>
        </p:nvPicPr>
        <p:blipFill>
          <a:blip r:embed="rId1"/>
          <a:stretch/>
        </p:blipFill>
        <p:spPr>
          <a:xfrm>
            <a:off x="571680" y="1714680"/>
            <a:ext cx="6000480" cy="45003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3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Легкое здорового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курящего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6643800" y="1500120"/>
            <a:ext cx="2500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пачка в ден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кг. смолы в г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тысячи руб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 сигарета – 15 минут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2" descr="rak.jpg"/>
          <p:cNvPicPr/>
          <p:nvPr/>
        </p:nvPicPr>
        <p:blipFill>
          <a:blip r:embed="rId1"/>
          <a:stretch/>
        </p:blipFill>
        <p:spPr>
          <a:xfrm>
            <a:off x="3786120" y="2787480"/>
            <a:ext cx="4808520" cy="34992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3429000" y="3571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Скажи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НЕТ!»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– ку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5" descr="image031.jpg"/>
          <p:cNvPicPr/>
          <p:nvPr/>
        </p:nvPicPr>
        <p:blipFill>
          <a:blip r:embed="rId2"/>
          <a:stretch/>
        </p:blipFill>
        <p:spPr>
          <a:xfrm>
            <a:off x="0" y="571680"/>
            <a:ext cx="3429000" cy="58467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6" descr="picture-1.png"/>
          <p:cNvPicPr/>
          <p:nvPr/>
        </p:nvPicPr>
        <p:blipFill>
          <a:blip r:embed="rId3"/>
          <a:stretch/>
        </p:blipFill>
        <p:spPr>
          <a:xfrm>
            <a:off x="3357720" y="285840"/>
            <a:ext cx="9284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428760" y="2802960"/>
            <a:ext cx="478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м должен каждый дорожить. Кому проблемы лишние нуж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надо жить, любить, творить. Зачем тебе курение, ска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C:\Users\Сергей\Desktop\мс.jpeg"/>
          <p:cNvPicPr/>
          <p:nvPr/>
        </p:nvPicPr>
        <p:blipFill>
          <a:blip r:embed="rId1"/>
          <a:stretch/>
        </p:blipFill>
        <p:spPr>
          <a:xfrm>
            <a:off x="5715000" y="428760"/>
            <a:ext cx="3071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0" y="3763800"/>
            <a:ext cx="45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доровье никогда ты не вернеш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умай, для чего же ты жив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о жизнью дорож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здоровье-это важно-может каждый сохран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G:\КУРЕНИЕ\за здоровый образ жизни\kurenie_4096_22.jpg"/>
          <p:cNvPicPr/>
          <p:nvPr/>
        </p:nvPicPr>
        <p:blipFill>
          <a:blip r:embed="rId1"/>
          <a:stretch/>
        </p:blipFill>
        <p:spPr>
          <a:xfrm>
            <a:off x="4214880" y="214200"/>
            <a:ext cx="47149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C:\Users\Сергей\Desktop\пнш.jpeg"/>
          <p:cNvPicPr/>
          <p:nvPr/>
        </p:nvPicPr>
        <p:blipFill>
          <a:blip r:embed="rId1"/>
          <a:stretch/>
        </p:blipFill>
        <p:spPr>
          <a:xfrm>
            <a:off x="5643720" y="785880"/>
            <a:ext cx="2928960" cy="25002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285840" y="28011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ни летят, идут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ын растет, как нико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ять классов за спиной, стал сынок совсем больш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ньги просит без конца у поседевшего от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чего  - не говорит, принимает умны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C:\Users\Сергей\Desktop\ане.jpeg"/>
          <p:cNvPicPr/>
          <p:nvPr/>
        </p:nvPicPr>
        <p:blipFill>
          <a:blip r:embed="rId1"/>
          <a:stretch/>
        </p:blipFill>
        <p:spPr>
          <a:xfrm>
            <a:off x="5572080" y="571680"/>
            <a:ext cx="3286080" cy="29286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0" y="4295880"/>
            <a:ext cx="614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дружки тебе   тверд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т попробуешь разок и узнаешь жизнь, браток!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все врань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ерь!       Мигом втянешься, повер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Рисунок 2" descr="seneka.jpg"/>
          <p:cNvPicPr/>
          <p:nvPr/>
        </p:nvPicPr>
        <p:blipFill>
          <a:blip r:embed="rId1"/>
          <a:stretch/>
        </p:blipFill>
        <p:spPr>
          <a:xfrm>
            <a:off x="0" y="2571840"/>
            <a:ext cx="3511440" cy="4286160"/>
          </a:xfrm>
          <a:prstGeom prst="rect">
            <a:avLst/>
          </a:prstGeom>
          <a:ln w="0">
            <a:noFill/>
          </a:ln>
        </p:spPr>
      </p:pic>
      <p:sp>
        <p:nvSpPr>
          <p:cNvPr id="428" name="TextBox 3"/>
          <p:cNvSpPr/>
          <p:nvPr/>
        </p:nvSpPr>
        <p:spPr>
          <a:xfrm>
            <a:off x="1857240" y="428760"/>
            <a:ext cx="592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«Опьянение есть добровольное безум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ций   Анней Сен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3:59:19Z</dcterms:created>
  <dc:creator>Comp2</dc:creator>
  <dc:description/>
  <dc:language>en-US</dc:language>
  <cp:lastModifiedBy>Пользователь</cp:lastModifiedBy>
  <dcterms:modified xsi:type="dcterms:W3CDTF">2013-01-13T13:50:46Z</dcterms:modified>
  <cp:revision>73</cp:revision>
  <dc:subject/>
  <dc:title>«Мы – за здоровый  образ жизни!»</dc:title>
</cp:coreProperties>
</file>