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0E6-E2A8-481C-8644-EB56F3E5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DAE-5E58-4381-A7C5-2BA1D12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BC5-E52C-4136-B58F-3068843B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7A6-57AA-4298-9E54-BF483B6D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C20-2BD2-40C5-9431-0E13697B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FEA-3D32-43AD-B2BA-2E654BFA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F01-22D9-4F23-AA77-2EF61762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6B1-4770-4EE3-ABEC-BC52CD12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5B9-0EFF-4F16-B4DC-D38F5FCB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34A-58A6-4686-BD4A-1235AA7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5F8-512F-4F76-9A5C-95AB6F83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2F7-12DA-4EBB-A14E-174DF58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43A7-CB90-42EC-B098-638C79D02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НЕСЕНИЕ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650880"/>
            <a:ext cx="813744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1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56000" y="5013360"/>
            <a:ext cx="3124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252360" y="912960"/>
            <a:ext cx="957744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090440"/>
            <a:ext cx="91440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02:36Z</dcterms:created>
  <dc:creator>Admin</dc:creator>
  <dc:description/>
  <dc:language>en-US</dc:language>
  <cp:lastModifiedBy>Admin</cp:lastModifiedBy>
  <dcterms:modified xsi:type="dcterms:W3CDTF">2013-01-08T04:37:29Z</dcterms:modified>
  <cp:revision>2</cp:revision>
  <dc:subject/>
  <dc:title>НАНЕСЕНИЕ РАЗМЕРОВ</dc:title>
</cp:coreProperties>
</file>