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9FF7-93F9-4BE6-87CE-A7D8CBE1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EFB-84C9-4AE3-9F8C-7A450B34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431E-806D-4808-9724-3DDC3327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694F-BDA6-4150-B508-084F181E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1FC-E91D-4A76-A334-5FB59C41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388-688C-4B3B-AD70-928A0F11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B2CD-3679-4076-8210-88E98EFD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ED90-780C-4C86-8E64-FBCC0069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978-9242-463A-A812-54C01085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F6B1-C5E8-437E-A26A-37581150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9677-BEA6-4BBC-B048-0034E711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C55D-92CC-4B0B-9758-69A31B0C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7EC6-FCC2-4A4E-95C3-F0C6156D19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НЕСЕНИЕ РАЗМЕ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1280" y="650880"/>
            <a:ext cx="813744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16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556000" y="5013360"/>
            <a:ext cx="3124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252360" y="912960"/>
            <a:ext cx="957744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090440"/>
            <a:ext cx="9144000" cy="46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2:02:36Z</dcterms:created>
  <dc:creator>Admin</dc:creator>
  <dc:description/>
  <dc:language>en-US</dc:language>
  <cp:lastModifiedBy>Admin</cp:lastModifiedBy>
  <dcterms:modified xsi:type="dcterms:W3CDTF">2013-01-08T04:37:29Z</dcterms:modified>
  <cp:revision>2</cp:revision>
  <dc:subject/>
  <dc:title>НАНЕСЕНИЕ РАЗМЕРОВ</dc:title>
</cp:coreProperties>
</file>