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4E4-2215-4838-98A7-81ED765F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CCE-7ED6-4361-AFAA-D5A333A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9E1-348A-40F1-8B46-AB1F7463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39D-89B9-4006-A10F-F4C5FD59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E0B-0AF6-4115-9A68-5B8E310B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C09-9EED-4E62-8342-E3033FA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F6EE-C81D-4272-8679-0E0613D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E221-6D59-4CBF-90D3-81C104C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7D1-1CDF-434D-89A6-EBF5D051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CBA4-7C3B-4150-866E-CA177A3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BD01-C5D6-4743-86E2-070FE3F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BFF-E934-4DAD-9E13-52218B2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D41-5094-4978-B332-1CCBF195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9875-378A-4CC4-B9A4-EDFE72D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7BF-61F4-4D51-9A02-4C4544D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C6E-0537-407B-966D-F66E4B5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1E0-C54F-43B6-BB7E-503776CA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5507-1ABC-4335-AF68-EDF0354A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2F25-740D-49B2-8BB3-A265BF54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71BF-91F2-4544-916A-3529B89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1810-9283-4E7D-B81F-FA725DD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64F4-6C36-4538-86A4-58E85B3C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792-16BD-4F4B-9AF4-784EC0D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52BF-AAE6-4237-AC68-0B76F39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9C41-646B-4E39-A5EC-3397A84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8C24-620B-49A5-A7A5-137662E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90FA8-96ED-49D5-AE73-AEE2D06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EC04-17DF-4470-B0DC-F507902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C79C-E712-4227-AB85-540B12C5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A24A-FB6F-494B-9DA0-F73C4F74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A932-8E01-4BF0-9A7E-025A0E73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BA25-18FF-4E34-BB5A-C444C10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0EBD-6F46-461F-AF26-37999375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248-61D5-486B-B8AA-EDCF34B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A724-B551-456D-A060-C092B2D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CD00-E814-4966-8EA4-3A20E9E9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DC3F-E1D7-4E41-9AE4-E2669DF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02A6-5B1B-4EB4-B8A7-ED1AC9E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5736-82B5-4DEA-97A4-CADCEB0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D52D-7E0B-4114-8B3F-B260226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E5EC-EC73-4F18-A8FB-92CA3AB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3998-D9FE-4C59-9BFB-E9FEFCEB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AE45-6F57-4D05-9F0D-4CF1B6E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A0C2-EDC2-4174-B829-97D838D8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814-E65A-4FAB-9E58-A576AB2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F330-6DEF-418E-8654-FBAB4F74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D07C-4894-4DEC-89AC-0B681EE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98DE-6CB4-447C-9EED-9FDA0B3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ED6F8-636F-4CD9-A4BB-7EF4E55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9EAF-A7DE-4B50-80DF-B85CBD0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8AD1-CB10-4794-8E72-29CD81B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DE28-1235-41E3-9D13-EE64FAA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CE50-CE15-4CF9-AC06-067BC2B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5394-1D8F-4084-991B-7A095E5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F380-6A2F-42CC-8DB1-370D74DA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25C-4328-463F-AEB2-61804E7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D56D-D313-4C19-822B-B899885A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7D118-D374-4FDC-89CC-F3DE9CC2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9592-81DA-4917-A677-9F041B9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0B9F1-07A4-4BED-A8D5-26B345F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ECCE-6429-43D5-84CD-7746F1F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2E9D-9433-4CD7-9F42-8444DC39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3531-5A88-4BE9-A2BC-5ABAD2B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A54D-73F8-4F49-8216-6E13597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8E2B-8F0C-4C27-957A-27487B6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2C620-C39D-4BB9-8209-21058E8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EF8-E138-424A-9F55-687B88F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A57E-29EF-44B0-8C6C-C0DFD72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FD66-1336-44ED-AB65-F40F75DA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49F9-FEA9-42E7-B5B5-E6A4396E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E2B0-76EC-42DD-B06E-51697B0A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04D0-DCDB-4731-9072-4CA0B5BB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E45A-0993-4618-A2A5-EF11B71C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A848-6C04-4013-83C3-5E021D3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9C61-BF07-4CD5-98EA-BAAFFAD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7C19-C81F-435A-9FF7-0290EB74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9B38-3E48-48DC-9B9D-E79F5C1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2E2-9F5C-48BF-A87B-595EE90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C768-BCA8-4E2B-9E3E-C1EA4C2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4C04-B23C-497E-8A58-B138E50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6469F-4514-41D1-A01A-0AC8423A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B7DF4-AC0E-4830-B51D-298AD591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8044-3761-4A7B-A76F-27042AE8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BE3-36DB-4EBF-B9EC-E823108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7FC-6087-4CA4-9C1D-00CCB164A1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F87-D2A9-4347-9639-CBA3F7099C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662-1701-4A85-A2C9-36211E7306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3E88-CA6E-45FC-A1E9-32264E328F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446-01D5-4A46-943E-71F37CDD0A7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D23E-72F3-4514-8305-219CDF3BDD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8D5E-513D-492D-AF90-8D365E612C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епроизносимые согласные в корне слов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Звук произносится, а буква не 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Звук не произносится, и буква не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Звук не произносится, а буква 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Что такое непроизносимый согласный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1042920" y="3573360"/>
            <a:ext cx="457200" cy="55404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Груст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русти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В каком слове есть непроизносимый согласный звук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Овал 3"/>
          <p:cNvSpPr/>
          <p:nvPr/>
        </p:nvSpPr>
        <p:spPr>
          <a:xfrm>
            <a:off x="1116000" y="2637000"/>
            <a:ext cx="360360" cy="62532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ле спячки жук ожил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апкой он пошевелил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евелить усами ста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Здравствуй, солнце»,- он сказа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,     2,        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колько слов с непроизносимыми согласными в корне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1619280" y="4859280"/>
            <a:ext cx="431640" cy="55404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Изменить сло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Подобрать  похожее по значению сло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добрать однокоренное слово, где этот звук  произноси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к проверить, есть ли в слове непроизносимый согласный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Овал 3"/>
          <p:cNvSpPr/>
          <p:nvPr/>
        </p:nvSpPr>
        <p:spPr>
          <a:xfrm>
            <a:off x="1042920" y="3573360"/>
            <a:ext cx="432000" cy="4320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Сердц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увст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частл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Чудес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Назови номера  слов с непроизносимыми согласными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1133640" y="2637000"/>
            <a:ext cx="215640" cy="4572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Овал 4"/>
          <p:cNvSpPr/>
          <p:nvPr/>
        </p:nvSpPr>
        <p:spPr>
          <a:xfrm>
            <a:off x="1120680" y="3165480"/>
            <a:ext cx="319320" cy="40788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Овал 5"/>
          <p:cNvSpPr/>
          <p:nvPr/>
        </p:nvSpPr>
        <p:spPr>
          <a:xfrm>
            <a:off x="1187280" y="3573360"/>
            <a:ext cx="268560" cy="42552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9:27:33Z</dcterms:created>
  <dc:creator>Usver</dc:creator>
  <dc:description/>
  <dc:language>en-US</dc:language>
  <cp:lastModifiedBy>Usver</cp:lastModifiedBy>
  <dcterms:modified xsi:type="dcterms:W3CDTF">2013-01-13T16:11:39Z</dcterms:modified>
  <cp:revision>4</cp:revision>
  <dc:subject/>
  <dc:title>Непроизносимые согласные в корне слова</dc:title>
</cp:coreProperties>
</file>