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6A1-3487-42F9-9D35-2E4FC317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E54-F150-4E76-BABE-55471448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F8A-3BA1-49EC-B713-C4FF7E67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37A-A94F-4425-8DD0-862B5BEB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31E-6CE1-418A-9C3D-1B6554E4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FD0A-8B20-4FF1-9B0E-0DE8EEE1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8158-37D4-4FE9-93D5-91DC3B58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53FC-FA12-4A04-9A9A-DBB780CB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12B3-55C1-4AB4-A9E2-81788ED8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4876-67D4-4A52-B737-703D992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FEEB-3C27-495A-A395-9A4BC906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13F-DA0F-4F80-A846-0781851C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755E-39C3-47E0-A125-1C2C8A83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DEC0-0DD7-4B5A-9D33-D224EED1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749E-3127-4042-9B8B-299A1934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5348-4823-4170-8509-65724D4C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125D-0573-4F39-8AB1-6E9A8EA7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DCA6E-E185-4652-AC1B-118048A9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75A3-1CAD-42CA-AC94-7614B8AB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4A59-3715-4845-BC27-B2170EBF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CC2C-E4BF-4DD3-9FEA-9A24659B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8ACB-0369-413F-9317-74C85B15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0EB-8115-4BC9-B474-4D655158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C017D-DB74-4EFE-9F48-AE9BB0F8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718F-EB72-4360-9BA7-86C5A2F0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5FCE-C0C4-4204-836A-2F8FC4B2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4E62-F93F-486E-BE20-B5149BA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51925-859D-4A71-8A06-CE5AFC9D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3DB4-7A9A-4A1A-B53C-24378A33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6290-0788-4F2F-8E89-C38CE94C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4C12F-8DDB-4F14-8F9A-B6CA1C1D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03D38-8D7B-4975-9790-7EC1FD01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7BDB-3410-43DF-A6C9-A79FEB6B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7BF-D7FA-4590-A001-AB457CC5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8DCC-5E53-47F7-B268-6FE9CA76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FF260-2035-45C4-88D9-23C5DEFD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E2C7-7426-4394-90CF-35075D06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59185-6F8F-4DC8-A885-14C9B872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BD2C0-D382-4ADF-9B75-B3ABA16A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95CA-ADE2-486B-AABC-91E80E14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28BB-B86B-4E79-AC09-55429B3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B633-6772-447B-9224-39464F87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B3B25-6948-4EF5-905B-70CA022D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7D3C3-7259-437C-8728-4876E84A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1B3-646A-4F11-8670-9B6FAACD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BEBA2-F2F6-47B9-B74E-5E241456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6FDA-0B9A-424E-8685-750037F4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C4AEF-FFAC-42B7-953E-9F0B55B4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EA644-5D6A-4DF1-B401-D7B12031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36C4D-3DF3-4F1E-B0DE-1D845D32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8047-C7C8-4AE7-A23D-B54970C3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2221F-E8A1-4178-B53B-86C4CCF5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6A8E4-ED7D-4066-B651-FC1F270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51637-194C-4D65-B7D8-F2977A7D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9BFB8-3169-490A-B625-78C9EE18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DD8-CDD6-4800-B7F6-12351D9D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64CC7-1519-458A-B26F-F923F88D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FE7D2-4175-4B61-B10E-35B9468A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60840-8A65-4A5A-A7A7-2B548359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AC264-D922-4FC9-99F8-DDDE973A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51A04-DF21-4492-A8DF-68E9269E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A3AE6-09E9-4D77-9336-42C08632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9A50A-322A-43B9-80CF-3E398B9B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4EC93-609D-4892-A911-82F378B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F2461-270D-4AE8-8632-A3928FB6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AD93B-CFBF-4C62-AAA7-C423E907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0B3-421B-416C-8DA8-16E59E92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8692E-CFC2-4C35-9095-6CED7BB3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80CE0-65AC-4F77-8280-7127F439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D8E02-0906-4378-A0DE-1436A0CD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BC9ED-EB36-4C97-8CA0-EABE83C9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B9F70-ABF0-4E95-83CE-C8EB4850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CC63C-F512-4452-A23B-39E8FB7B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53A4-0EC3-4E52-8304-9F178A56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82F0E-474A-4B20-8FF1-173C3B27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3E71C-8248-439A-901E-342FC016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12D2A-E6F2-4633-88B5-AB7E349E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BA5-5AD6-49B2-ACE2-AF6B66CD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C402-1E97-4478-AC89-7318F597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25999-67DE-479B-890E-628583C6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5F6BA-476E-4B33-B3E6-3AF72885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336C1-8C93-4044-834E-B8B69E35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EFBFE-7F37-4551-AD4C-6E74382E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263-155D-4A19-AB79-6C6DF30C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9DC8-A541-4474-9F34-53FD03C18E4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8284-6669-425E-A831-4DB6D7272C9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3406-69A7-4853-BB39-7B1F02FE011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8587-26ED-4123-94F6-8820C0A00F6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CB8A-55F9-43CA-986E-20DC51C9DCE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97FF-258E-42B0-AC03-1054F3EF66B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0B32-E424-4707-824D-7BFFD0564AE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епроизносимые согласные в корне слов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Звук произносится, а буква не  пиш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Звук не произносится, и буква не пиш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Звук не произносится, а буква  пиш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Что такое непроизносимый согласный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Овал 3"/>
          <p:cNvSpPr/>
          <p:nvPr/>
        </p:nvSpPr>
        <p:spPr>
          <a:xfrm>
            <a:off x="1042920" y="3573360"/>
            <a:ext cx="457200" cy="55404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Грустн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Грусти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В каком слове есть непроизносимый согласный звук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Овал 3"/>
          <p:cNvSpPr/>
          <p:nvPr/>
        </p:nvSpPr>
        <p:spPr>
          <a:xfrm>
            <a:off x="1116000" y="2637000"/>
            <a:ext cx="360360" cy="62532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сле спячки жук ожил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апкой он пошевелил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Шевелить усами ста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«Здравствуй, солнце»,- он сказа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,     2,        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Сколько слов с непроизносимыми согласными в корне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Овал 3"/>
          <p:cNvSpPr/>
          <p:nvPr/>
        </p:nvSpPr>
        <p:spPr>
          <a:xfrm>
            <a:off x="1619280" y="4859280"/>
            <a:ext cx="431640" cy="55404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Изменить слов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Подобрать  похожее по значению слов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одобрать однокоренное слово, где этот звук  произноси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Как проверить, есть ли в слове непроизносимый согласный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Овал 3"/>
          <p:cNvSpPr/>
          <p:nvPr/>
        </p:nvSpPr>
        <p:spPr>
          <a:xfrm>
            <a:off x="1042920" y="3573360"/>
            <a:ext cx="432000" cy="4320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Сердц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Чувств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Счастлив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Чудесн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Назови номера  слов с непроизносимыми согласными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Овал 3"/>
          <p:cNvSpPr/>
          <p:nvPr/>
        </p:nvSpPr>
        <p:spPr>
          <a:xfrm>
            <a:off x="1133640" y="2637000"/>
            <a:ext cx="215640" cy="4572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Овал 4"/>
          <p:cNvSpPr/>
          <p:nvPr/>
        </p:nvSpPr>
        <p:spPr>
          <a:xfrm>
            <a:off x="1120680" y="3165480"/>
            <a:ext cx="319320" cy="40788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Овал 5"/>
          <p:cNvSpPr/>
          <p:nvPr/>
        </p:nvSpPr>
        <p:spPr>
          <a:xfrm>
            <a:off x="1187280" y="3573360"/>
            <a:ext cx="268560" cy="42552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09:27:33Z</dcterms:created>
  <dc:creator>Usver</dc:creator>
  <dc:description/>
  <dc:language>en-US</dc:language>
  <cp:lastModifiedBy>Usver</cp:lastModifiedBy>
  <dcterms:modified xsi:type="dcterms:W3CDTF">2013-01-13T16:11:39Z</dcterms:modified>
  <cp:revision>4</cp:revision>
  <dc:subject/>
  <dc:title>Непроизносимые согласные в корне слова</dc:title>
</cp:coreProperties>
</file>