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28.wmf" ContentType="image/x-wmf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4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FA93-57C0-48C0-90B0-F9339477F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E877-654F-42EC-B9F6-C36B303B9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ый день. Меня зовут Ксения. Я ученица 3 класса школы № 2 . Когда три года назад я пришла в школу, учительница познакомила меня с азбукой и  циф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йчас, когда я повзрослела, в своей жизни я столкнулась с другой азбукой – Азбукой дороги и узнала другие, очень страшные циф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F31-2A49-4024-B552-0BD92C516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ытие, возникающее в процессе движения. при котором ранены или погибли люди, повреждены машины, называется дорожно-транспортным происшествием или ДТП. Пешеход – это участник дорожн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мотный пешеход – это  участник дорожного движения, который знает и соблюдает ПД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13D-D312-442A-AAA7-B024E1A556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литературы по теме исследования позволил нам выявить основные причины ДТП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вом месте - нарушение правил водителями, 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втором месте оказались нарушения правил дорожного движения  и невнимательность самих пеше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не можем отвечать за действия водителей, но обязаны быть в ответе за себ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арии происходят не потому, что правила перехода через дорогу сложны и трудновыполни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а -  недопустимое поведение пешеходов, подражание   другим   лицам, нарушающим Прави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гда , забывая об опасности, дети повторяют то, что делают взрослые. А взрослые не всегда соблюдают Правила Дорожного движения. Они пытаются перебежать улицу. И перебегают. А дет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797-0E0F-4D27-A4B4-E08959C3F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ктическую часть мы провели в три эта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вом этапе мной была проведена анкета для учащихся начальных классов разн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опросы анке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Знакомили ли тебя с правилами дорожного движени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ак ты считаешь, необходимо ли их соблюдат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Читал ли ты статьи в газетах о ДТП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сегда ли ты соблюдаешь правила на дорог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вод по данной работе такой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дети постоянно получают из различных источников информацию о необходимости соблюдать Правила Дорожного Движения, но только 30 % учащихся готовы соблюдать эти правила  на доро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51B8-C76D-418D-A889-91F54EE92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тором этапе мы проанализировали печатные издания и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делала Вывод, чт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 исследуемые газеты содержали в себе информацию о последствиях несоблюдения правил - авариях, в том числе и с участием пеше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1742-4E97-4B76-B3FF-B50C89A24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ретьем этапе практической части мы выявили наиболее типичные обстоятельства ДТП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ашем город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анные были нам предоставлены начальником ГИБДД города Шелех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видим, ч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арии происходят чаще всего в то время, когда дети идут домой из школы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ятся без присмо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адают в ДТП т в основном  учащие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ьн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, на котором происходит авария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-шко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рогу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совершения ДТП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зжая ча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половине случае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новник был сам ребён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н переходил дорогу в неустановленном ме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УГИБДД  ГУВД по Иркут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январе 2011 года произошло 416 дорожно-транспортных происшествий, в которых были ранены 425 человек, 21 – погиб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елеховском районе произошло 70 ДТП, в которых ранены 4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9961-3B29-475B-AD14-7496DB211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0B5C-0931-4F16-9F8E-F74A2FC08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нализировав результаты, полученные при выполнении исследовательской работы, можно сделать выводы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ают ли дети теоретические знания по Правилам Дорожного Движения?  - 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онимают ли они необходимость их соблюдения ? – 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Знакомы ли они с последствиями несоблюдения правил и причинами ДТП ? – 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сегда ли соблюдают изученные Правила на практике? – В основном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Что является следствием несоблюдения правил? – Дорожно-транспортные происшествия, ранения и гибель пеше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B9A-72E3-41FE-B417-8047520ED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98BE-E08D-4DDC-A947-D9579F507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220-1538-4CEE-9A9F-9DFBED603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Каждый год в нашей стране на дорогах происходят сотни ава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гибнет более 30 тысяч человек. Свыше 200 тысяч получают травмы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щерб наносится в миллиарды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 нашем городе Аварии происходят каждый день и чуть ли не каждый час! В которых погибают часто д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почему же это происходи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каждый из нас с детства знаком с Правилами дорожного дви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аленьких детей обучает правилам мам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чеников в школе учат как вести себя на дороге их учител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одители изучают Правила в автошкол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зеты и телевидение постоянно знакомят нас  со страшными авариями, которые часто заканчиваются смер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ё это обозначило явное противореч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ду знаниями правил дорожного движения и не умением применять их в жиз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проекта можно только будет определить через определённый период времени, т.к. эта работа требует ежедневных повторении, отработки, уважения со стороны всех участников дорож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оект рассчитан на долгосрочный период времени, так как  эффективность проделанной работы мы сможем оценить, изучив статистику ДТП с участием детей через год. Распространение памяток не ограничится одной акцией. Мы планируем продолжить проведение рейдов с участием детей, родителей, конкурсов по созданию новых памяток, листовок, плакатов. И распространение продукции мини-типографии среди участников Д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даже то, что в наш период реализации проекта не погибло ни одного ребёнка это не маловажный показател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46AA-9A10-4CE5-9AFA-A0AAB60C1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9AFA-8CE6-47F8-8621-BE27E985F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м образом, выдвинутая нами в начале исследовательской работы гипотеза подтвердилась. 1. Уточнено понятие «Грамотный пешеход»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редположили также, что 2. Формирование «Грамотного пешехода» в начальной школе осуществляется на основе специально разработанного проекта, включающего младшего школьника в целенаправленное приобретение знаний и умений в использовании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Мы увидели результа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Чтоб жить, не зная огорч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Играть, трудиться и мечт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Ты должен правила движ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всегда и всюду соблю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читаем что цель и задачи, поставленные нами в начале работы, были достигну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ак результат нашего исследования, нами были составлены памятк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го поведения на дороге для детей, водителей, родителей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F91B-9659-48D8-99D4-33821CFFE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дети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ите себя!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приближение к дороге - это приближение к зоне повышенной опасности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 соблюдайте правила, действующие на дороге, и, главное, уважайте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053-3060-4DA4-A476-DDD8B90E1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ачи и безопасности вам на дорога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тиворечие позволило выявить проблему нашего исследования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е читать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ти формирования «Грамотного пешехода» в начальной школе будут наиболее эффекти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DEA-7575-4825-A3FC-837828BA9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я из этого мы ставим перед собой цель -   Определить, обосновать  и экспериментально проверить  эффективность путей Формирования информационной культуры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5CE-687A-4EDB-A9F0-471D7FAB5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77FB-8BFD-4A9D-9606-21B89E58D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ом исследова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«Грамотного пешехода» в начально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едмет 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ти формирования «Грамотного пешехода» в начально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иная исследование мы предположили, что эффективное формирование «Грамотного пешехода» в начальной школе возможно при соблюдении следующих услов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Уточнено понятие «Грамотный пешеход»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редположили также, что 2. Формирование «Грамотного пешехода» в начальной школе осуществляется на основе специально разработанного проекта, включающего младшего школьника в целенаправленное приобретение знаний и умений в использовании Правил дорожного движения, а также  применение полученного опыта в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остижения цели и проверки сформулированной гипотезы необходимо рассмотреть следующ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лед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чиная наше исследование мы определили для себя 4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ачи (не зачитываю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1. Проанализировать художественную и методическую литературу по проблеме изучения и соблюдения Правил дорожного движения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 уточнения понятия «Грамотный пешеход»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, выявить основные причины ДТП, закономерность между нарушением ПДД и дорожным травматизм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2. Познакомиться с основными терминами, связанными с данной проблемой, и их значени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3. Изучить особенности, присущие детскому возрасту и влияющие на выбор способа действия в дорожных ситуация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4. Разработать и внедрить проект, включающий пути эффективного формирования «Грамотного пешехода» в начальной школ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FBA1-AD7A-41D6-9752-828C1256F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остижения цели мы использовалиследующ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зучение литературы по пробл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блюдение, тестирование, беседа, анализ результа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5382-0BFE-4A78-A7A4-FB562314C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47D-F7D1-4EC5-9816-ECAC05D78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ая первую задачу мы проанализировали литературу с целью обоснования, уточнения основного понятия нашей работы: формирование «Грамотного пешехода». Это понятие мы получили через рассмотрение общих понятий: ПДД, ГБДД, ДТП, пешех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появились первые автомобили, стало ясно, что на дорогах нужны особые правил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правила появились и в Ро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одн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равила дорожного движения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это закон, устанавливающий порядок движения на дорогах. Они обязательны для всех участников движения - водителей, пешеходов,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7FF5-91FF-4DD7-9AA4-B25D0F76E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безопасность и порядок на дорогах в нашем городе отвечает Государственная инспекция безопасности дорожного движения. (ГИБДД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Она старается сделать все для того, чтобы водители и пешеходы как можно реже пересекал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A73-1D38-4B2B-84E3-DE43782C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18F-93C6-463B-87FC-BFA4C02A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2CE-0053-416C-8F2D-41885BA5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9DD-1CF3-440A-84A2-85001F5E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E9E-CD5F-4199-BF99-87D110A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1CF-A37E-4DC1-90AA-9E369237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9FD-922A-4B01-A6A2-8226AA3E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FF6-89F0-4EB4-8E6B-821C7979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13E-BEA8-43A9-9193-3715719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79C-07E8-4BF6-96BA-7A1E23E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3C6-5F2F-46D8-9705-6B8AFF4F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104-9B11-482F-A06F-28648CC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95EB-AF37-4524-B1AF-BA8D214CF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2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184464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214960" y="5013360"/>
            <a:ext cx="355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900000" y="80964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», г.Шел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4"/>
          <p:cNvSpPr/>
          <p:nvPr/>
        </p:nvSpPr>
        <p:spPr>
          <a:xfrm>
            <a:off x="500040" y="3000240"/>
            <a:ext cx="7920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 «Грамотный пешех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643200" y="4724280"/>
            <a:ext cx="5249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Десятниченко Ксения, ученица 4 класса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Т.И.Черка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6" descr="Рисунок0"/>
          <p:cNvPicPr/>
          <p:nvPr/>
        </p:nvPicPr>
        <p:blipFill>
          <a:blip r:embed="rId1"/>
          <a:stretch/>
        </p:blipFill>
        <p:spPr>
          <a:xfrm>
            <a:off x="8215200" y="357192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J:\школа\DSCN1167о.jpg"/>
          <p:cNvPicPr/>
          <p:nvPr/>
        </p:nvPicPr>
        <p:blipFill>
          <a:blip r:embed="rId2"/>
          <a:stretch/>
        </p:blipFill>
        <p:spPr>
          <a:xfrm>
            <a:off x="3071880" y="1214280"/>
            <a:ext cx="300024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2708280"/>
            <a:ext cx="9144000" cy="4149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773360"/>
            <a:ext cx="91440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28440">
            <a:solidFill>
              <a:srgbClr val="def6f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59280" y="407664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59280" y="472428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059280" y="6553080"/>
            <a:ext cx="3673440" cy="3049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059280" y="5950080"/>
            <a:ext cx="3673440" cy="3585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059280" y="530064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2852640"/>
            <a:ext cx="9144000" cy="763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059280" y="350028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059280" y="292428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CRCTR058"/>
          <p:cNvPicPr/>
          <p:nvPr/>
        </p:nvPicPr>
        <p:blipFill>
          <a:blip r:embed="rId1"/>
          <a:stretch/>
        </p:blipFill>
        <p:spPr>
          <a:xfrm>
            <a:off x="4140360" y="476280"/>
            <a:ext cx="160488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0" descr="MCj04131720000[1]"/>
          <p:cNvPicPr/>
          <p:nvPr/>
        </p:nvPicPr>
        <p:blipFill>
          <a:blip r:embed="rId2"/>
          <a:stretch/>
        </p:blipFill>
        <p:spPr>
          <a:xfrm>
            <a:off x="6227640" y="333360"/>
            <a:ext cx="10749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j0212957"/>
          <p:cNvPicPr/>
          <p:nvPr/>
        </p:nvPicPr>
        <p:blipFill>
          <a:blip r:embed="rId3"/>
          <a:stretch/>
        </p:blipFill>
        <p:spPr>
          <a:xfrm>
            <a:off x="6877080" y="2421000"/>
            <a:ext cx="3817800" cy="23972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6"/>
          <p:cNvGrpSpPr/>
          <p:nvPr/>
        </p:nvGrpSpPr>
        <p:grpSpPr>
          <a:xfrm>
            <a:off x="-3565440" y="4554360"/>
            <a:ext cx="3565440" cy="2303280"/>
            <a:chOff x="-3565440" y="4554360"/>
            <a:chExt cx="3565440" cy="2303280"/>
          </a:xfrm>
        </p:grpSpPr>
        <p:grpSp>
          <p:nvGrpSpPr>
            <p:cNvPr id="141" name="Group 17"/>
            <p:cNvGrpSpPr/>
            <p:nvPr/>
          </p:nvGrpSpPr>
          <p:grpSpPr>
            <a:xfrm>
              <a:off x="-3565440" y="4554360"/>
              <a:ext cx="3565440" cy="2303280"/>
              <a:chOff x="-3565440" y="4554360"/>
              <a:chExt cx="3565440" cy="2303280"/>
            </a:xfrm>
          </p:grpSpPr>
          <p:sp>
            <p:nvSpPr>
              <p:cNvPr id="142" name="AutoShape 18"/>
              <p:cNvSpPr/>
              <p:nvPr/>
            </p:nvSpPr>
            <p:spPr>
              <a:xfrm>
                <a:off x="-3340440" y="4665960"/>
                <a:ext cx="3299400" cy="21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-3565440" y="4554360"/>
                <a:ext cx="3565440" cy="19011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0"/>
              <p:cNvSpPr/>
              <p:nvPr/>
            </p:nvSpPr>
            <p:spPr>
              <a:xfrm>
                <a:off x="-1071720" y="6109560"/>
                <a:ext cx="629280" cy="72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1"/>
              <p:cNvSpPr/>
              <p:nvPr/>
            </p:nvSpPr>
            <p:spPr>
              <a:xfrm>
                <a:off x="-2883960" y="6109560"/>
                <a:ext cx="629280" cy="72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2"/>
              <p:cNvSpPr/>
              <p:nvPr/>
            </p:nvSpPr>
            <p:spPr>
              <a:xfrm>
                <a:off x="-2618640" y="4704840"/>
                <a:ext cx="1591560" cy="6523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-1688040" y="5525280"/>
                <a:ext cx="668160" cy="7178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-2401200" y="5534640"/>
                <a:ext cx="622440" cy="7084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-214560" y="5658120"/>
                <a:ext cx="182520" cy="3510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-3454560" y="5457240"/>
                <a:ext cx="86760" cy="2005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27"/>
              <p:cNvSpPr/>
              <p:nvPr/>
            </p:nvSpPr>
            <p:spPr>
              <a:xfrm>
                <a:off x="-2910240" y="5607720"/>
                <a:ext cx="99720" cy="70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8"/>
              <p:cNvSpPr/>
              <p:nvPr/>
            </p:nvSpPr>
            <p:spPr>
              <a:xfrm>
                <a:off x="-634320" y="5607720"/>
                <a:ext cx="107640" cy="70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9"/>
            <p:cNvSpPr/>
            <p:nvPr/>
          </p:nvSpPr>
          <p:spPr>
            <a:xfrm>
              <a:off x="-2750400" y="6260040"/>
              <a:ext cx="391320" cy="4514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0"/>
            <p:cNvSpPr/>
            <p:nvPr/>
          </p:nvSpPr>
          <p:spPr>
            <a:xfrm>
              <a:off x="-938160" y="6260040"/>
              <a:ext cx="391320" cy="4514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31" descr="stoplight"/>
          <p:cNvPicPr/>
          <p:nvPr/>
        </p:nvPicPr>
        <p:blipFill>
          <a:blip r:embed="rId4"/>
          <a:stretch/>
        </p:blipFill>
        <p:spPr>
          <a:xfrm>
            <a:off x="2340000" y="189000"/>
            <a:ext cx="976320" cy="1341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2"/>
          <p:cNvSpPr/>
          <p:nvPr/>
        </p:nvSpPr>
        <p:spPr>
          <a:xfrm>
            <a:off x="2771640" y="1484280"/>
            <a:ext cx="144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3"/>
          <p:cNvSpPr/>
          <p:nvPr/>
        </p:nvSpPr>
        <p:spPr>
          <a:xfrm>
            <a:off x="2627280" y="692280"/>
            <a:ext cx="432000" cy="360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4"/>
          <p:cNvSpPr/>
          <p:nvPr/>
        </p:nvSpPr>
        <p:spPr>
          <a:xfrm>
            <a:off x="2627280" y="260280"/>
            <a:ext cx="432000" cy="360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2627280" y="260280"/>
            <a:ext cx="432000" cy="432000"/>
          </a:xfrm>
          <a:custGeom>
            <a:avLst/>
            <a:gdLst>
              <a:gd name="textAreaLeft" fmla="*/ 98640 w 432000"/>
              <a:gd name="textAreaRight" fmla="*/ 333360 w 432000"/>
              <a:gd name="textAreaTop" fmla="*/ 98640 h 432000"/>
              <a:gd name="textAreaBottom" fmla="*/ 333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a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1"/>
          <p:cNvSpPr/>
          <p:nvPr/>
        </p:nvSpPr>
        <p:spPr>
          <a:xfrm>
            <a:off x="2627280" y="1052640"/>
            <a:ext cx="432000" cy="360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2"/>
          <p:cNvSpPr/>
          <p:nvPr/>
        </p:nvSpPr>
        <p:spPr>
          <a:xfrm>
            <a:off x="2843280" y="3429000"/>
            <a:ext cx="4176720" cy="4032360"/>
          </a:xfrm>
          <a:prstGeom prst="irregularSeal1">
            <a:avLst/>
          </a:prstGeom>
          <a:solidFill>
            <a:srgbClr val="ff3a13"/>
          </a:solidFill>
          <a:ln w="9360">
            <a:solidFill>
              <a:srgbClr val="ff3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04267E-006 L -1.25607 0.00371 E">
                                      <p:cBhvr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6145 L -0.00104 0.58743 E">
                                      <p:cBhvr>
                                        <p:cTn id="198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2.05937E-006 L 0.71858 -0.0065 E">
                                      <p:cBhvr>
                                        <p:cTn id="20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чины возникновения опасных ситу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2"/>
          <p:cNvPicPr/>
          <p:nvPr/>
        </p:nvPicPr>
        <p:blipFill>
          <a:blip r:embed="rId1"/>
          <a:stretch/>
        </p:blipFill>
        <p:spPr>
          <a:xfrm>
            <a:off x="3143160" y="471492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3787"/>
          <p:cNvPicPr/>
          <p:nvPr/>
        </p:nvPicPr>
        <p:blipFill>
          <a:blip r:embed="rId2"/>
          <a:stretch/>
        </p:blipFill>
        <p:spPr>
          <a:xfrm>
            <a:off x="0" y="4616280"/>
            <a:ext cx="2700360" cy="201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dtp-b"/>
          <p:cNvPicPr/>
          <p:nvPr/>
        </p:nvPicPr>
        <p:blipFill>
          <a:blip r:embed="rId3"/>
          <a:stretch/>
        </p:blipFill>
        <p:spPr>
          <a:xfrm>
            <a:off x="6429240" y="4714920"/>
            <a:ext cx="2381400" cy="1879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179280" y="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Анализ литературы по т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643120" y="200016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равности транспорта,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412000" y="228600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лагоприятное стечение обстоя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000960" y="17002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оценка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631880" y="1341360"/>
            <a:ext cx="55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рушение ПДД, невнимательность пеше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419920" y="98100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е правил водителя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2205000"/>
            <a:ext cx="4248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допустимое поведени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печность,   недисциплинированность, нежелание   соблюдать   прав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4859280" y="2133720"/>
            <a:ext cx="3959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ражание   другим   лицам, нарушающим Правила. 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ение того, что делают  взрослы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 rot="13516800">
            <a:off x="4209120" y="1702440"/>
            <a:ext cx="611280" cy="606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395280" y="4076640"/>
            <a:ext cx="8282160" cy="360360"/>
          </a:xfrm>
          <a:prstGeom prst="downArrowCallout">
            <a:avLst>
              <a:gd name="adj1" fmla="val -15682"/>
              <a:gd name="adj2" fmla="val 169500"/>
              <a:gd name="adj3" fmla="val 52199"/>
              <a:gd name="adj4" fmla="val 1078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РАКТИЧЕСК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90792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нке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ить отношение детей к факту необходимости соблюдения ПДД, процент соблюдения правил на дор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нкетировании принимало участие 103 человека МОУ «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«А» - 25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«А» - 27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«А» - 25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«А» - 26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ы анк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накомили ли тебя с правилами дорожного движения? Кто имен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 ты считаешь, необходимо ли соблюдать правила дорожного движ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итал ли ты статьи в газетах о детях, которые пострадали при ДТП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сегда ли ты соблюдаешь правила на дорог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52360" y="37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68360" y="5084640"/>
            <a:ext cx="8351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ети постоянно получают из различных источников информацию о необходимости соблюдать Правила Дорожного Движения, но только 30 % учащихся готовы соблюдать эти правила  на дор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печатных изданий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Цель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ить уровень информированности населения о необходимости соблюдения ПДД и  последствиях  их несоблю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102040" cy="293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2411280" y="1604880"/>
            <a:ext cx="3370320" cy="2233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6012000" y="1650960"/>
            <a:ext cx="2901960" cy="1922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2928960" y="3429000"/>
            <a:ext cx="4257720" cy="1986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324000" y="5083920"/>
            <a:ext cx="8424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% исследуемых изданий содержали в себе информацию о ДТП, в т. ч. с участием пешеходов, о  катастрофических последствиях несоблюдения правил, о дорожно-транспортном травматизме; 20% знакомили читателей со статистическими данными ДТ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95280" y="184464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2133360"/>
            <a:ext cx="76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Время – с12.00 до 14.00 и с 16.00 до 18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снов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45%) это время, в которое дети идут домой из школы и находятся без присмотра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Возраст 8,9,10,14,15 л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 47% - учащиеся начальной шко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тегория –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ешеход ( 8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Маршрут –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ом-школа-дом - 14% ,    прогулка -  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Место совершения ДТП –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роезжая часть вне перекрёстка и пешеходного перехода – 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иновник – ребёнок ( 49%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 в неустановленном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 кем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находился ребёнок – один ( 6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ение и анализ статистических дан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по г. Шелехов за 2001г.-201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647640"/>
            <a:ext cx="7777080" cy="14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причины и обстоятельства аварий в нашем горо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ить наиболее типичные  условия при ДТ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2"/>
          <p:cNvGraphicFramePr/>
          <p:nvPr/>
        </p:nvGraphicFramePr>
        <p:xfrm>
          <a:off x="492120" y="285840"/>
          <a:ext cx="8061480" cy="60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2120" y="285840"/>
                    <a:ext cx="80614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692360" y="4005360"/>
            <a:ext cx="6696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следствием несоблюдения ПД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36_2512_1_clean"/>
          <p:cNvPicPr/>
          <p:nvPr/>
        </p:nvPicPr>
        <p:blipFill>
          <a:blip r:embed="rId1"/>
          <a:stretch/>
        </p:blipFill>
        <p:spPr>
          <a:xfrm>
            <a:off x="3059280" y="4632480"/>
            <a:ext cx="3708360" cy="22255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908000" y="83664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 ли дети теоретические знания по ПД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690200" y="170028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ют ли они необходимость их соблюдени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08400" y="2565360"/>
            <a:ext cx="80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омы ли они с последствиями несоблюдения ПДД и причинами ДТП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762920" y="3284640"/>
            <a:ext cx="62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ли соблюдают изученные Правила на практи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3924360" y="260280"/>
            <a:ext cx="2232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4358880" y="1176480"/>
            <a:ext cx="659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4358880" y="2039760"/>
            <a:ext cx="659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356000" y="2924280"/>
            <a:ext cx="720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719880" y="3643200"/>
            <a:ext cx="2399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ном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по формирова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мотного пешехода»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2920" y="1357200"/>
          <a:ext cx="8866080" cy="5524560"/>
        </p:xfrm>
        <a:graphic>
          <a:graphicData uri="http://schemas.openxmlformats.org/drawingml/2006/table">
            <a:tbl>
              <a:tblPr/>
              <a:tblGrid>
                <a:gridCol w="1938240"/>
                <a:gridCol w="1257480"/>
                <a:gridCol w="3568680"/>
                <a:gridCol w="2101680"/>
              </a:tblGrid>
              <a:tr h="861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38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2010 год  - 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публицистической и методической литературы  по проблеме изучения и соблюдения Правил дорожного движения, выявить основные причины ДТП, закономерность между нарушением ПДД и дорожным травматизм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основными терминами, связанными с данной проблемой, и их значени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 особенностей, присущих детскому возрасту и влияющих на выбор способа действия в дорожных ситуац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, родители, педаго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 по пропаганде ОГИБДД ОВД по Шелеховскому району лейтенант милиции Трещинская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начальных классов Черкашина Т.И., обучающиеся 3 В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по формирова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мотного пешехода»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4200" y="1071720"/>
          <a:ext cx="8715600" cy="5572080"/>
        </p:xfrm>
        <a:graphic>
          <a:graphicData uri="http://schemas.openxmlformats.org/drawingml/2006/table">
            <a:tbl>
              <a:tblPr/>
              <a:tblGrid>
                <a:gridCol w="1121040"/>
                <a:gridCol w="1647720"/>
                <a:gridCol w="3033720"/>
                <a:gridCol w="2913120"/>
              </a:tblGrid>
              <a:tr h="141444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76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– март 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амяток по соблюдению основных положений Правил дорожного движения для детей, родителей и вод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мини-типографии для выпуска памя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конкурс на изготовление листовок и памяток по безопасност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МОУ «СОШ № 2», родители, педаг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по формирова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мотного пешехода»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5840" y="1357200"/>
          <a:ext cx="8572320" cy="5214960"/>
        </p:xfrm>
        <a:graphic>
          <a:graphicData uri="http://schemas.openxmlformats.org/drawingml/2006/table">
            <a:tbl>
              <a:tblPr/>
              <a:tblGrid>
                <a:gridCol w="2160360"/>
                <a:gridCol w="1162080"/>
                <a:gridCol w="3305160"/>
                <a:gridCol w="1944720"/>
              </a:tblGrid>
              <a:tr h="72072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42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2010 –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– май 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ежемесячных акциях, посвященных выявлению правонарушителей по ПДД для распространения памя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опагандистской акции «Внимание – каникулы!» отрядом юных инспекторов дорожного движения «Радуга» (создание, распространение памяток, листовок среди участников дорожного движени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обучающего видеофильма по профилактике детского дорожно-транспортного травматиз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начальных классов Черкашина Т.И., обучающиеся 3 В класса, агитбригада юных инспекторов дорожного движения «Радуга», инспектор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паганде ОГИБДД ОВД по Шелеховскому району лейтенант милиции Трещинская Е.А., телеканал ООО «Шелехов Т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500120" y="26208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0" descr="Рисунок0"/>
          <p:cNvPicPr/>
          <p:nvPr/>
        </p:nvPicPr>
        <p:blipFill>
          <a:blip r:embed="rId1"/>
          <a:stretch/>
        </p:blipFill>
        <p:spPr>
          <a:xfrm>
            <a:off x="1835280" y="3284640"/>
            <a:ext cx="285480" cy="72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SUPER055"/>
          <p:cNvPicPr/>
          <p:nvPr/>
        </p:nvPicPr>
        <p:blipFill>
          <a:blip r:embed="rId2"/>
          <a:stretch/>
        </p:blipFill>
        <p:spPr>
          <a:xfrm>
            <a:off x="6715080" y="2500200"/>
            <a:ext cx="2246400" cy="218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GCARS006"/>
          <p:cNvPicPr/>
          <p:nvPr/>
        </p:nvPicPr>
        <p:blipFill>
          <a:blip r:embed="rId3"/>
          <a:stretch/>
        </p:blipFill>
        <p:spPr>
          <a:xfrm>
            <a:off x="1285920" y="5000760"/>
            <a:ext cx="1133280" cy="155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CMRMN"/>
          <p:cNvPicPr/>
          <p:nvPr/>
        </p:nvPicPr>
        <p:blipFill>
          <a:blip r:embed="rId4"/>
          <a:stretch/>
        </p:blipFill>
        <p:spPr>
          <a:xfrm>
            <a:off x="5929200" y="4670280"/>
            <a:ext cx="1914480" cy="2187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2843280" y="213264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НАШЕМ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796000" y="92808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ехал на красный сигнал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2643120" y="92808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ступил дорогу другой м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5840" y="92808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спел затормоз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2928960" y="16419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АДАЮТ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116000" y="26359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ЖЕ ЭТО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4" descr="TEACHER"/>
          <p:cNvPicPr/>
          <p:nvPr/>
        </p:nvPicPr>
        <p:blipFill>
          <a:blip r:embed="rId5"/>
          <a:stretch/>
        </p:blipFill>
        <p:spPr>
          <a:xfrm>
            <a:off x="785880" y="3214800"/>
            <a:ext cx="1285920" cy="146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8"/>
          <p:cNvSpPr/>
          <p:nvPr/>
        </p:nvSpPr>
        <p:spPr>
          <a:xfrm>
            <a:off x="395280" y="2167560"/>
            <a:ext cx="27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арии проис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6156360" y="220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3" descr="RADNG"/>
          <p:cNvPicPr/>
          <p:nvPr/>
        </p:nvPicPr>
        <p:blipFill>
          <a:blip r:embed="rId6"/>
          <a:stretch/>
        </p:blipFill>
        <p:spPr>
          <a:xfrm>
            <a:off x="2916360" y="4221000"/>
            <a:ext cx="368280" cy="619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4"/>
          <p:cNvSpPr/>
          <p:nvPr/>
        </p:nvSpPr>
        <p:spPr>
          <a:xfrm rot="18928200">
            <a:off x="3363480" y="3728880"/>
            <a:ext cx="2376720" cy="2337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3851280" y="43002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дь каждый знаком с ПД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5480" y="135684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проекта можно только будет определить через определённый период времени, т.к. эта работа требует ежедневных повторении, отработки, уважения со стороны всех участников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проект рассчитан на долгосрочный период времени, так как  эффективность проделанной работы мы сможем оценить, изучив статистику ДТП с участием детей через год. Распространение памяток не ограничится одной акцией. Мы планируем продолжить проведение рейдов с участием детей, родителей, конкурсов по созданию новых памяток, листовок, плакатов. И распространение продукции мини-типографии среди участников 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35720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яти ежемесячных акциях, посвященных выявлению правонарушителей по ПДД для распространения памя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трядом юных инспекторов дорожного движения «Радуга»  девять  раз выступали в образовательных учреждениях Шелеховского райо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урсе социальных проектов, проводимых благотворительным фондом им. Г.И.Шелехова.  (Итоги 19 апреля 2011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16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, выдвинутая нами в начале исследовательской работы гипотез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верд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785880" y="228600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б жить, не зная огорчен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ть, трудиться и меч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ы должен правила движен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гда и всюду соблюд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250920" y="5733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считаем что цель и задачи, поставленные нами в начале работы, были достигн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95280" y="184464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ие дети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гите себя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нит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приближение к дороге –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приближение к зоне повышенной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755640" y="539028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глупый учится на своих, ошиб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ному достаточно чужого опы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йте правила и уважайте друг друг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big_auto_i59dDa"/>
          <p:cNvPicPr/>
          <p:nvPr/>
        </p:nvPicPr>
        <p:blipFill>
          <a:blip r:embed="rId1"/>
          <a:stretch/>
        </p:blipFill>
        <p:spPr>
          <a:xfrm>
            <a:off x="2411280" y="1484280"/>
            <a:ext cx="4175280" cy="3772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 flipV="1">
            <a:off x="0" y="3327840"/>
            <a:ext cx="9144000" cy="3529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341360"/>
            <a:ext cx="9683640" cy="2016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5435640" y="4076640"/>
            <a:ext cx="27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435640" y="4653000"/>
            <a:ext cx="2700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435640" y="3500280"/>
            <a:ext cx="27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5435640" y="6021360"/>
            <a:ext cx="27003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5435640" y="5445000"/>
            <a:ext cx="270036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 flipV="1">
            <a:off x="0" y="3356640"/>
            <a:ext cx="91440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PCNC"/>
          <p:cNvPicPr/>
          <p:nvPr/>
        </p:nvPicPr>
        <p:blipFill>
          <a:blip r:embed="rId1"/>
          <a:stretch/>
        </p:blipFill>
        <p:spPr>
          <a:xfrm>
            <a:off x="-1927080" y="907920"/>
            <a:ext cx="1927080" cy="197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CRCTR058"/>
          <p:cNvPicPr/>
          <p:nvPr/>
        </p:nvPicPr>
        <p:blipFill>
          <a:blip r:embed="rId2"/>
          <a:stretch/>
        </p:blipFill>
        <p:spPr>
          <a:xfrm>
            <a:off x="9144000" y="1628640"/>
            <a:ext cx="1154160" cy="157320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5"/>
          <p:cNvGrpSpPr/>
          <p:nvPr/>
        </p:nvGrpSpPr>
        <p:grpSpPr>
          <a:xfrm>
            <a:off x="-4500720" y="2781360"/>
            <a:ext cx="3672000" cy="2158920"/>
            <a:chOff x="-4500720" y="2781360"/>
            <a:chExt cx="3672000" cy="2158920"/>
          </a:xfrm>
        </p:grpSpPr>
        <p:grpSp>
          <p:nvGrpSpPr>
            <p:cNvPr id="238" name="Group 16"/>
            <p:cNvGrpSpPr/>
            <p:nvPr/>
          </p:nvGrpSpPr>
          <p:grpSpPr>
            <a:xfrm>
              <a:off x="-4500720" y="2781360"/>
              <a:ext cx="3672000" cy="2158920"/>
              <a:chOff x="-4500720" y="2781360"/>
              <a:chExt cx="3672000" cy="2158920"/>
            </a:xfrm>
          </p:grpSpPr>
          <p:sp>
            <p:nvSpPr>
              <p:cNvPr id="239" name="AutoShape 17"/>
              <p:cNvSpPr/>
              <p:nvPr/>
            </p:nvSpPr>
            <p:spPr>
              <a:xfrm>
                <a:off x="-4268880" y="2886120"/>
                <a:ext cx="3398040" cy="20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>
                <a:off x="-4500720" y="2781360"/>
                <a:ext cx="3672000" cy="17816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9"/>
              <p:cNvSpPr/>
              <p:nvPr/>
            </p:nvSpPr>
            <p:spPr>
              <a:xfrm>
                <a:off x="-1932480" y="4239000"/>
                <a:ext cx="648000" cy="6804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0"/>
              <p:cNvSpPr/>
              <p:nvPr/>
            </p:nvSpPr>
            <p:spPr>
              <a:xfrm>
                <a:off x="-3798720" y="4239000"/>
                <a:ext cx="648360" cy="6804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1"/>
              <p:cNvSpPr/>
              <p:nvPr/>
            </p:nvSpPr>
            <p:spPr>
              <a:xfrm>
                <a:off x="-3525840" y="2922120"/>
                <a:ext cx="1639080" cy="61128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2"/>
              <p:cNvSpPr/>
              <p:nvPr/>
            </p:nvSpPr>
            <p:spPr>
              <a:xfrm>
                <a:off x="-2567160" y="3691440"/>
                <a:ext cx="687960" cy="6728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3"/>
              <p:cNvSpPr/>
              <p:nvPr/>
            </p:nvSpPr>
            <p:spPr>
              <a:xfrm>
                <a:off x="-3301560" y="3700080"/>
                <a:ext cx="641160" cy="6642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4"/>
              <p:cNvSpPr/>
              <p:nvPr/>
            </p:nvSpPr>
            <p:spPr>
              <a:xfrm>
                <a:off x="-1049760" y="3815640"/>
                <a:ext cx="187920" cy="32868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5"/>
              <p:cNvSpPr/>
              <p:nvPr/>
            </p:nvSpPr>
            <p:spPr>
              <a:xfrm>
                <a:off x="-4386600" y="3627720"/>
                <a:ext cx="89280" cy="187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26"/>
              <p:cNvSpPr/>
              <p:nvPr/>
            </p:nvSpPr>
            <p:spPr>
              <a:xfrm>
                <a:off x="-3826080" y="3768480"/>
                <a:ext cx="102600" cy="66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7"/>
              <p:cNvSpPr/>
              <p:nvPr/>
            </p:nvSpPr>
            <p:spPr>
              <a:xfrm>
                <a:off x="-1482120" y="3768480"/>
                <a:ext cx="110880" cy="66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AutoShape 28"/>
            <p:cNvSpPr/>
            <p:nvPr/>
          </p:nvSpPr>
          <p:spPr>
            <a:xfrm>
              <a:off x="-3661560" y="4380120"/>
              <a:ext cx="403200" cy="4230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9"/>
            <p:cNvSpPr/>
            <p:nvPr/>
          </p:nvSpPr>
          <p:spPr>
            <a:xfrm>
              <a:off x="-1794960" y="4380120"/>
              <a:ext cx="403200" cy="4230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31" descr="BIKERCOL"/>
          <p:cNvPicPr/>
          <p:nvPr/>
        </p:nvPicPr>
        <p:blipFill>
          <a:blip r:embed="rId3"/>
          <a:stretch/>
        </p:blipFill>
        <p:spPr>
          <a:xfrm>
            <a:off x="-3421080" y="4257720"/>
            <a:ext cx="3041640" cy="23842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3"/>
          <p:cNvSpPr/>
          <p:nvPr/>
        </p:nvSpPr>
        <p:spPr>
          <a:xfrm>
            <a:off x="0" y="260280"/>
            <a:ext cx="94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a13"/>
                </a:solidFill>
                <a:latin typeface="Comic Sans MS"/>
              </a:rPr>
              <a:t>Удачи и безопасности вам на дорог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5435640" y="6568920"/>
            <a:ext cx="2665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959 0.00533 L 0.66059 0.00347 E">
                                      <p:cBhvr>
                                        <p:cTn id="359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30939E-006 L -0.33472 0.00093 E">
                                      <p:cBhvr>
                                        <p:cTn id="361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67726 0.00023 E">
                                      <p:cBhvr>
                                        <p:cTn id="363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9.61761E-007 L 0.62691 0.00487 E">
                                      <p:cBhvr>
                                        <p:cTn id="365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3 0.00093 L -0.33473 0.45284 E">
                                      <p:cBhvr>
                                        <p:cTn id="36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ути формирования «Грамотного пешехода» в начальной школе будут наиболее эффектив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, обосн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экспериментально прове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пу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я «Грамотного пешех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42800" y="4357440"/>
            <a:ext cx="274644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з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p071218011"/>
          <p:cNvPicPr/>
          <p:nvPr/>
        </p:nvPicPr>
        <p:blipFill>
          <a:blip r:embed="rId1"/>
          <a:stretch/>
        </p:blipFill>
        <p:spPr>
          <a:xfrm>
            <a:off x="2714760" y="1428840"/>
            <a:ext cx="3531960" cy="2612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85840" y="5286240"/>
            <a:ext cx="8640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чнено понятие «Грамотный пешеход»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Формирование «Грамотного пешехода» в начальной школе осуществляется на основе специально разработанного проекта, включающего младшего школьника в целенаправленное приобретение знаний и умений в использовании Правил дорожного движения, а также  применение полученного опыта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0920" y="260280"/>
            <a:ext cx="39258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ъект исследования: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«Грамотного пешехода» в начальной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500720" y="260280"/>
            <a:ext cx="4392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 исследования: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формирования «Грамотного пешехода» в начальной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785880" y="2500200"/>
            <a:ext cx="180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рены, что увидят, рассчитают и успе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6715080" y="264312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аются перебежать, проскочить, прошмыгну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4357800" y="407196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художественную и методическую литературу по проблеме изучения и соблюдения Правил дорожного движения для  уточнения понятия «Грамотный пешеход»,  выявить основные причины ДТП, закономерность между нарушением ПДД и дорожным травматиз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знакомиться с основными терминами, связанными с данной проблемой, и их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зучить особенности, присущие детскому возрасту и влияющие на выбор способа действия в дорож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работать и внедрить проект, включающий пути эффективного формирования «Грамотного пешехода» 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литературы по пробл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результ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8" descr="GNGST017"/>
          <p:cNvPicPr/>
          <p:nvPr/>
        </p:nvPicPr>
        <p:blipFill>
          <a:blip r:embed="rId1"/>
          <a:stretch/>
        </p:blipFill>
        <p:spPr>
          <a:xfrm>
            <a:off x="468360" y="1989000"/>
            <a:ext cx="2440080" cy="148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GNGST052"/>
          <p:cNvPicPr/>
          <p:nvPr/>
        </p:nvPicPr>
        <p:blipFill>
          <a:blip r:embed="rId2"/>
          <a:stretch/>
        </p:blipFill>
        <p:spPr>
          <a:xfrm>
            <a:off x="4648320" y="1932120"/>
            <a:ext cx="4038480" cy="152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GNGST059"/>
          <p:cNvPicPr/>
          <p:nvPr/>
        </p:nvPicPr>
        <p:blipFill>
          <a:blip r:embed="rId3"/>
          <a:stretch/>
        </p:blipFill>
        <p:spPr>
          <a:xfrm>
            <a:off x="3564000" y="1819440"/>
            <a:ext cx="2303280" cy="1804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2195640" y="189000"/>
            <a:ext cx="48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547640" y="907920"/>
            <a:ext cx="66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Знаком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сновными терминами, связанными с данной пробл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500720" y="378936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1979640" y="4365720"/>
            <a:ext cx="554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равила дорожного движения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сентября 1898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395280" y="5283360"/>
            <a:ext cx="82072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, устанавливающий порядок движения на дорогах.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бязательны для всех участников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2895480"/>
            <a:ext cx="91440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28440">
            <a:solidFill>
              <a:srgbClr val="def6f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443640" y="4005360"/>
            <a:ext cx="2700360" cy="28728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443640" y="4648320"/>
            <a:ext cx="2700360" cy="29340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443640" y="6553080"/>
            <a:ext cx="2700360" cy="3049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443640" y="5867280"/>
            <a:ext cx="2700360" cy="29844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443640" y="5257800"/>
            <a:ext cx="2700360" cy="3319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-4176720" y="4076640"/>
            <a:ext cx="4176720" cy="2781000"/>
            <a:chOff x="-4176720" y="4076640"/>
            <a:chExt cx="4176720" cy="2781000"/>
          </a:xfrm>
        </p:grpSpPr>
        <p:grpSp>
          <p:nvGrpSpPr>
            <p:cNvPr id="108" name="Group 12"/>
            <p:cNvGrpSpPr/>
            <p:nvPr/>
          </p:nvGrpSpPr>
          <p:grpSpPr>
            <a:xfrm>
              <a:off x="-4176720" y="4076640"/>
              <a:ext cx="4176720" cy="2781000"/>
              <a:chOff x="-4176720" y="4076640"/>
              <a:chExt cx="4176720" cy="2781000"/>
            </a:xfrm>
          </p:grpSpPr>
          <p:sp>
            <p:nvSpPr>
              <p:cNvPr id="109" name="AutoShape 13"/>
              <p:cNvSpPr/>
              <p:nvPr/>
            </p:nvSpPr>
            <p:spPr>
              <a:xfrm>
                <a:off x="-3913200" y="4211640"/>
                <a:ext cx="3864960" cy="264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4"/>
              <p:cNvSpPr/>
              <p:nvPr/>
            </p:nvSpPr>
            <p:spPr>
              <a:xfrm>
                <a:off x="-4176720" y="4076640"/>
                <a:ext cx="4176720" cy="229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5"/>
              <p:cNvSpPr/>
              <p:nvPr/>
            </p:nvSpPr>
            <p:spPr>
              <a:xfrm>
                <a:off x="-1255320" y="5954400"/>
                <a:ext cx="736920" cy="8766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6"/>
              <p:cNvSpPr/>
              <p:nvPr/>
            </p:nvSpPr>
            <p:spPr>
              <a:xfrm>
                <a:off x="-3378240" y="5954400"/>
                <a:ext cx="737280" cy="8766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7"/>
              <p:cNvSpPr/>
              <p:nvPr/>
            </p:nvSpPr>
            <p:spPr>
              <a:xfrm>
                <a:off x="-3067560" y="4258080"/>
                <a:ext cx="1864440" cy="7873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8"/>
              <p:cNvSpPr/>
              <p:nvPr/>
            </p:nvSpPr>
            <p:spPr>
              <a:xfrm>
                <a:off x="-1977480" y="5248800"/>
                <a:ext cx="782640" cy="8665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9"/>
              <p:cNvSpPr/>
              <p:nvPr/>
            </p:nvSpPr>
            <p:spPr>
              <a:xfrm>
                <a:off x="-2812680" y="5259960"/>
                <a:ext cx="729000" cy="855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0"/>
              <p:cNvSpPr/>
              <p:nvPr/>
            </p:nvSpPr>
            <p:spPr>
              <a:xfrm>
                <a:off x="-251640" y="5409360"/>
                <a:ext cx="213840" cy="4237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1"/>
              <p:cNvSpPr/>
              <p:nvPr/>
            </p:nvSpPr>
            <p:spPr>
              <a:xfrm>
                <a:off x="-4046760" y="5166720"/>
                <a:ext cx="101520" cy="24228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22"/>
              <p:cNvSpPr/>
              <p:nvPr/>
            </p:nvSpPr>
            <p:spPr>
              <a:xfrm>
                <a:off x="-3409200" y="5348520"/>
                <a:ext cx="117000" cy="85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23"/>
              <p:cNvSpPr/>
              <p:nvPr/>
            </p:nvSpPr>
            <p:spPr>
              <a:xfrm>
                <a:off x="-743400" y="5348520"/>
                <a:ext cx="126360" cy="85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AutoShape 24"/>
            <p:cNvSpPr/>
            <p:nvPr/>
          </p:nvSpPr>
          <p:spPr>
            <a:xfrm>
              <a:off x="-3222000" y="6136200"/>
              <a:ext cx="458640" cy="5450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-1099080" y="6136200"/>
              <a:ext cx="458640" cy="5450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0" y="3962520"/>
            <a:ext cx="9144000" cy="759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7" descr="CRCTR058"/>
          <p:cNvPicPr/>
          <p:nvPr/>
        </p:nvPicPr>
        <p:blipFill>
          <a:blip r:embed="rId1"/>
          <a:stretch/>
        </p:blipFill>
        <p:spPr>
          <a:xfrm>
            <a:off x="7380360" y="1989000"/>
            <a:ext cx="121752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9" descr="AMERI157"/>
          <p:cNvPicPr/>
          <p:nvPr/>
        </p:nvPicPr>
        <p:blipFill>
          <a:blip r:embed="rId2"/>
          <a:stretch/>
        </p:blipFill>
        <p:spPr>
          <a:xfrm>
            <a:off x="3348000" y="549360"/>
            <a:ext cx="272880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0.00023 L 0.68108 -0.00325 E">
                                      <p:cBhvr>
                                        <p:cTn id="187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6304E-006 L -0.00469 0.75249 E">
                                      <p:cBhvr>
                                        <p:cTn id="190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3:53:21Z</dcterms:created>
  <dc:creator>User</dc:creator>
  <dc:description/>
  <dc:language>en-US</dc:language>
  <cp:lastModifiedBy>Татьяна</cp:lastModifiedBy>
  <dcterms:modified xsi:type="dcterms:W3CDTF">2011-11-02T14:15:55Z</dcterms:modified>
  <cp:revision>272</cp:revision>
  <dc:subject/>
  <dc:title>Слайд 1</dc:title>
</cp:coreProperties>
</file>