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620-7922-4FB5-A118-93627258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975-C0D0-443A-9092-9CE81C40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5A3-188D-49DA-8B1A-DF6A353A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927-B9B0-41BA-B0FA-97575FB0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EF07-65EB-4D94-A617-7D2FF917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EB06-D6E8-48B5-86AF-7405333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48CA-72EE-4133-8878-92BD8D1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D1F-CB2F-42A5-9C73-470FCA7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E443-D81A-4065-A5E1-5CA3198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981D-F360-4418-B9DA-057A89E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D93-CF3C-433C-AE86-A0576A0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6DB-156C-4A8B-A11E-ABD94B2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ED7-C89F-4B62-B0CC-08D6B05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7F79-0CE3-4E29-9471-07F0274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4FB2-891F-4AB0-8819-A4CD278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D0D-5DEF-4C2E-A884-6D568FDC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C01-4FA3-4A4C-B049-74CB9A8F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DB85-DAB1-4BE9-A676-429C0E1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5503-DA9F-4A0F-802F-49386F9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7B44-D1E2-4692-8BE7-84108AA6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1B97D-AC60-4B49-A682-E43D3AF0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EBDA-C8C0-4DA8-B3DD-A6052A2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898-4F04-4688-8AC1-D2FF2DB7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D3DA-63E3-4012-8355-2A5D9D0A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BB12-6B71-4EC5-B882-6157E4F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9D92-B261-4CC8-A780-4FD3B8A3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5D56-7BB4-4FD9-B84E-15396D8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6A25-C22E-4F59-B14C-E9E87B0A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9ADC-C785-43A7-A64C-B2431C0C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9D8C-65C9-48FE-8EAA-451F8FC6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144F-DB03-427D-9C59-7E3ABC7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2133-33D6-46D3-9790-0273199C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C6A0-47FE-43A9-B24F-DBDD2F49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1E2-5AE9-4E6D-A452-1746DFC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8387-A83C-45F3-B669-6AC80CF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16E9-C0CD-48BC-BB2A-27198D3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FC46-121C-4761-87ED-3E2F144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D991-37FB-404E-ACAE-DC79F5D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0063-3ADE-4521-8735-5E42B86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CD5A-BA8A-4447-B02E-E779E02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01B0-D06A-4894-9649-DBCBDAB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4510-6DA9-48ED-8C26-4263B339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09E5-F507-4597-AB2A-4C1E206F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A70CA-739C-429F-8D40-3DBD65A8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110-D0CA-483D-B887-1788EC5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6F3F-E325-4CF4-BD4A-66911CC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2981-B9DB-4A4F-8265-5E413245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50E22-6372-4870-86FF-0143E86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3462-5991-41B7-BF4E-1CFA2DE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8CA9-C8C7-40DE-9F26-170866A5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4914-132A-4D4C-B5E4-24066FE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EE15-461A-4524-835F-DA39026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3DBB-ACA2-4484-BD8A-04E6004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B65C-EB5D-46BD-8FB6-B7DBCEE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7881-445D-40AB-9C45-2AF41AC8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1F1-CED8-40C6-A89A-C6705B3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832B-176B-4EA8-B83C-D1981328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4A7-83FA-4974-B324-44C3D27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27C-447A-475A-8876-063F82D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A9C-9164-48BC-A7F3-8C07260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98F-F07F-47F9-88F9-D38EF4744A2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4D7B-06C7-43E3-B053-9D744AC0D51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7491-661B-4C14-ADE0-647F782806F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03E2-1BED-4752-AEE9-9A3D1D4D8C5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48E7-6B62-4673-8DC4-A008F0F1C5E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36400"/>
            <a:ext cx="555948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789360"/>
            <a:ext cx="5114880" cy="24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узы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Кокшарова Надежда Владими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Катайская средня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бщеобразовательная школа №1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Нафаня\My Documents\Мои сканированные изображения\2012-03 (мар)\сканирование0002.jpg"/>
          <p:cNvPicPr/>
          <p:nvPr/>
        </p:nvPicPr>
        <p:blipFill>
          <a:blip r:embed="rId2"/>
          <a:stretch/>
        </p:blipFill>
        <p:spPr>
          <a:xfrm>
            <a:off x="457200" y="1627200"/>
            <a:ext cx="72388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52280" y="0"/>
            <a:ext cx="7547040" cy="2212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Нафаня\My Documents\Мои сканированные изображения\2012-03 (мар)\сканирование0003.jpg"/>
          <p:cNvPicPr/>
          <p:nvPr/>
        </p:nvPicPr>
        <p:blipFill>
          <a:blip r:embed="rId2"/>
          <a:stretch/>
        </p:blipFill>
        <p:spPr>
          <a:xfrm>
            <a:off x="2255760" y="1609560"/>
            <a:ext cx="36417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Нафаня\My Documents\Мои сканированные изображения\2012-03 (мар)\сканирование0001.jpg"/>
          <p:cNvPicPr/>
          <p:nvPr/>
        </p:nvPicPr>
        <p:blipFill>
          <a:blip r:embed="rId2"/>
          <a:stretch/>
        </p:blipFill>
        <p:spPr>
          <a:xfrm>
            <a:off x="2243160" y="1609560"/>
            <a:ext cx="3666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в характер мелоди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овите настроение этой музы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ите по характеру и настроению мелодии, каким будет конец оперы – радостным или печальны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ев В.В., Кичак Т.Н. Музыка. 3 кл.: учеб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ская Е.Д., Сергеева Г.П., Шмагина Т.С. Музыка. 2 кл.: учеб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1-13T14:12:50Z</dcterms:modified>
  <cp:revision>5</cp:revision>
  <dc:subject/>
  <dc:title>М. И. Глинка Опера «Руслан и Людмила»</dc:title>
</cp:coreProperties>
</file>