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jpeg" ContentType="image/jpe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7FFF-D29D-44C9-AE73-A472D42B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11FD-023F-4B73-BC96-69499094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723F-1ED5-42EE-AA86-FF3E1422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764A-6D90-4C35-B9AD-BCF8174F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7F33-602B-42C3-8CC6-5238D6E9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FA9B-42E4-4E86-A11E-B108E8E4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778A-17F2-4C52-A14F-48DC8A87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078D-AF87-4B81-BCFB-E9C4DAF2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53F3-9699-434F-8DF5-BB39A6EE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79FA-0D3A-414B-8F33-E86C5AB6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6551-2A8D-47BD-8477-9F26B259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8FBD-7C60-440C-9876-2207184F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289D-E447-492A-9AD0-CE79BEE8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B7DE-022B-42ED-ADB3-3DF95773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DF47-175B-4A0E-9BE4-6979C265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EEE5-B9B7-4B82-8010-55B32ECB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0DB9-04E2-4958-82D4-A82F8D72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DB2F2-C5D0-48CB-8284-1943CCA1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2E7CA-3480-49D0-A252-96141804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7FA25-A5A1-4EDA-865A-2798676B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B901C-713E-428A-97A0-73CB0D6B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85B49-755C-4868-96E0-D66B49F2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459-9FC4-4EEE-9F35-C93865D9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88338-284D-48D4-BE2B-A54E52A2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7C5FD-58DB-4CF7-9FBB-6E4FA691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BEA76-A189-4217-A329-6765847B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C7CF7-6641-42F8-9946-2F1FE84E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55013-3C6C-49F4-9CB0-E5CA2CD8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3EC06-5F80-41D1-87C7-6EDB3F33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9C7E8-CE54-4A44-92E8-750FB861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2B8B3-5339-4173-AE13-5B3123C93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9C715-F0F2-4484-A83F-90EFCBAE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6E4A9-25A3-419E-ADEA-B4E04699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7B72-F9EC-43A7-8AC4-516CFF05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56122-2EC0-4D8C-B015-A9C40E1A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4BBD8-FB7C-4B29-BF04-1136109F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AAD5B-B85A-444F-8088-870869B8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54431-20AF-427A-A34F-AB6707B9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120AE-A1D9-4F26-9B1D-3FD51AE3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55201-584E-4EB1-85A4-A819B5AB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BDAED-93C3-44AB-B009-DE02EDFE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DD5B3-C406-4085-8D81-D4688D62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90DF1-D47D-422C-8C85-931EA233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E5A96-BD37-4280-9DE7-B3C9BBC2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82C2-5ABC-4821-8084-3DC92BED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31507-ECDD-4701-A4C9-4831963B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22804-9CA3-4294-A1CA-E838EEBE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66C4C-2904-4149-997C-8D887524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59680-B876-44A5-9FF7-132E71E7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C45D8-E13D-41AD-9EBB-333A5514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DD7D6-86BA-4095-9A07-9F97A8E6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C01E1-99CA-4FBD-BD17-1C46DC9B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4907F-4925-4240-94F0-6714A460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3B4F2-9A06-4A7E-AB30-3E3E5539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0AC84-9CF5-4A2C-BD87-35F42C84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9E73-1CFD-4030-8B15-AEDC80E0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62EA9-27CE-4A1B-A019-631B83BE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7CE-3DCB-4B7A-8487-820B2FAB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FCB9-16B1-422D-8934-97A96C13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EEE1-A163-462E-86FD-75C5AFB9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6572-9EB6-4DBF-A445-55B04844FF7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A76E-45E6-4766-A599-AF8EE0C3A50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5E53-27D6-4367-AADA-11EA6F81FD8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FC09-071F-4A19-9CAA-BA306F734625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31E0-7C1F-4335-A28E-24956C77DBC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40080" y="536400"/>
            <a:ext cx="5559480" cy="3194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789360"/>
            <a:ext cx="5114880" cy="244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Музык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3 класс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Учитель Кокшарова Надежда Владимировн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МКОУ Катайская средняя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общеобразовательная школа №1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Documents and Settings\Нафаня\My Documents\Мои сканированные изображения\2012-03 (мар)\сканирование0002.jpg"/>
          <p:cNvPicPr/>
          <p:nvPr/>
        </p:nvPicPr>
        <p:blipFill>
          <a:blip r:embed="rId2"/>
          <a:stretch/>
        </p:blipFill>
        <p:spPr>
          <a:xfrm>
            <a:off x="457200" y="1627200"/>
            <a:ext cx="723888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152280" y="0"/>
            <a:ext cx="7547040" cy="2212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C:\Documents and Settings\Нафаня\My Documents\Мои сканированные изображения\2012-03 (мар)\сканирование0003.jpg"/>
          <p:cNvPicPr/>
          <p:nvPr/>
        </p:nvPicPr>
        <p:blipFill>
          <a:blip r:embed="rId2"/>
          <a:stretch/>
        </p:blipFill>
        <p:spPr>
          <a:xfrm>
            <a:off x="2255760" y="1609560"/>
            <a:ext cx="36417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Documents and Settings\Нафаня\My Documents\Мои сканированные изображения\2012-03 (мар)\сканирование0001.jpg"/>
          <p:cNvPicPr/>
          <p:nvPr/>
        </p:nvPicPr>
        <p:blipFill>
          <a:blip r:embed="rId2"/>
          <a:stretch/>
        </p:blipFill>
        <p:spPr>
          <a:xfrm>
            <a:off x="2243160" y="1609560"/>
            <a:ext cx="36669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ов характер мелодии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зовите настроение этой музык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пределите по характеру и настроению мелодии, каким будет конец оперы – радостным или печальны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255600" y="324000"/>
            <a:ext cx="7443720" cy="1382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ев В.В., Кичак Т.Н. Музыка. 3 кл.: учебни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ская Е.Д., Сергеева Г.П., Шмагина Т.С. Музыка. 2 кл.: учебни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3-01-13T14:12:50Z</dcterms:modified>
  <cp:revision>5</cp:revision>
  <dc:subject/>
  <dc:title>М. И. Глинка Опера «Руслан и Людмила»</dc:title>
</cp:coreProperties>
</file>