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7004-71B5-474B-B4EA-1192183A3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E749-3537-445C-990C-C96049575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C4AF-0BE2-406D-A0BE-43E78FDD6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524C-0B82-4CBB-80B1-6EBC95F62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1C81D5-C44A-40DE-9E65-A61951A2F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0D9CC3-6FF6-4CAA-AE67-3C652B46D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13C818-59E4-4F5E-ADB2-FFA2EA74F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5FFAE5-C7CE-4F51-BBD8-6123DEFA9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DE030C-4DE9-40A9-81D5-140246579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73C05F-AA36-4C1A-90BC-EC6685FC4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B11A32-CE92-4C24-9601-9E4F356FC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1415-B63F-4794-AAEC-594BBBC94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2E262D-C2A3-4F95-BFA4-9D33A7BDD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A48592-6CAC-4F53-A596-01261F5C8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9F339C-0403-4272-9B9D-AA794CA01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A1FFB9-8376-4FA0-BB0C-F32F3F070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197EBC-4917-4288-954B-B75B21668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E046-1E0D-455D-95B2-9135509AC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9200-D45D-4FB1-8E1B-8B4AFE45A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3AD0-0118-4FDC-B515-993BEA62B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715B-D152-4583-8447-207092129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BDFB-F70E-40B7-8DB9-1A2F46A6B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2C34-F944-4860-861F-5AB2C899A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D3B7-A6AE-4E5B-B815-10B5BC6C2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6068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85d1e3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3d6068"/>
                </a:gs>
                <a:gs pos="100000">
                  <a:srgbClr val="85d1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99ff"/>
              </a:gs>
              <a:gs pos="100000">
                <a:srgbClr val="85d1e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549898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3d8a8a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6F3B1-6968-4964-8CEE-2F7A1E6D0EE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6068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85d1e3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3d6068"/>
                </a:gs>
                <a:gs pos="100000">
                  <a:srgbClr val="85d1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99ff"/>
              </a:gs>
              <a:gs pos="100000">
                <a:srgbClr val="85d1e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549898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3d8a8a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EC88B-2CA0-4BF6-AD36-33BB5BF3574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6068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Подводный мир Байкала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6095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6068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Язь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031840" y="2419200"/>
            <a:ext cx="50803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6068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ccffff"/>
                </a:solidFill>
                <a:uFillTx/>
                <a:latin typeface="Arial"/>
              </a:rPr>
              <a:t>Амурский</a:t>
            </a: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 </a:t>
            </a:r>
            <a:r>
              <a:rPr b="1" lang="ru-RU" sz="4400" spc="-1" strike="noStrike" u="sng">
                <a:solidFill>
                  <a:srgbClr val="ccffff"/>
                </a:solidFill>
                <a:uFillTx/>
                <a:latin typeface="Arial"/>
              </a:rPr>
              <a:t>сазан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76360" y="2254320"/>
            <a:ext cx="5635800" cy="29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6068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Налим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57200" y="2233440"/>
            <a:ext cx="8229600" cy="32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6068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Окунь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116000" y="1452600"/>
            <a:ext cx="6199200" cy="42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6068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ccffff"/>
                </a:solidFill>
                <a:uFillTx/>
                <a:latin typeface="Arial"/>
              </a:rPr>
              <a:t>Сибирская</a:t>
            </a: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 </a:t>
            </a:r>
            <a:r>
              <a:rPr b="1" lang="ru-RU" sz="4400" spc="-1" strike="noStrike" u="sng">
                <a:solidFill>
                  <a:srgbClr val="ccffff"/>
                </a:solidFill>
                <a:uFillTx/>
                <a:latin typeface="Arial"/>
              </a:rPr>
              <a:t>плотва</a:t>
            </a: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, </a:t>
            </a:r>
            <a:r>
              <a:rPr b="1" lang="ru-RU" sz="4400" spc="-1" strike="noStrike" u="sng">
                <a:solidFill>
                  <a:srgbClr val="ccffff"/>
                </a:solidFill>
                <a:uFillTx/>
                <a:latin typeface="Arial"/>
              </a:rPr>
              <a:t>сорога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031840" y="2406600"/>
            <a:ext cx="508032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6068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6068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ccffff"/>
                </a:solidFill>
                <a:uFillTx/>
                <a:latin typeface="Arial"/>
              </a:rPr>
              <a:t>Байкальский</a:t>
            </a: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 </a:t>
            </a:r>
            <a:r>
              <a:rPr b="1" lang="ru-RU" sz="4400" spc="-1" strike="noStrike" u="sng">
                <a:solidFill>
                  <a:srgbClr val="ccffff"/>
                </a:solidFill>
                <a:uFillTx/>
                <a:latin typeface="Arial"/>
              </a:rPr>
              <a:t>осетр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7619760" cy="20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6068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527280" y="0"/>
            <a:ext cx="5616720" cy="42130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0" y="2655720"/>
            <a:ext cx="5292720" cy="39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6068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95280" y="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Рач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900000" y="765000"/>
            <a:ext cx="7027920" cy="527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6068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ccffff"/>
                </a:solidFill>
                <a:uFillTx/>
                <a:latin typeface="Arial"/>
              </a:rPr>
              <a:t>Байкальский</a:t>
            </a: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 </a:t>
            </a:r>
            <a:r>
              <a:rPr b="1" lang="ru-RU" sz="4400" spc="-1" strike="noStrike" u="sng">
                <a:solidFill>
                  <a:srgbClr val="ccffff"/>
                </a:solidFill>
                <a:uFillTx/>
                <a:latin typeface="Arial"/>
              </a:rPr>
              <a:t>хариус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79280" y="4005360"/>
            <a:ext cx="6156360" cy="27302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987640" y="1052640"/>
            <a:ext cx="5943600" cy="30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6068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Ленок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57200" y="1989000"/>
            <a:ext cx="822960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6068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ccffff"/>
                </a:solidFill>
                <a:uFillTx/>
                <a:latin typeface="Arial"/>
              </a:rPr>
              <a:t>Байкальский</a:t>
            </a: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 </a:t>
            </a:r>
            <a:r>
              <a:rPr b="1" lang="ru-RU" sz="4400" spc="-1" strike="noStrike" u="sng">
                <a:solidFill>
                  <a:srgbClr val="ccffff"/>
                </a:solidFill>
                <a:uFillTx/>
                <a:latin typeface="Arial"/>
              </a:rPr>
              <a:t>омуль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843264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6068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Арктический голец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353440" cy="32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6068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Обыкновенный таймень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7746840" cy="34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6068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Обыкновенная щука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79280" y="1916280"/>
            <a:ext cx="8720280" cy="251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6068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Байкальский сиг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50920" y="2276640"/>
            <a:ext cx="85993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6068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Лещ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403280" y="1914480"/>
            <a:ext cx="570888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0T12:28:09Z</dcterms:created>
  <dc:creator>User</dc:creator>
  <dc:description/>
  <dc:language>en-US</dc:language>
  <cp:lastModifiedBy>user</cp:lastModifiedBy>
  <dcterms:modified xsi:type="dcterms:W3CDTF">2013-01-13T10:10:15Z</dcterms:modified>
  <cp:revision>7</cp:revision>
  <dc:subject/>
  <dc:title>Подводный мир Байкала</dc:title>
</cp:coreProperties>
</file>