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E47-6F25-41FA-B112-CFE3AA38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95A-460B-4DD5-BD48-BD170099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6AC-A594-4E08-8B76-7CE5FBEB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C7C-7120-4DFC-A0C6-FFD3A1AB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FCDAA-EF14-4AD5-BD81-0BD5A84D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1CBDA-AA3A-45AF-BCD7-85C21D3D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6A0C4-8D87-4917-9722-3B83CE6E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A6F62-839A-4ACD-8B48-A6C0A20B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25D4F-5969-4F4D-AA3A-53FBF35B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1BEA9-2A70-492C-83A1-8DC7EA0B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58B79-4D34-49DC-A964-41DA74F1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117-E2E3-4D39-ADF6-C817A12E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1A44A-17DA-49CE-8261-519AB8C5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596E3-B4CB-4195-AB52-8AD286F7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F9FBB-BECA-4BC6-BD59-77ED54C9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863DE-289B-4A84-A2F2-AF274888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25EC2-5BC6-484B-8939-2685307F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C25-D7D3-4983-82BC-3FE78D24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D29-E059-47D5-B10F-9B31A6E8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2542-E23E-48E8-A122-61E38E30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0A3-1537-4190-BC79-3E82B3CC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58A-E6B6-42F8-BE19-E9B21A78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473-2B4F-422E-98A0-38F82679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3E6-2870-497F-AC3D-10BA4F06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9AFE-9A3F-4679-B636-AB5617A8A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9BBB-AC8F-4730-B586-E355A386BD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Подводный мир Байкала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Язь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31840" y="2419200"/>
            <a:ext cx="5080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Амурский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сазан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76360" y="2254320"/>
            <a:ext cx="56358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Налим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2233440"/>
            <a:ext cx="82296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Окунь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1452600"/>
            <a:ext cx="61992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Сибирская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плотва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,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сорога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31840" y="2406600"/>
            <a:ext cx="50803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Байкальский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осетр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6197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527280" y="0"/>
            <a:ext cx="5616720" cy="4213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2655720"/>
            <a:ext cx="529272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Ра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02792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Байкальский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хариус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6156360" cy="2730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987640" y="1052640"/>
            <a:ext cx="5943600" cy="30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Ленок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82296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Байкальский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омуль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326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Арктический голец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3534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Обыкновенный таймень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468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Обыкновенная щука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87202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Байкальский сиг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99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Лещ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03280" y="1914480"/>
            <a:ext cx="57088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2:28:09Z</dcterms:created>
  <dc:creator>User</dc:creator>
  <dc:description/>
  <dc:language>en-US</dc:language>
  <cp:lastModifiedBy>user</cp:lastModifiedBy>
  <dcterms:modified xsi:type="dcterms:W3CDTF">2013-01-13T10:10:15Z</dcterms:modified>
  <cp:revision>7</cp:revision>
  <dc:subject/>
  <dc:title>Подводный мир Байкала</dc:title>
</cp:coreProperties>
</file>