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8769-6F6C-4DC6-88C6-9D37AEBA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A56-8C30-43EB-A49C-1A72CD0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771-BD32-4DB0-8DCD-D185FDC8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4D5-B3A6-4143-B9D9-31739F45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D9C-8363-40B1-BC2E-B9E847E3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A1E2-8F9C-44CE-BD44-9438A05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F948-15F5-46B9-9557-2E8E1935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648-4983-4344-947B-AE5F9B3C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0D4-6F43-4B0E-8C41-17494C36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4AC7-FBE7-4B04-BCCF-6F27590A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BF98-B0DA-4BB3-B2AA-DA85AFC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83A-BC21-4B78-BE94-7150E6C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8490-0C50-469A-A245-2992B45A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4A9E-75A4-4C01-A4A2-D0C874F3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01A-8DB2-439C-8327-93E6800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767A-F4ED-45D8-84B8-AC9C78B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239-1345-480E-8B1F-109157F3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0CF-64B1-4115-A36E-522D17D9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568-9F1A-4C03-AD2A-B2B32182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AE1-45A6-43C5-964E-3E3E254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44F-3206-4825-ACF3-EC950FAB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A69-68FA-4E66-96A0-4FEBDB78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243-4B25-460B-B620-81A6A67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BE0-D2D5-4382-A5DD-04EECF0B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C1CB-7D55-421A-87AC-3C3B494103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554-38AD-4C9B-B8DA-CDB1265DD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вседневная  жизнь 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опетровского времени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VI-XVII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в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Во время поста ели рыбу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7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яре предпочитали блюда из осетрины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ршированную, тушеную в печи, рыбный порох  из молок, печени, ик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837720" y="1521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рестьяне ели речную рыбу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дные люди употребляли вяленую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ушеную, копчену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762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Баранина с огур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818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 конце 17 века появляется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китайский напиток- чай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257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итуальной едой считалась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-кутья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772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Главный праздник-пасха с крашеными яйцами, куличам,  пасхой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14680" y="2057400"/>
            <a:ext cx="6591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ухонные принадлежност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05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аснецов А.М. « В горнице древнерусского дома.»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95340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А.Васнецов « Гонцы.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1976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ежда боярск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438280" cy="355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157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рупчатая мука- лучшая  пшеничная.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У неё  белый цвет  и тонкий помол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ежда крестьян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606760" cy="3549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514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Сей хлеб, а ешь мякину!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21036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В 16 веке появились новые виды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ирогов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пустн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лебя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781440" cy="3221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33530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ироги из ржаной мук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нец- с каш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ягодой- калит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3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Пряники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елали с помощью резанной деревянной доск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200" y="2189160"/>
            <a:ext cx="3668760" cy="390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3044880" cy="3352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184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ьзова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яности в больших количеств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28576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Уха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Выделяли три вида: белая, черная, жёлтая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166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« Княгиней кухни»называли гречневую каша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9658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Юрма- суп из курицы с рыбой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8-31T02:18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