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A7B-DA09-4791-8C24-732FC784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3F1-E3C7-4F5D-A715-F88EB5AC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0D5-D4E8-42F2-9BFA-07CC4068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7A4-D563-4256-BE3F-329D4E7C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701F-8357-4CAC-8E7C-34D07941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7FAF-43B7-46B1-B932-ECCC7C97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9D25-1372-45A9-B839-C7F6EBD1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3748-6B34-4603-9AE5-B1BE84D7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FC19-0952-47FD-BEA6-3BA92525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58FB-67B3-4B5D-A11E-99FE3E41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A953-E735-4FF7-A99E-D0B558E1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865-4E51-47A7-8F68-88FAB1F9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BDE3-9B5F-4F47-B6BB-6983224E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4B24-7E9E-4FA3-962C-61375F6A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9B13-0E8E-4DEA-9753-5A311A2F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4119-4A15-4448-8407-5442B62B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76BB-D65E-4AA4-BD51-68B2147E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045-46AF-4E53-9EF4-44F2D6DB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F43-4B74-45CA-9EA4-D175D2B4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ECE-2B2D-4689-8385-C9CDD643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BB6-2125-409A-AB81-F7039099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92F-99A0-4BE9-9D13-B519B7F9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BD8-587E-42C7-97C5-98537852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B9A-FE84-4279-B9C6-C48BE906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54A5-35B2-4365-BC2F-8B1BA2DAA0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054F-AD2A-4FD9-BFB7-3DBE5B2F0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вседневная  жизнь 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опетровского времени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(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VI-XVII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в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Во время поста ели рыбу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7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яре предпочитали блюда из осетрины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аршированную, тушеную в печи, рыбный порох  из молок, печени, ик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837720" y="1521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рестьяне ели речную рыбу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едные люди употребляли вяленую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ушеную, копченую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762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Баранина с огур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3818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В конце 17 века появляется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китайский напиток- чай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25780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итуальной едой считалась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-кутья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772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Главный праздник-пасха с крашеными яйцами, куличам,  пасхой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14680" y="2057400"/>
            <a:ext cx="6591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ухонные принадлежност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705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Васнецов А.М. « В горнице древнерусского дома.»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9534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А.Васнецов « Гонцы.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197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ежда боярск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438280" cy="355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157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рупчатая мука- лучшая  пшеничная.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 У неё  белый цвет  и тонкий помол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46748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ежда крестьян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606760" cy="3549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514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Сей хлеб, а ешь мякину!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184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2103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В 16 веке появились новые виды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пирогов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пустни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184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лебя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3781440" cy="3221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33530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ироги из ржаной мук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анец- с каш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184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 ягодой- калит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329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Пряники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елали с помощью резанной деревянной доск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200" y="2189160"/>
            <a:ext cx="3668760" cy="390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044880" cy="3352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184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ьзова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яности в больших количеств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576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Уха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Выделяли три вида: белая, черная, жёлтая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166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« Княгиней кухни»называли гречневую каша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9658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Юрма- суп из курицы с рыбой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8-31T02:18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